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9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6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136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45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152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156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55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153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37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4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38.xml.rels" ContentType="application/vnd.openxmlformats-package.relationships+xml"/>
  <Override PartName="/ppt/slideMasters/_rels/slideMaster14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48.xml.rels" ContentType="application/vnd.openxmlformats-package.relationships+xml"/>
  <Override PartName="/ppt/slideMasters/_rels/slideMaster1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51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144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50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149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43.xml.rels" ContentType="application/vnd.openxmlformats-package.relationships+xml"/>
  <Override PartName="/ppt/slideMasters/_rels/slideMaster139.xml.rels" ContentType="application/vnd.openxmlformats-package.relationships+xml"/>
  <Override PartName="/ppt/slideMasters/_rels/slideMaster135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4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13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14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133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1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146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7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4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150.xml" ContentType="application/vnd.openxmlformats-officedocument.presentationml.slideMaster+xml"/>
  <Override PartName="/ppt/slideMasters/slideMaster14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151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152.xml" ContentType="application/vnd.openxmlformats-officedocument.presentationml.slideMaster+xml"/>
  <Override PartName="/ppt/slideMasters/slideMaster153.xml" ContentType="application/vnd.openxmlformats-officedocument.presentationml.slideMaster+xml"/>
  <Override PartName="/ppt/slideMasters/slideMaster154.xml" ContentType="application/vnd.openxmlformats-officedocument.presentationml.slideMaster+xml"/>
  <Override PartName="/ppt/slideMasters/slideMaster155.xml" ContentType="application/vnd.openxmlformats-officedocument.presentationml.slideMaster+xml"/>
  <Override PartName="/ppt/slideMasters/slideMaster156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45.xml" ContentType="application/vnd.openxmlformats-officedocument.presentationml.slideMaster+xml"/>
  <Override PartName="/ppt/slideMasters/slideMaster1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44.xml" ContentType="application/vnd.openxmlformats-officedocument.presentationml.slideMaster+xml"/>
  <Override PartName="/ppt/slideMasters/slideMaster143.xml" ContentType="application/vnd.openxmlformats-officedocument.presentationml.slideMaster+xml"/>
  <Override PartName="/ppt/slideMasters/slideMaster142.xml" ContentType="application/vnd.openxmlformats-officedocument.presentationml.slideMaster+xml"/>
  <Override PartName="/ppt/slideMasters/slideMaster141.xml" ContentType="application/vnd.openxmlformats-officedocument.presentationml.slideMaster+xml"/>
  <Override PartName="/ppt/slideMasters/slideMaster139.xml" ContentType="application/vnd.openxmlformats-officedocument.presentationml.slideMaster+xml"/>
  <Override PartName="/ppt/slideMasters/slideMaster140.xml" ContentType="application/vnd.openxmlformats-officedocument.presentationml.slideMaster+xml"/>
  <Override PartName="/ppt/slideMasters/slideMaster138.xml" ContentType="application/vnd.openxmlformats-officedocument.presentationml.slideMaster+xml"/>
  <Override PartName="/ppt/slideMasters/slideMaster137.xml" ContentType="application/vnd.openxmlformats-officedocument.presentationml.slideMaster+xml"/>
  <Override PartName="/ppt/slideMasters/slideMaster136.xml" ContentType="application/vnd.openxmlformats-officedocument.presentationml.slideMaster+xml"/>
  <Override PartName="/ppt/slideMasters/slideMaster135.xml" ContentType="application/vnd.openxmlformats-officedocument.presentationml.slideMaster+xml"/>
  <Override PartName="/ppt/slideMasters/slideMaster134.xml" ContentType="application/vnd.openxmlformats-officedocument.presentationml.slideMaster+xml"/>
  <Override PartName="/ppt/slideMasters/slideMaster133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7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21.xml" ContentType="application/vnd.openxmlformats-officedocument.theme+xml"/>
  <Override PartName="/ppt/theme/theme48.xml" ContentType="application/vnd.openxmlformats-officedocument.theme+xml"/>
  <Override PartName="/ppt/theme/theme120.xml" ContentType="application/vnd.openxmlformats-officedocument.theme+xml"/>
  <Override PartName="/ppt/theme/theme47.xml" ContentType="application/vnd.openxmlformats-officedocument.theme+xml"/>
  <Override PartName="/ppt/theme/theme116.xml" ContentType="application/vnd.openxmlformats-officedocument.theme+xml"/>
  <Override PartName="/ppt/theme/theme115.xml" ContentType="application/vnd.openxmlformats-officedocument.theme+xml"/>
  <Override PartName="/ppt/theme/theme114.xml" ContentType="application/vnd.openxmlformats-officedocument.theme+xml"/>
  <Override PartName="/ppt/theme/theme113.xml" ContentType="application/vnd.openxmlformats-officedocument.theme+xml"/>
  <Override PartName="/ppt/theme/theme112.xml" ContentType="application/vnd.openxmlformats-officedocument.theme+xml"/>
  <Override PartName="/ppt/theme/theme39.xml" ContentType="application/vnd.openxmlformats-officedocument.theme+xml"/>
  <Override PartName="/ppt/theme/theme111.xml" ContentType="application/vnd.openxmlformats-officedocument.theme+xml"/>
  <Override PartName="/ppt/theme/theme38.xml" ContentType="application/vnd.openxmlformats-officedocument.theme+xml"/>
  <Override PartName="/ppt/theme/theme106.xml" ContentType="application/vnd.openxmlformats-officedocument.theme+xml"/>
  <Override PartName="/ppt/theme/theme105.xml" ContentType="application/vnd.openxmlformats-officedocument.theme+xml"/>
  <Override PartName="/ppt/theme/theme104.xml" ContentType="application/vnd.openxmlformats-officedocument.theme+xml"/>
  <Override PartName="/ppt/theme/theme99.xml" ContentType="application/vnd.openxmlformats-officedocument.theme+xml"/>
  <Override PartName="/ppt/theme/theme103.xml" ContentType="application/vnd.openxmlformats-officedocument.theme+xml"/>
  <Override PartName="/ppt/theme/theme98.xml" ContentType="application/vnd.openxmlformats-officedocument.theme+xml"/>
  <Override PartName="/ppt/theme/theme102.xml" ContentType="application/vnd.openxmlformats-officedocument.theme+xml"/>
  <Override PartName="/ppt/theme/theme97.xml" ContentType="application/vnd.openxmlformats-officedocument.theme+xml"/>
  <Override PartName="/ppt/theme/theme29.xml" ContentType="application/vnd.openxmlformats-officedocument.theme+xml"/>
  <Override PartName="/ppt/theme/theme101.xml" ContentType="application/vnd.openxmlformats-officedocument.theme+xml"/>
  <Override PartName="/ppt/theme/theme96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46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149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143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147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144.xml" ContentType="application/vnd.openxmlformats-officedocument.theme+xml"/>
  <Override PartName="/ppt/theme/theme7.xml" ContentType="application/vnd.openxmlformats-officedocument.theme+xml"/>
  <Override PartName="/ppt/theme/theme148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145.xml" ContentType="application/vnd.openxmlformats-officedocument.theme+xml"/>
  <Override PartName="/ppt/theme/theme31.xml" ContentType="application/vnd.openxmlformats-officedocument.theme+xml"/>
  <Override PartName="/ppt/theme/theme153.xml" ContentType="application/vnd.openxmlformats-officedocument.theme+xml"/>
  <Override PartName="/ppt/theme/theme32.xml" ContentType="application/vnd.openxmlformats-officedocument.theme+xml"/>
  <Override PartName="/ppt/theme/theme154.xml" ContentType="application/vnd.openxmlformats-officedocument.theme+xml"/>
  <Override PartName="/ppt/theme/theme33.xml" ContentType="application/vnd.openxmlformats-officedocument.theme+xml"/>
  <Override PartName="/ppt/theme/theme155.xml" ContentType="application/vnd.openxmlformats-officedocument.theme+xml"/>
  <Override PartName="/ppt/theme/theme34.xml" ContentType="application/vnd.openxmlformats-officedocument.theme+xml"/>
  <Override PartName="/ppt/theme/theme156.xml" ContentType="application/vnd.openxmlformats-officedocument.theme+xml"/>
  <Override PartName="/ppt/theme/theme35.xml" ContentType="application/vnd.openxmlformats-officedocument.theme+xml"/>
  <Override PartName="/ppt/theme/theme157.xml" ContentType="application/vnd.openxmlformats-officedocument.theme+xml"/>
  <Override PartName="/ppt/theme/theme36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107.xml" ContentType="application/vnd.openxmlformats-officedocument.theme+xml"/>
  <Override PartName="/ppt/theme/theme50.xml" ContentType="application/vnd.openxmlformats-officedocument.theme+xml"/>
  <Override PartName="/ppt/theme/theme139.xml" ContentType="application/vnd.openxmlformats-officedocument.theme+xml"/>
  <Override PartName="/ppt/theme/theme109.xml" ContentType="application/vnd.openxmlformats-officedocument.theme+xml"/>
  <Override PartName="/ppt/theme/theme52.xml" ContentType="application/vnd.openxmlformats-officedocument.theme+xml"/>
  <Override PartName="/ppt/theme/theme30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56.xml" ContentType="application/vnd.openxmlformats-officedocument.theme+xml"/>
  <Override PartName="/ppt/theme/theme138.xml" ContentType="application/vnd.openxmlformats-officedocument.theme+xml"/>
  <Override PartName="/ppt/theme/theme55.xml" ContentType="application/vnd.openxmlformats-officedocument.theme+xml"/>
  <Override PartName="/ppt/theme/theme137.xml" ContentType="application/vnd.openxmlformats-officedocument.theme+xml"/>
  <Override PartName="/ppt/theme/theme54.xml" ContentType="application/vnd.openxmlformats-officedocument.theme+xml"/>
  <Override PartName="/ppt/theme/theme136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53.xml" ContentType="application/vnd.openxmlformats-officedocument.theme+xml"/>
  <Override PartName="/ppt/theme/theme135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134.xml" ContentType="application/vnd.openxmlformats-officedocument.theme+xml"/>
  <Override PartName="/ppt/theme/theme80.xml" ContentType="application/vnd.openxmlformats-officedocument.theme+xml"/>
  <Override PartName="/ppt/theme/theme12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6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132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6.xml" ContentType="application/vnd.openxmlformats-officedocument.theme+xml"/>
  <Override PartName="/ppt/theme/theme84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140.xml" ContentType="application/vnd.openxmlformats-officedocument.theme+xml"/>
  <Override PartName="/ppt/theme/theme67.xml" ContentType="application/vnd.openxmlformats-officedocument.theme+xml"/>
  <Override PartName="/ppt/theme/theme141.xml" ContentType="application/vnd.openxmlformats-officedocument.theme+xml"/>
  <Override PartName="/ppt/theme/theme68.xml" ContentType="application/vnd.openxmlformats-officedocument.theme+xml"/>
  <Override PartName="/ppt/theme/theme142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150.xml" ContentType="application/vnd.openxmlformats-officedocument.theme+xml"/>
  <Override PartName="/ppt/theme/theme77.xml" ContentType="application/vnd.openxmlformats-officedocument.theme+xml"/>
  <Override PartName="/ppt/theme/theme151.xml" ContentType="application/vnd.openxmlformats-officedocument.theme+xml"/>
  <Override PartName="/ppt/theme/theme78.xml" ContentType="application/vnd.openxmlformats-officedocument.theme+xml"/>
  <Override PartName="/ppt/theme/theme152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37.xml" ContentType="application/vnd.openxmlformats-officedocument.theme+xml"/>
  <Override PartName="/ppt/theme/theme110.xml" ContentType="application/vnd.openxmlformats-officedocument.theme+xml"/>
  <Override PartName="/ppt/_rels/presentation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629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628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618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617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616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615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609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608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607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606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605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884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88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88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88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88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87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86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185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1729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18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62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2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2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187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1875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585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590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591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592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593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594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5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159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159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598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172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1728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680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681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682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683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690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691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692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693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796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705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706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707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708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709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700.xml" ContentType="application/vnd.openxmlformats-officedocument.presentationml.slideLayout+xml"/>
  <Override PartName="/ppt/slideLayouts/slideLayout1701.xml" ContentType="application/vnd.openxmlformats-officedocument.presentationml.slideLayout+xml"/>
  <Override PartName="/ppt/slideLayouts/slideLayout1702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703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704.xml" ContentType="application/vnd.openxmlformats-officedocument.presentationml.slideLayout+xml"/>
  <Override PartName="/ppt/slideLayouts/slideLayout1710.xml" ContentType="application/vnd.openxmlformats-officedocument.presentationml.slideLayout+xml"/>
  <Override PartName="/ppt/slideLayouts/slideLayout1711.xml" ContentType="application/vnd.openxmlformats-officedocument.presentationml.slideLayout+xml"/>
  <Override PartName="/ppt/slideLayouts/slideLayout1712.xml" ContentType="application/vnd.openxmlformats-officedocument.presentationml.slideLayout+xml"/>
  <Override PartName="/ppt/slideLayouts/slideLayout1720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2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2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90.xml" ContentType="application/vnd.openxmlformats-officedocument.presentationml.slideLayout+xml"/>
  <Override PartName="/ppt/slideLayouts/slideLayout1791.xml" ContentType="application/vnd.openxmlformats-officedocument.presentationml.slideLayout+xml"/>
  <Override PartName="/ppt/slideLayouts/slideLayout1730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731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73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89.xml" ContentType="application/vnd.openxmlformats-officedocument.presentationml.slideLayout+xml"/>
  <Override PartName="/ppt/slideLayouts/slideLayout174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599.xml" ContentType="application/vnd.openxmlformats-officedocument.presentationml.slideLayout+xml"/>
  <Override PartName="/ppt/slideLayouts/slideLayout1752.xml" ContentType="application/vnd.openxmlformats-officedocument.presentationml.slideLayout+xml"/>
  <Override PartName="/ppt/slideLayouts/slideLayout1757.xml" ContentType="application/vnd.openxmlformats-officedocument.presentationml.slideLayout+xml"/>
  <Override PartName="/ppt/slideLayouts/slideLayout1758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1759.xml" ContentType="application/vnd.openxmlformats-officedocument.presentationml.slideLayout+xml"/>
  <Override PartName="/ppt/slideLayouts/slideLayout1630.xml" ContentType="application/vnd.openxmlformats-officedocument.presentationml.slideLayout+xml"/>
  <Override PartName="/ppt/slideLayouts/slideLayout1815.xml" ContentType="application/vnd.openxmlformats-officedocument.presentationml.slideLayout+xml"/>
  <Override PartName="/ppt/slideLayouts/slideLayout1622.xml" ContentType="application/vnd.openxmlformats-officedocument.presentationml.slideLayout+xml"/>
  <Override PartName="/ppt/slideLayouts/slideLayout1807.xml" ContentType="application/vnd.openxmlformats-officedocument.presentationml.slideLayout+xml"/>
  <Override PartName="/ppt/slideLayouts/slideLayout1631.xml" ContentType="application/vnd.openxmlformats-officedocument.presentationml.slideLayout+xml"/>
  <Override PartName="/ppt/slideLayouts/slideLayout1816.xml" ContentType="application/vnd.openxmlformats-officedocument.presentationml.slideLayout+xml"/>
  <Override PartName="/ppt/slideLayouts/slideLayout1760.xml" ContentType="application/vnd.openxmlformats-officedocument.presentationml.slideLayout+xml"/>
  <Override PartName="/ppt/slideLayouts/slideLayout1623.xml" ContentType="application/vnd.openxmlformats-officedocument.presentationml.slideLayout+xml"/>
  <Override PartName="/ppt/slideLayouts/slideLayout1808.xml" ContentType="application/vnd.openxmlformats-officedocument.presentationml.slideLayout+xml"/>
  <Override PartName="/ppt/slideLayouts/slideLayout1733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825.xml" ContentType="application/vnd.openxmlformats-officedocument.presentationml.slideLayout+xml"/>
  <Override PartName="/ppt/slideLayouts/slideLayout1640.xml" ContentType="application/vnd.openxmlformats-officedocument.presentationml.slideLayout+xml"/>
  <Override PartName="/ppt/slideLayouts/slideLayout1632.xml" ContentType="application/vnd.openxmlformats-officedocument.presentationml.slideLayout+xml"/>
  <Override PartName="/ppt/slideLayouts/slideLayout1817.xml" ContentType="application/vnd.openxmlformats-officedocument.presentationml.slideLayout+xml"/>
  <Override PartName="/ppt/slideLayouts/slideLayout1761.xml" ContentType="application/vnd.openxmlformats-officedocument.presentationml.slideLayout+xml"/>
  <Override PartName="/ppt/slideLayouts/slideLayout1624.xml" ContentType="application/vnd.openxmlformats-officedocument.presentationml.slideLayout+xml"/>
  <Override PartName="/ppt/slideLayouts/slideLayout1809.xml" ContentType="application/vnd.openxmlformats-officedocument.presentationml.slideLayout+xml"/>
  <Override PartName="/ppt/slideLayouts/slideLayout1734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770.xml" ContentType="application/vnd.openxmlformats-officedocument.presentationml.slideLayout+xml"/>
  <Override PartName="/ppt/slideLayouts/slideLayout1633.xml" ContentType="application/vnd.openxmlformats-officedocument.presentationml.slideLayout+xml"/>
  <Override PartName="/ppt/slideLayouts/slideLayout1818.xml" ContentType="application/vnd.openxmlformats-officedocument.presentationml.slideLayout+xml"/>
  <Override PartName="/ppt/slideLayouts/slideLayout1743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735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771.xml" ContentType="application/vnd.openxmlformats-officedocument.presentationml.slideLayout+xml"/>
  <Override PartName="/ppt/slideLayouts/slideLayout1634.xml" ContentType="application/vnd.openxmlformats-officedocument.presentationml.slideLayout+xml"/>
  <Override PartName="/ppt/slideLayouts/slideLayout1819.xml" ContentType="application/vnd.openxmlformats-officedocument.presentationml.slideLayout+xml"/>
  <Override PartName="/ppt/slideLayouts/slideLayout1744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745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792.xml" ContentType="application/vnd.openxmlformats-officedocument.presentationml.slideLayout+xml"/>
  <Override PartName="/ppt/slideLayouts/slideLayout1830.xml" ContentType="application/vnd.openxmlformats-officedocument.presentationml.slideLayout+xml"/>
  <Override PartName="/ppt/slideLayouts/slideLayout1737.xml" ContentType="application/vnd.openxmlformats-officedocument.presentationml.slideLayout+xml"/>
  <Override PartName="/ppt/slideLayouts/slideLayout1738.xml" ContentType="application/vnd.openxmlformats-officedocument.presentationml.slideLayout+xml"/>
  <Override PartName="/ppt/slideLayouts/slideLayout1641.xml" ContentType="application/vnd.openxmlformats-officedocument.presentationml.slideLayout+xml"/>
  <Override PartName="/ppt/slideLayouts/slideLayout1826.xml" ContentType="application/vnd.openxmlformats-officedocument.presentationml.slideLayout+xml"/>
  <Override PartName="/ppt/slideLayouts/slideLayout1835.xml" ContentType="application/vnd.openxmlformats-officedocument.presentationml.slideLayout+xml"/>
  <Override PartName="/ppt/slideLayouts/slideLayout1642.xml" ContentType="application/vnd.openxmlformats-officedocument.presentationml.slideLayout+xml"/>
  <Override PartName="/ppt/slideLayouts/slideLayout1827.xml" ContentType="application/vnd.openxmlformats-officedocument.presentationml.slideLayout+xml"/>
  <Override PartName="/ppt/slideLayouts/slideLayout1780.xml" ContentType="application/vnd.openxmlformats-officedocument.presentationml.slideLayout+xml"/>
  <Override PartName="/ppt/slideLayouts/slideLayout1643.xml" ContentType="application/vnd.openxmlformats-officedocument.presentationml.slideLayout+xml"/>
  <Override PartName="/ppt/slideLayouts/slideLayout1828.xml" ContentType="application/vnd.openxmlformats-officedocument.presentationml.slideLayout+xml"/>
  <Override PartName="/ppt/slideLayouts/slideLayout1753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656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781.xml" ContentType="application/vnd.openxmlformats-officedocument.presentationml.slideLayout+xml"/>
  <Override PartName="/ppt/slideLayouts/slideLayout1644.xml" ContentType="application/vnd.openxmlformats-officedocument.presentationml.slideLayout+xml"/>
  <Override PartName="/ppt/slideLayouts/slideLayout1829.xml" ContentType="application/vnd.openxmlformats-officedocument.presentationml.slideLayout+xml"/>
  <Override PartName="/ppt/slideLayouts/slideLayout1754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762.xml" ContentType="application/vnd.openxmlformats-officedocument.presentationml.slideLayout+xml"/>
  <Override PartName="/ppt/slideLayouts/slideLayout1800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655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654.xml" ContentType="application/vnd.openxmlformats-officedocument.presentationml.slideLayout+xml"/>
  <Override PartName="/ppt/slideLayouts/slideLayout1772.xml" ContentType="application/vnd.openxmlformats-officedocument.presentationml.slideLayout+xml"/>
  <Override PartName="/ppt/slideLayouts/slideLayout1635.xml" ContentType="application/vnd.openxmlformats-officedocument.presentationml.slideLayout+xml"/>
  <Override PartName="/ppt/slideLayouts/slideLayout1810.xml" ContentType="application/vnd.openxmlformats-officedocument.presentationml.slideLayout+xml"/>
  <Override PartName="/ppt/slideLayouts/slideLayout1845.xml" ContentType="application/vnd.openxmlformats-officedocument.presentationml.slideLayout+xml"/>
  <Override PartName="/ppt/slideLayouts/slideLayout16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6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6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748.xml" ContentType="application/vnd.openxmlformats-officedocument.presentationml.slideLayout+xml"/>
  <Override PartName="/ppt/slideLayouts/slideLayout1842.xml" ContentType="application/vnd.openxmlformats-officedocument.presentationml.slideLayout+xml"/>
  <Override PartName="/ppt/slideLayouts/slideLayout1747.xml" ContentType="application/vnd.openxmlformats-officedocument.presentationml.slideLayout+xml"/>
  <Override PartName="/ppt/slideLayouts/slideLayout1841.xml" ContentType="application/vnd.openxmlformats-officedocument.presentationml.slideLayout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680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69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169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648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662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8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2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65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79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69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69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797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6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65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1589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8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17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176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176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74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649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696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0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58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1659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7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738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178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667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78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94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88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812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813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777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784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697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1639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608.xml.rels" ContentType="application/vnd.openxmlformats-package.relationships+xml"/>
  <Override PartName="/ppt/slideLayouts/_rels/slideLayout177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668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785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1609.xml.rels" ContentType="application/vnd.openxmlformats-package.relationships+xml"/>
  <Override PartName="/ppt/slideLayouts/_rels/slideLayout177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88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88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88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9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87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85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69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870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169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854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856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172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85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85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8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186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8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1868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1704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88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1604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1605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176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763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832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1844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1845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6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67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6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640.xml.rels" ContentType="application/vnd.openxmlformats-package.relationships+xml"/>
  <Override PartName="/ppt/slideLayouts/_rels/slideLayout1622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823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822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674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621.xml.rels" ContentType="application/vnd.openxmlformats-package.relationships+xml"/>
  <Override PartName="/ppt/slideLayouts/_rels/slideLayout1620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821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673.xml.rels" ContentType="application/vnd.openxmlformats-package.relationships+xml"/>
  <Override PartName="/ppt/slideLayouts/_rels/slideLayout1613.xml.rels" ContentType="application/vnd.openxmlformats-package.relationships+xml"/>
  <Override PartName="/ppt/slideLayouts/_rels/slideLayout1671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599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83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687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628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83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686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833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631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8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603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661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602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66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600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721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643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72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1728.xml.rels" ContentType="application/vnd.openxmlformats-package.relationships+xml"/>
  <Override PartName="/ppt/slideLayouts/_rels/slideLayout1727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71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1627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168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25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5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877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87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8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869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158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6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17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634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163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161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7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718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184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160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83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619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62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182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7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1618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1827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7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60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610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616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7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9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179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175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629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75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884.xml.rels" ContentType="application/vnd.openxmlformats-package.relationships+xml"/>
  <Override PartName="/ppt/slideLayouts/_rels/slideLayout187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83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67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701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7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185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7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29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617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745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82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734.xml.rels" ContentType="application/vnd.openxmlformats-package.relationships+xml"/>
  <Override PartName="/ppt/slideLayouts/_rels/slideLayout1792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644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633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81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632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736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826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1875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17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653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802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1860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803.xml.rels" ContentType="application/vnd.openxmlformats-package.relationships+xml"/>
  <Override PartName="/ppt/slideLayouts/_rels/slideLayout186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66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665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670.xml.rels" ContentType="application/vnd.openxmlformats-package.relationships+xml"/>
  <Override PartName="/ppt/slideLayouts/_rels/slideLayout1612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87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666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706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815.xml.rels" ContentType="application/vnd.openxmlformats-package.relationships+xml"/>
  <Override PartName="/ppt/slideLayouts/_rels/slideLayout1873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707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790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176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16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87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715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74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84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699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71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84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675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676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702.xml.rels" ContentType="application/vnd.openxmlformats-package.relationships+xml"/>
  <Override PartName="/ppt/slideLayouts/_rels/slideLayout175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677.xml.rels" ContentType="application/vnd.openxmlformats-package.relationships+xml"/>
  <Override PartName="/ppt/slideLayouts/_rels/slideLayout16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703.xml.rels" ContentType="application/vnd.openxmlformats-package.relationships+xml"/>
  <Override PartName="/ppt/slideLayouts/_rels/slideLayout167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175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168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170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710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711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712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708.xml.rels" ContentType="application/vnd.openxmlformats-package.relationships+xml"/>
  <Override PartName="/ppt/slideLayouts/_rels/slideLayout176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688.xml.rels" ContentType="application/vnd.openxmlformats-package.relationships+xml"/>
  <Override PartName="/ppt/slideLayouts/_rels/slideLayout176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1709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689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664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1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722.xml.rels" ContentType="application/vnd.openxmlformats-package.relationships+xml"/>
  <Override PartName="/ppt/slideLayouts/_rels/slideLayout1780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723.xml.rels" ContentType="application/vnd.openxmlformats-package.relationships+xml"/>
  <Override PartName="/ppt/slideLayouts/_rels/slideLayout1781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730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731.xml.rels" ContentType="application/vnd.openxmlformats-package.relationships+xml"/>
  <Override PartName="/ppt/slideLayouts/_rels/slideLayout1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5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742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743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750.xml.rels" ContentType="application/vnd.openxmlformats-package.relationships+xml"/>
  <Override PartName="/ppt/slideLayouts/_rels/slideLayout1623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751.xml.rels" ContentType="application/vnd.openxmlformats-package.relationships+xml"/>
  <Override PartName="/ppt/slideLayouts/_rels/slideLayout1752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753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656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165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761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64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70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1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17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16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177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164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1793.xml.rels" ContentType="application/vnd.openxmlformats-package.relationships+xml"/>
  <Override PartName="/ppt/slideLayouts/_rels/slideLayout1735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1645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65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1782.xml.rels" ContentType="application/vnd.openxmlformats-package.relationships+xml"/>
  <Override PartName="/ppt/slideLayouts/_rels/slideLayout1655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78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804.xml.rels" ContentType="application/vnd.openxmlformats-package.relationships+xml"/>
  <Override PartName="/ppt/slideLayouts/_rels/slideLayout1862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805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732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806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864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81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7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830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831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1841.xml.rels" ContentType="application/vnd.openxmlformats-package.relationships+xml"/>
  <Override PartName="/ppt/slideLayouts/_rels/slideLayout169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842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1843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1850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1851.xml.rels" ContentType="application/vnd.openxmlformats-package.relationships+xml"/>
  <Override PartName="/ppt/slideLayouts/_rels/slideLayout1724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72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853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1747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825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159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1638.xml.rels" ContentType="application/vnd.openxmlformats-package.relationships+xml"/>
  <Override PartName="/ppt/slideLayouts/_rels/slideLayout159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74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75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1863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7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764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163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1809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820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795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9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744.xml.rels" ContentType="application/vnd.openxmlformats-package.relationships+xml"/>
  <Override PartName="/ppt/slideLayouts/_rels/slideLayout173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184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838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6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1595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83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839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1808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814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1594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184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637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1855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8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39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624.xml.rels" ContentType="application/vnd.openxmlformats-package.relationships+xml"/>
  <Override PartName="/ppt/slideLayouts/_rels/slideLayout1630.xml.rels" ContentType="application/vnd.openxmlformats-package.relationships+xml"/>
  <Override PartName="/ppt/slideLayouts/_rels/slideLayout1596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593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592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77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774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1521.xml.rels" ContentType="application/vnd.openxmlformats-package.relationships+xml"/>
  <Override PartName="/ppt/slideLayouts/slideLayout1756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746.xml" ContentType="application/vnd.openxmlformats-officedocument.presentationml.slideLayout+xml"/>
  <Override PartName="/ppt/slideLayouts/slideLayout1840.xml" ContentType="application/vnd.openxmlformats-officedocument.presentationml.slideLayout+xml"/>
  <Override PartName="/ppt/slideLayouts/slideLayout1755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763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801.xml" ContentType="application/vnd.openxmlformats-officedocument.presentationml.slideLayout+xml"/>
  <Override PartName="/ppt/slideLayouts/slideLayout1782.xml" ContentType="application/vnd.openxmlformats-officedocument.presentationml.slideLayout+xml"/>
  <Override PartName="/ppt/slideLayouts/slideLayout1645.xml" ContentType="application/vnd.openxmlformats-officedocument.presentationml.slideLayout+xml"/>
  <Override PartName="/ppt/slideLayouts/slideLayout1820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1653.xml" ContentType="application/vnd.openxmlformats-officedocument.presentationml.slideLayout+xml"/>
  <Override PartName="/ppt/slideLayouts/slideLayout1736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849.xml" ContentType="application/vnd.openxmlformats-officedocument.presentationml.slideLayout+xml"/>
  <Override PartName="/ppt/slideLayouts/slideLayout1831.xml" ContentType="application/vnd.openxmlformats-officedocument.presentationml.slideLayout+xml"/>
  <Override PartName="/ppt/slideLayouts/slideLayout1793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848.xml" ContentType="application/vnd.openxmlformats-officedocument.presentationml.slideLayout+xml"/>
  <Override PartName="/ppt/slideLayouts/slideLayout1769.xml" ContentType="application/vnd.openxmlformats-officedocument.presentationml.slideLayout+xml"/>
  <Override PartName="/ppt/slideLayouts/slideLayout1751.xml" ContentType="application/vnd.openxmlformats-officedocument.presentationml.slideLayout+xml"/>
  <Override PartName="/ppt/slideLayouts/slideLayout1614.xml" ContentType="application/vnd.openxmlformats-officedocument.presentationml.slideLayout+xml"/>
  <Override PartName="/ppt/slideLayouts/slideLayout1724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764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802.xml" ContentType="application/vnd.openxmlformats-officedocument.presentationml.slideLayout+xml"/>
  <Override PartName="/ppt/slideLayouts/slideLayout1847.xml" ContentType="application/vnd.openxmlformats-officedocument.presentationml.slideLayout+xml"/>
  <Override PartName="/ppt/slideLayouts/slideLayout1768.xml" ContentType="application/vnd.openxmlformats-officedocument.presentationml.slideLayout+xml"/>
  <Override PartName="/ppt/slideLayouts/slideLayout1806.xml" ContentType="application/vnd.openxmlformats-officedocument.presentationml.slideLayout+xml"/>
  <Override PartName="/ppt/slideLayouts/slideLayout1621.xml" ContentType="application/vnd.openxmlformats-officedocument.presentationml.slideLayout+xml"/>
  <Override PartName="/ppt/slideLayouts/slideLayout1750.xml" ContentType="application/vnd.openxmlformats-officedocument.presentationml.slideLayout+xml"/>
  <Override PartName="/ppt/slideLayouts/slideLayout1613.xml" ContentType="application/vnd.openxmlformats-officedocument.presentationml.slideLayout+xml"/>
  <Override PartName="/ppt/slideLayouts/slideLayout1723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846.xml" ContentType="application/vnd.openxmlformats-officedocument.presentationml.slideLayout+xml"/>
  <Override PartName="/ppt/slideLayouts/slideLayout1767.xml" ContentType="application/vnd.openxmlformats-officedocument.presentationml.slideLayout+xml"/>
  <Override PartName="/ppt/slideLayouts/slideLayout1805.xml" ContentType="application/vnd.openxmlformats-officedocument.presentationml.slideLayout+xml"/>
  <Override PartName="/ppt/slideLayouts/slideLayout1620.xml" ContentType="application/vnd.openxmlformats-officedocument.presentationml.slideLayout+xml"/>
  <Override PartName="/ppt/slideLayouts/slideLayout1612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794.xml" ContentType="application/vnd.openxmlformats-officedocument.presentationml.slideLayout+xml"/>
  <Override PartName="/ppt/slideLayouts/slideLayout1832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1726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839.xml" ContentType="application/vnd.openxmlformats-officedocument.presentationml.slideLayout+xml"/>
  <Override PartName="/ppt/slideLayouts/slideLayout1673.xml" ContentType="application/vnd.openxmlformats-officedocument.presentationml.slideLayout+xml"/>
  <Override PartName="/ppt/slideLayouts/slideLayout1821.xml" ContentType="application/vnd.openxmlformats-officedocument.presentationml.slideLayout+xml"/>
  <Override PartName="/ppt/slideLayouts/slideLayout1783.xml" ContentType="application/vnd.openxmlformats-officedocument.presentationml.slideLayout+xml"/>
  <Override PartName="/ppt/slideLayouts/slideLayout164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665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1715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838.xml" ContentType="application/vnd.openxmlformats-officedocument.presentationml.slideLayout+xml"/>
  <Override PartName="/ppt/slideLayouts/slideLayout1672.xml" ContentType="application/vnd.openxmlformats-officedocument.presentationml.slideLayout+xml"/>
  <Override PartName="/ppt/slideLayouts/slideLayout17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604.xml" ContentType="application/vnd.openxmlformats-officedocument.presentationml.slideLayout+xml"/>
  <Override PartName="/ppt/slideLayouts/slideLayout1714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837.xml" ContentType="application/vnd.openxmlformats-officedocument.presentationml.slideLayout+xml"/>
  <Override PartName="/ppt/slideLayouts/slideLayout1671.xml" ContentType="application/vnd.openxmlformats-officedocument.presentationml.slideLayout+xml"/>
  <Override PartName="/ppt/slideLayouts/slideLayout174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603.xml" ContentType="application/vnd.openxmlformats-officedocument.presentationml.slideLayout+xml"/>
  <Override PartName="/ppt/slideLayouts/slideLayout1713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836.xml" ContentType="application/vnd.openxmlformats-officedocument.presentationml.slideLayout+xml"/>
  <Override PartName="/ppt/slideLayouts/slideLayout1670.xml" ContentType="application/vnd.openxmlformats-officedocument.presentationml.slideLayout+xml"/>
  <Override PartName="/ppt/slideLayouts/slideLayout1602.xml" ContentType="application/vnd.openxmlformats-officedocument.presentationml.slideLayout+xml"/>
  <Override PartName="/ppt/slideLayouts/slideLayout1611.xml" ContentType="application/vnd.openxmlformats-officedocument.presentationml.slideLayout+xml"/>
  <Override PartName="/ppt/slideLayouts/slideLayout1610.xml" ContentType="application/vnd.openxmlformats-officedocument.presentationml.slideLayout+xml"/>
  <Override PartName="/ppt/slideLayouts/slideLayout1669.xml" ContentType="application/vnd.openxmlformats-officedocument.presentationml.slideLayout+xml"/>
  <Override PartName="/ppt/slideLayouts/slideLayout1668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667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666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664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663.xml" ContentType="application/vnd.openxmlformats-officedocument.presentationml.slideLayout+xml"/>
  <Override PartName="/ppt/slideLayouts/slideLayout163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811.xml" ContentType="application/vnd.openxmlformats-officedocument.presentationml.slideLayout+xml"/>
  <Override PartName="/ppt/slideLayouts/slideLayout1773.xml" ContentType="application/vnd.openxmlformats-officedocument.presentationml.slideLayout+xml"/>
  <Override PartName="/ppt/slideLayouts/slideLayout1662.xml" ContentType="application/vnd.openxmlformats-officedocument.presentationml.slideLayout+xml"/>
  <Override PartName="/ppt/slideLayouts/slideLayout1661.xml" ContentType="application/vnd.openxmlformats-officedocument.presentationml.slideLayout+xml"/>
  <Override PartName="/ppt/slideLayouts/slideLayout1660.xml" ContentType="application/vnd.openxmlformats-officedocument.presentationml.slideLayout+xml"/>
  <Override PartName="/ppt/slideLayouts/slideLayout1725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1659.xml" ContentType="application/vnd.openxmlformats-officedocument.presentationml.slideLayout+xml"/>
  <Override PartName="/ppt/slideLayouts/slideLayout1658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657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812.xml" ContentType="application/vnd.openxmlformats-officedocument.presentationml.slideLayout+xml"/>
  <Override PartName="/ppt/slideLayouts/slideLayout163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601.xml" ContentType="application/vnd.openxmlformats-officedocument.presentationml.slideLayout+xml"/>
  <Override PartName="/ppt/slideLayouts/slideLayout1600.xml" ContentType="application/vnd.openxmlformats-officedocument.presentationml.slideLayout+xml"/>
  <Override PartName="/ppt/slideLayouts/slideLayout1588.xml" ContentType="application/vnd.openxmlformats-officedocument.presentationml.slideLayout+xml"/>
  <Override PartName="/ppt/slideLayouts/slideLayout158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158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844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843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776.xml" ContentType="application/vnd.openxmlformats-officedocument.presentationml.slideLayout+xml"/>
  <Override PartName="/ppt/slideLayouts/slideLayout1814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813.xml" ContentType="application/vnd.openxmlformats-officedocument.presentationml.slideLayout+xml"/>
  <Override PartName="/ppt/slideLayouts/slideLayout163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766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1804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765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803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4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1797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795.xml" ContentType="application/vnd.openxmlformats-officedocument.presentationml.slideLayout+xml"/>
  <Override PartName="/ppt/slideLayouts/slideLayout1833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786.xml" ContentType="application/vnd.openxmlformats-officedocument.presentationml.slideLayout+xml"/>
  <Override PartName="/ppt/slideLayouts/slideLayout1824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1718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1785.xml" ContentType="application/vnd.openxmlformats-officedocument.presentationml.slideLayout+xml"/>
  <Override PartName="/ppt/slideLayouts/slideLayout1823.xml" ContentType="application/vnd.openxmlformats-officedocument.presentationml.slideLayout+xml"/>
  <Override PartName="/ppt/slideLayouts/slideLayout164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17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1784.xml" ContentType="application/vnd.openxmlformats-officedocument.presentationml.slideLayout+xml"/>
  <Override PartName="/ppt/slideLayouts/slideLayout1822.xml" ContentType="application/vnd.openxmlformats-officedocument.presentationml.slideLayout+xml"/>
  <Override PartName="/ppt/slideLayouts/slideLayout164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1716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719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775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77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87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874.xml" ContentType="application/vnd.openxmlformats-officedocument.presentationml.slideLayout+xml"/>
  <Override PartName="/ppt/slideLayouts/slideLayout1873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872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871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870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86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86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8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86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864.xml" ContentType="application/vnd.openxmlformats-officedocument.presentationml.slideLayout+xml"/>
  <Override PartName="/ppt/slideLayouts/slideLayout1863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862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861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860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85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85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185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185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1854.xml" ContentType="application/vnd.openxmlformats-officedocument.presentationml.slideLayout+xml"/>
  <Override PartName="/ppt/slideLayouts/slideLayout1853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1852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851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185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649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639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1699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689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799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798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67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79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778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777.xml" ContentType="application/vnd.openxmlformats-officedocument.presentationml.slideLayout+xml"/>
  <Override PartName="/ppt/slideLayouts/slideLayout178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178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78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74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67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675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167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739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1677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67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684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68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68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68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68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94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69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69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69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69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  <p:sldMasterId id="2147485364" r:id="rId134"/>
    <p:sldMasterId id="2147485377" r:id="rId135"/>
    <p:sldMasterId id="2147485390" r:id="rId136"/>
    <p:sldMasterId id="2147485403" r:id="rId137"/>
    <p:sldMasterId id="2147485416" r:id="rId138"/>
    <p:sldMasterId id="2147485429" r:id="rId139"/>
    <p:sldMasterId id="2147485442" r:id="rId140"/>
    <p:sldMasterId id="2147485455" r:id="rId141"/>
    <p:sldMasterId id="2147485468" r:id="rId142"/>
    <p:sldMasterId id="2147485481" r:id="rId143"/>
    <p:sldMasterId id="2147485494" r:id="rId144"/>
    <p:sldMasterId id="2147485507" r:id="rId145"/>
    <p:sldMasterId id="2147485520" r:id="rId146"/>
    <p:sldMasterId id="2147485533" r:id="rId147"/>
    <p:sldMasterId id="2147485546" r:id="rId148"/>
    <p:sldMasterId id="2147485559" r:id="rId149"/>
    <p:sldMasterId id="2147485572" r:id="rId150"/>
    <p:sldMasterId id="2147485585" r:id="rId151"/>
    <p:sldMasterId id="2147485598" r:id="rId152"/>
    <p:sldMasterId id="2147485611" r:id="rId153"/>
    <p:sldMasterId id="2147485624" r:id="rId154"/>
    <p:sldMasterId id="2147485637" r:id="rId155"/>
    <p:sldMasterId id="2147485650" r:id="rId156"/>
    <p:sldMasterId id="2147485663" r:id="rId157"/>
    <p:sldMasterId id="2147485676" r:id="rId158"/>
  </p:sldMasterIdLst>
  <p:sldIdLst>
    <p:sldId id="256" r:id="rId159"/>
    <p:sldId id="257" r:id="rId160"/>
    <p:sldId id="258" r:id="rId161"/>
    <p:sldId id="259" r:id="rId162"/>
    <p:sldId id="260" r:id="rId163"/>
    <p:sldId id="261" r:id="rId1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slideMaster" Target="slideMasters/slideMaster133.xml"/><Relationship Id="rId135" Type="http://schemas.openxmlformats.org/officeDocument/2006/relationships/slideMaster" Target="slideMasters/slideMaster134.xml"/><Relationship Id="rId136" Type="http://schemas.openxmlformats.org/officeDocument/2006/relationships/slideMaster" Target="slideMasters/slideMaster135.xml"/><Relationship Id="rId137" Type="http://schemas.openxmlformats.org/officeDocument/2006/relationships/slideMaster" Target="slideMasters/slideMaster136.xml"/><Relationship Id="rId138" Type="http://schemas.openxmlformats.org/officeDocument/2006/relationships/slideMaster" Target="slideMasters/slideMaster137.xml"/><Relationship Id="rId139" Type="http://schemas.openxmlformats.org/officeDocument/2006/relationships/slideMaster" Target="slideMasters/slideMaster138.xml"/><Relationship Id="rId140" Type="http://schemas.openxmlformats.org/officeDocument/2006/relationships/slideMaster" Target="slideMasters/slideMaster139.xml"/><Relationship Id="rId141" Type="http://schemas.openxmlformats.org/officeDocument/2006/relationships/slideMaster" Target="slideMasters/slideMaster140.xml"/><Relationship Id="rId142" Type="http://schemas.openxmlformats.org/officeDocument/2006/relationships/slideMaster" Target="slideMasters/slideMaster141.xml"/><Relationship Id="rId143" Type="http://schemas.openxmlformats.org/officeDocument/2006/relationships/slideMaster" Target="slideMasters/slideMaster142.xml"/><Relationship Id="rId144" Type="http://schemas.openxmlformats.org/officeDocument/2006/relationships/slideMaster" Target="slideMasters/slideMaster143.xml"/><Relationship Id="rId145" Type="http://schemas.openxmlformats.org/officeDocument/2006/relationships/slideMaster" Target="slideMasters/slideMaster144.xml"/><Relationship Id="rId146" Type="http://schemas.openxmlformats.org/officeDocument/2006/relationships/slideMaster" Target="slideMasters/slideMaster145.xml"/><Relationship Id="rId147" Type="http://schemas.openxmlformats.org/officeDocument/2006/relationships/slideMaster" Target="slideMasters/slideMaster146.xml"/><Relationship Id="rId148" Type="http://schemas.openxmlformats.org/officeDocument/2006/relationships/slideMaster" Target="slideMasters/slideMaster147.xml"/><Relationship Id="rId149" Type="http://schemas.openxmlformats.org/officeDocument/2006/relationships/slideMaster" Target="slideMasters/slideMaster148.xml"/><Relationship Id="rId150" Type="http://schemas.openxmlformats.org/officeDocument/2006/relationships/slideMaster" Target="slideMasters/slideMaster149.xml"/><Relationship Id="rId151" Type="http://schemas.openxmlformats.org/officeDocument/2006/relationships/slideMaster" Target="slideMasters/slideMaster150.xml"/><Relationship Id="rId152" Type="http://schemas.openxmlformats.org/officeDocument/2006/relationships/slideMaster" Target="slideMasters/slideMaster151.xml"/><Relationship Id="rId153" Type="http://schemas.openxmlformats.org/officeDocument/2006/relationships/slideMaster" Target="slideMasters/slideMaster152.xml"/><Relationship Id="rId154" Type="http://schemas.openxmlformats.org/officeDocument/2006/relationships/slideMaster" Target="slideMasters/slideMaster153.xml"/><Relationship Id="rId155" Type="http://schemas.openxmlformats.org/officeDocument/2006/relationships/slideMaster" Target="slideMasters/slideMaster154.xml"/><Relationship Id="rId156" Type="http://schemas.openxmlformats.org/officeDocument/2006/relationships/slideMaster" Target="slideMasters/slideMaster155.xml"/><Relationship Id="rId157" Type="http://schemas.openxmlformats.org/officeDocument/2006/relationships/slideMaster" Target="slideMasters/slideMaster156.xml"/><Relationship Id="rId158" Type="http://schemas.openxmlformats.org/officeDocument/2006/relationships/slideMaster" Target="slideMasters/slideMaster157.xml"/><Relationship Id="rId159" Type="http://schemas.openxmlformats.org/officeDocument/2006/relationships/slide" Target="slides/slide1.xml"/><Relationship Id="rId160" Type="http://schemas.openxmlformats.org/officeDocument/2006/relationships/slide" Target="slides/slide2.xml"/><Relationship Id="rId161" Type="http://schemas.openxmlformats.org/officeDocument/2006/relationships/slide" Target="slides/slide3.xml"/><Relationship Id="rId162" Type="http://schemas.openxmlformats.org/officeDocument/2006/relationships/slide" Target="slides/slide4.xml"/><Relationship Id="rId163" Type="http://schemas.openxmlformats.org/officeDocument/2006/relationships/slide" Target="slides/slide5.xml"/><Relationship Id="rId164" Type="http://schemas.openxmlformats.org/officeDocument/2006/relationships/slide" Target="slides/slide6.xml"/><Relationship Id="rId1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9DCD-81A2-40E1-B063-1BE33C76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C5EA-7AEF-4A96-8D0B-122789B7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D04D6-8857-466C-924F-9F58C085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C0730A5-4A2E-4D51-BA51-DC3BC173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D22404D-33AD-462F-A1D1-19D4A07B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951DA30-F2DA-4D0A-9E42-C32C9D1B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37D1290-7A0F-463C-8EE3-2DB59F44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8AEAB78-152A-45CC-807E-A04E70D8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444CB64-17DA-4578-8E54-59AE8E2E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C9D09C7-C2E6-4EF8-9266-7CAA5A86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8BE9D04-F0E6-44B8-8CA6-8BB4BC9C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15CC6B2-68B5-4B63-97C5-AD423188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F654EF7-6DFD-4463-89F9-8C8A3426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DC821-DD29-4E50-AF0E-FCACD439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230EA951-CEAA-44F5-BA60-206B6593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9838CCD-DED9-46C9-B592-7F723F1F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18C08287-8CEA-4379-B267-2C16FF08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A32AF41-570A-44FD-AE64-7BCC8CFD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B8EA4B8-8C89-4B19-A8F8-53705B14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B3B5ACD-4B0D-449C-92AF-0E1E8F38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CDC2711-7D65-4112-9C2A-2713ED78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2F23DFC-AFFE-4DE1-9B16-C141B594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B03FEF5-6D1A-4D18-8C4C-5E9449B2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C5E644E8-7F2F-4F5B-8F1E-8B2162F0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E6BE8-32E7-4B69-A4CC-D39D817F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79A5939-A33E-4E14-A43D-CD555A76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7152E49-D6B6-4992-A60B-79146CE4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3E51858-AF39-4373-8D14-351FE6B4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0C9F9EC-0D4F-4C3D-8D78-9647B7BD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308D709-518E-4D3F-8162-09702C10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BE215AC-D144-4AC5-8D09-EA8690B8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2FA4C1E-A204-4517-9906-C3F2881A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84131D4-F516-489C-AFB1-4C647759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118B29C-31ED-4D2D-98CC-82234DF3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CDAFB22-31F0-4C46-91D6-B26E42F7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6FE8A-577E-4A0C-A167-5E1EB1FE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070AEA1-949F-43E6-A523-257C8C2E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56FF8FE-6176-47F9-9B2B-94F04CCF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1040419-F50E-4AF3-B71A-BA5D0D55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28F6F799-8481-4FB5-BE60-2E0AC0AD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10B14763-88E3-4D45-B5F7-2DDEEFD4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8103BBA8-8BEA-4E61-8D79-D5B6F1F3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A589915B-F297-4B5D-BB09-4A3049BA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DEBE0151-51E5-4BB2-B5DB-CE97690E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865D727F-F52F-4814-B556-3E5C2A5C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24FC76C4-5536-42A5-97D4-4ED4E789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D2C9E-E8A4-4340-BA6D-4F53957F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D1BA65A3-0845-4BC1-8EA9-DD9E9A69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CBADBA30-E904-4DFF-BA72-2CC36343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E7E5CF16-3F33-415E-9813-129E6CE4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EA3B53A8-BE3B-4E07-BF8F-920A4BC5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46966BCB-88EC-4970-999E-ECA3D66B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23D4A962-47EC-4103-82F2-023B0395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BA18AAC5-3A09-4F1F-B2E3-749B180D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DF76BEC8-4A71-4439-82F8-B91476A4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4249132D-93C1-449D-A455-30ABB70C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AE120C7-901B-45CB-AE2F-6CBC926C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370C4-D28F-4055-AFEA-BCC17D50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B462980E-C0B7-498F-835D-43B04EF8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7904DBC4-34EB-4290-9B2C-175A0C82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98B01DD2-4D41-49DC-8342-1F358CB1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E75FD6EB-81C5-42CB-A5B0-9C33BE17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5B6BA9D7-BCC9-4CB7-AE72-41E9DA8E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D16E690E-020D-40AE-9BD4-E1630F91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DBEB8525-353C-4880-9B32-496A4202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7E44246C-C668-4FE9-BF42-5170FC91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A0F4D68B-97F1-4384-960D-96A512F9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064604CB-B578-4B97-AA82-0A3C2F8F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24A69-931E-48B0-AE09-DC19B610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1329CEA6-5F73-49CC-9DE8-118ADC70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FCDF68C6-5CBB-42DC-94B8-C79991D2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4C3B145C-02C0-4918-99E8-74E1353F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6EF4F634-4899-4444-9E05-CF9CFE91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D9B4D4A-D2A3-4D68-9B33-284B9D56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088A29D2-E1B0-404A-89AE-9213B146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4F034660-37E1-4589-BB28-3A5B8F9B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025EAA3B-603D-43CF-8E4E-A5C00164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B4BE70F-9C94-45C0-A7E8-FF2FED71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D44AE179-2E28-4B79-90C1-36EBBF5D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9D4FE-1243-4D91-A1F2-B148EA90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7EAC567E-7EC2-49D5-9238-64665B9C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0AF2EA03-BE95-438F-AE64-954751C8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505F6E76-A754-4120-9688-BC002905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77AD3117-66B0-4B47-B492-0C52FB43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37F602C8-D93A-46A8-AF9C-D26C0948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225ED4CB-D831-464B-A800-D12AA26D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48C695E8-C5A0-4F5B-AA19-60CDB285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B96BEA6A-4860-4B7C-91E3-8E109C85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D370FDBF-42F8-45B2-9101-C412B7AD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FC4DF8A5-41BC-4D9B-9087-F3BDC302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E5A8F-BFB4-4CB5-B2E8-2F696257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CC3006B8-69D4-4DAB-9B90-31071442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FFD4020-2EF1-40B1-B02A-794A0A0C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4B2F0126-436F-4857-AAC7-8B091FD2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6CCFA129-E6DF-46CF-BC7D-BAB82DFC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5DCF394B-15D2-4DC4-8B5F-1B120C5E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63647D9-E967-408F-A719-01BA0150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93B02DAB-4D0A-4ED2-B02B-811A9D26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6F4007B3-F69F-4944-96B0-9D011259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03D1B937-AF92-4EB3-AC4B-C913EBF2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6FF7CB02-5348-4FC2-A614-5498F290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F63E0-34DB-4CFB-BC56-27553669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09B23D5E-0F0B-4444-B316-9A2E4D96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274F9910-670A-4905-89EB-841520F2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27FC5640-CD3B-40A9-B7A1-BFD8C128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E77C20F2-7400-46B6-979B-DED502C6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ADB3E46E-47BC-4510-B8BA-9BE1F6D6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0DFAE684-8AAE-4FC4-A1C6-2FE8456B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CDA02426-7FF6-40DA-AECD-B4456542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CB3EF2CE-D1A3-4570-83EE-4A4A89D9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D17BBFD6-C20F-4514-A70E-7613B597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1AB23FA4-0E4D-4399-A870-72399FD4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F77D-FA18-4755-8241-5ECAC348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FDF16-F879-4F40-9F5F-DE3DEEBD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09F28628-5E06-476D-AC82-06CDA208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F813E2C1-0978-4262-BE52-A7688B32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C9E2AE5E-EE43-4E31-A7EB-C3F3CEBC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EEE6AF91-E4B2-45F4-948C-3F3344F9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01A964DA-181D-40F1-9AFC-ACA2DE60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7B41C37C-30C1-4111-82CD-855E90FE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3F8D39F5-5F06-415B-BE19-E9DBE2B4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56F1447B-B4B3-4AAC-B44D-7AFA354B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E43F3F70-2BC8-4F83-86D1-D0D5D09B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E09A76F6-0FDA-42B9-AD7E-7C9A07F1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18766-CBF1-42AE-8E50-ED873792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7DF934AC-F3EF-4FCA-BF14-38AB1457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4F3334C4-DFCA-4DE9-9A85-F0F366EA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56CEB63A-833D-4D21-B9C1-C8D374C6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25AAB0A3-1E1B-4E7F-81CA-4734D9B7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439F78B9-58C4-44B7-81BC-F73E0C6A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5BCC827C-169D-4995-8BEE-370788C3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29D944CB-0D00-434F-A013-E908DAE5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A0893D47-AAE9-42E6-921A-F26B1EB4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008A75E5-4036-4C75-A241-4E7ADBBB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408E015F-3B4B-4055-9523-DAC98484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66F43-0016-41CC-BD5B-0F0BAA8F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11AC360E-9EC8-4D6D-8897-E33DAE7B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CB741FFD-FF31-4587-91D5-379AA434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EE04371C-7800-4D1F-9628-93262B19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87ED817D-588A-432D-A03D-2027C002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D7BC2C56-4D14-4CC6-80A0-4D80C8B6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5502CEC8-EE23-4E10-B031-C2D32FAE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D2E4A87A-E388-401F-B4EB-BD6A7770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EE559445-31FC-45A6-A28A-0BF43F58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31028827-6279-42AA-82BE-105316A6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6A06D517-87C4-4834-B240-BEF02C93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9E29A-59FF-407E-B496-02DB9B7B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405E2D19-D6DA-407C-B8DD-AE94468D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E01E5F8A-FB7E-4A28-8B82-A35B224C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E9286783-46C9-4A82-A1D6-DF1D061A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791DC693-FC29-4431-904B-9940E346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66BA2378-9CDD-42C1-B9DA-9DF73484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EB711BCE-23AF-4E50-8453-95AAD31C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D2732159-7441-46A0-B063-B23F6613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1F906E10-E605-4342-ADD5-51AB132E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2F9744AF-35B2-44FB-BF08-523FE0A2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600D69B8-0500-4A7E-9886-F29397AD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C981E-A54F-429B-BC9C-E652082B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964B960F-4550-4DAD-B810-8D4A7CE3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4B84AEFA-7680-450E-BBB0-98506C62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7B77B5F2-AA5A-423A-A2AE-CA2342F6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45CCAE77-D5A8-42DB-B289-01505ED5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0D2AED67-6118-40B2-9F96-666517E8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4936F39D-192A-4A17-800E-D2594678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1E1A6CA5-6A1C-4765-B17D-7EBED833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6980A04D-55B8-45BF-ABEE-B06EDEE4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0D7F93EA-6D47-480C-9D98-3DB949D6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99CF9DEA-B92B-4E91-83A7-3CEF8420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62CCF-8054-40F5-986B-480A1B6B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0CD33F19-7FDE-4F3C-81B6-2CA6CD9E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83AC821F-DDC5-4B45-83DB-B09D6BBE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F1AAEECF-710C-49AD-9458-72E3B628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DB857A2F-EB4B-4A5C-B9D5-8C0F8991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8EE73714-36F0-41ED-B8D8-50A165B0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0368BCEE-A278-4E34-962D-1A590B86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205F36FA-F571-4C7A-8B23-13655626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192F51FB-FEAC-446C-887B-B21DD761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29176775-685D-4C0A-96E9-F160F032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A678030A-3F9D-4079-B9C9-3740E98A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93438-29D0-42C0-BD08-0C6EE012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994AB753-6C5F-47D3-8015-A644D2FC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D472AE0E-8CD4-4C1C-A925-07CB1CE3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4764DE65-E8CE-4A80-83CA-C158E31F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8E6D72EB-A5B7-47D5-BA9F-DE7CC2C9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465BC74C-C7AF-41AD-804D-C7CC1052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958A3FD8-329C-4A88-B8D4-C892AC3A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45C70F18-8D06-4708-8C9B-EF865D43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259D6377-ACDD-4488-A1B7-8A8CA5FC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DC24D2F4-5D14-41D4-BF42-E8464DF5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ADB17C51-A668-4172-B463-4C4083D8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FA531-160E-4F3C-AF37-6CC5DF33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0C67D5E1-8994-4E9C-B8D8-E8F7B9AC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D9374B1B-83FB-4498-B89E-991EEF81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8EC7879D-0208-4416-87EA-D9ACBEBA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B5D7AACA-76C8-4001-9D92-26075E55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BDDD0902-07F3-44C0-94B8-1A0DF3CE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246278C8-FBE9-432C-AED6-A981E56D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F7DB65EB-6993-475E-8397-D48FF60B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C687DE3F-26D1-4141-9268-7218E26E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5D8FC006-6B73-4479-9841-9B1EF29F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DF42EEB4-9D18-4FE0-A240-5C9876AD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843FA-CDA7-4B6A-BA98-A9B5ABD1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5CE5EF43-DABA-4F0B-884A-3712BA04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3FE26F5F-EFE1-4F40-B68A-9185D8CB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77AE5E8D-BD3D-4A58-AA16-B6B6825E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A15F5BC3-68A7-42E8-B8B1-206CDC02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512BD52F-2AFD-4798-9755-8641B370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97597CB8-A0B8-4135-B7D4-85ED6ADE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10292EB2-C56B-4590-BF90-5B6526C5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BF10BE2C-1CCE-406C-B06D-B3B8E52B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E5D9410B-6548-4E77-9306-D66BAEDC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758221D0-79A4-41D0-82BE-72D52D6D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1EABE-133C-4F75-90CA-4DD21A4A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40FFE7C6-41BF-49A2-BF32-9ADEC066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DAEBB287-99EF-4687-8184-B1FF551C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1BEC46FC-93CC-4737-9A8C-84581BB8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C29195F7-4620-4ADA-BDB3-16C3FF3E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39F16455-3EC6-48F8-B8CD-B184723A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322925DF-9BDA-47A7-9E42-3BFB1B69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677E1B0E-79D0-4EAB-9AE1-5BB00DAA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4C8A451A-F0DE-49D7-9C8D-2C6845F7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59FBDF13-6321-4C31-946A-01F3D706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50A84FE8-00CB-4A79-80FB-5929F6C9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6161-7AF7-4A12-87FE-A20F5885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68302-4EBC-467F-987E-F0BF7D60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63ECE7F5-00C5-431D-B38A-B4C37562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BA46A3EA-6205-44BA-B41C-3A757149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427D963B-5AB4-4ED0-8904-1D2F8627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C2C6312B-A442-4E49-87A2-76D01C5B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E938E0AC-58F1-4D98-9F7F-D90143BD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B721FA80-9E22-434C-8074-AB705BCA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5D8090AF-3DEB-410A-82F0-6F8E036E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87F63FDE-E063-4894-9859-470FE2FE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CC73419C-CE0A-4580-97ED-34D75259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1AA64ACC-796F-44B2-912F-08B66567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3CC23-FDB1-487C-9530-9FA3AF00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DAAE7A4C-33FD-48ED-84DC-2C6C7C46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BE933E5C-D55D-4828-A14D-DCCAA12B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7D54E9AF-19B9-402A-B0B7-FDE53095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8FAAB485-4A23-4A6E-9A39-0CF7EE29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6918BE27-C4C3-49AD-8B00-B326DF2F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D68B7629-50AE-490C-90E6-F8101C83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BF689C7B-24BF-4D94-8E7F-E5FF2D96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F65B3CDC-4740-4815-969F-F1D459F3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8C5BE7C1-A408-44DC-93F1-901EACD9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24FA1D27-E210-4888-994A-0688C1AC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BEFCE-71BE-40BB-94F0-C3A63062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4E82E633-40AF-410D-B8EB-78135A29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03208CB7-E300-4EE0-943E-6E5227EB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75D6097B-089D-4AA0-A633-5A862EE1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3FD0FCE3-34BA-4DDE-BDD5-DA676DE8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DE63F40C-66B4-4337-9A35-E96FEF6D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9CF308A5-8991-4737-848E-994C8D70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83F9DBB2-A1DF-46C5-9707-F5D7F649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AAC843F5-7E6D-403E-BFA9-E133B5A5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88941A6D-1582-4941-9D96-BE14F60D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E927B103-1D3A-40B7-A4A3-3E5AD5FD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25956-4BE7-4F1A-B539-8DCD7C8A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759C328E-D347-452D-923E-391C5D1F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3F397DC6-9E55-4BEE-956D-8854A84B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6F803A30-1BAA-46C8-BD22-D88F09DF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170FD1F5-0AE6-45F5-97FF-FCB381DA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070F8CA8-D480-46E9-99D0-4CA9A9A1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A768F63B-62AD-416D-85EE-624259B9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76E30B99-B2E0-4485-B237-5D45816A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143FAA70-5EDF-494D-BD97-9EFB0392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A31A982C-0FC1-4545-B712-7796F5FF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5B7DD493-EA95-4FFF-A6A1-A9FCB251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134E2-9C5F-4C89-883E-3E25E4F6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CAE19D31-767A-4801-B0C8-50629F44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D32E7620-CC9C-4C57-BE8C-0391220F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CC0E3EBD-A14D-4B3D-A860-11FF42B2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8B8899DB-B54C-4EA4-8E60-A5AB68C4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D9CF8064-5C2E-4AFF-8757-3B637ADD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CB76FA17-F352-4AD4-8B92-B373F655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B97A7416-EB70-45E9-9E5B-D804D552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79C7E319-FD9C-4DCA-B28F-057567DF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03FA88E6-2DC6-4855-ADD3-005A8D9C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EE57B05F-0A26-4A67-A3DA-4DC86D9B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6FC22-38F6-4EFD-B3CF-70F4569B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0ADA0937-F6C5-4D1B-88F4-19E11514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2A0B21A4-5759-40FE-80F9-A7201F32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5850D2D8-11B2-459A-9596-232F443F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88A8073F-9F1F-4AC5-B208-84851FF4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5E337459-0FB2-4BCD-A034-A3261C16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E954099D-54F6-4000-897E-71EE8FBA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FEB70444-7945-4EF2-B915-B04F75F5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EC527C8F-5FAB-41AD-B3A1-ED79E9C0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57E89B09-F1D1-48B6-A511-784C62C3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4ED2A0DE-FD96-4B69-AD42-71C02957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82CED-D150-4C83-ABB8-BBE4118F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60296266-6275-42B8-AEE8-6C9B85C8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A76B1351-6DBA-4E9A-AE34-C1E69431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B689C57D-723C-457C-9A64-F8DE1425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06DF7DE0-F00B-4468-9857-091EFB01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46BBD57D-E865-406D-B0D0-9995F533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1BCCB5C0-AE35-4B56-A275-49BCD618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D6FF4441-2219-4459-876C-CFA90A32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7FD4B14B-4FA9-4558-BB4E-4EAE49AC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B44A6DD4-A523-4294-B6CC-CF6C9924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F40DE4C4-E8B3-4AAE-86DF-B81F1809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AC905-25E2-4F12-8B2E-FB660A39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18052F68-7067-412A-A8FD-78769CB9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DF6F2E6D-572C-402E-9F24-48C220FE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93801E23-96CE-489B-8468-80844605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A0D5876B-3D10-476C-93FC-5FA193DF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B9821764-8084-4641-852E-5F44E6CB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16A43A6D-E2D8-4A7D-BD0B-21F22846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D211CEC7-3C5E-4AD7-A468-4B256228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B2521EFE-5594-405A-AB9A-74A7F819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DA8D8835-AD3A-4CBF-B292-FD7EBA33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7864671D-D707-4E52-83DA-2888ED99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C5D5E-C859-4250-8E60-4ECF9CF3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B21C5A2B-F0CD-43B2-AAA8-3C546933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CB26CF2F-BE69-4566-8191-32BB26C7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61C7DB9E-5102-4BC3-B53D-A6647094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186B6418-C0A0-4138-8256-8546C6E1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B6630401-61E3-41A3-89E2-9665620F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9743C6A2-B21B-40E2-9420-81413269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8AF671DC-C2D2-414E-91AA-2A61C8C4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A1F37044-E4CF-436D-8B08-759908E5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A97110B5-2D6D-4180-9A90-867160E0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021D973C-DB3E-4FBE-A7D8-6BA586BE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C1C64-1043-41FF-884A-6E6B6F4B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AD345B0B-7ACD-44ED-8560-4FB53467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46A4C987-FFBF-4630-8E1D-3D47A57F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A8561668-896B-497D-804F-755E0DF9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B426DA26-9A51-475B-954D-B47621FC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C7317756-AF92-484C-BB8E-F5BEFF64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BA2CADFC-8F0E-465C-BD3A-0B9000AE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765FF1B0-3ECD-4B6E-BF93-849120CE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6DACCCF7-F2A1-4B50-905D-E0818CD4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29D4BAB4-0C7E-4FE7-9361-16B2E990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FFC364AF-6143-4A6B-9250-69F52587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7F04-794C-4854-8107-3F250207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8967A-540A-457B-8B94-7B8E2C3B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92AB3F0E-1ABC-4365-B960-B3E5C27A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BCCE329E-D723-4F44-B109-981473A9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C167CC25-61DD-4476-B9B0-BA6497AD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ADCB7401-A870-4AF9-94EC-D1B5CA2A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7FD0410D-4CE2-434C-AFAF-DFC159F5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5674CBDE-6B89-4D92-BC4D-1C43E7B6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7D47FCDA-3797-4D20-916D-F2514109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4D7E5892-C2E4-4F4B-8190-1F852C6D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EF5D6DF1-F26C-4148-9FDC-18A02253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D82D63C8-5A47-47AF-8AC6-D62D3602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A02C9-44FB-4108-AB98-78F0DCB0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F88AE651-2512-4D47-9FA1-53D3FC42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FD57D894-29D8-47C6-8505-47767C77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6D83D86F-25F8-478F-95B9-A303475C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02488A8C-8F27-4C6F-87B9-4C197E99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0EEF16AF-C215-41C2-BC2C-B1752E79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FCCD1DB1-64F1-4807-8F7D-4FF83E13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BCFF3880-8932-4EED-8F0B-44C2546D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C2D4FD1D-21FC-421B-96A7-64D6DB5B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F038BF14-98A0-4C9F-858F-94D08F61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276F3ACA-F0CC-4007-8C83-24CE8021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A6D4F-E1FE-4284-9E93-58C98989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21915837-9C7E-44B3-9228-7129FA82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45F137BE-0FC0-4203-ADD9-FF2267BD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4978E4BE-979A-46A5-8FF5-97D50B66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0601C8E8-48FC-4C10-A58E-D13E610B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4849F077-E422-4506-A07C-E93CA2DB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772DCD47-3101-480F-B631-462D6C88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8A2DCE98-4EB3-41E0-9B2D-31EC76CE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16ED0DA4-1109-4626-8225-78A470E3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A882EE2C-A42C-4937-880F-B85804E8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3973252C-A644-4007-B772-E6013E68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792F0-4DA0-4670-B86C-CCEC60BE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382DAC86-D50B-483A-B2C9-4E38EB0E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8F329D20-9A2A-469A-992B-FD00B86A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FF5B61F7-53F0-49C1-865E-7AD8DF49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C03D4ED3-DC8D-445F-A45B-AF4760B4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073C51CB-8101-400F-BD6C-72A6BCAD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AA7187A6-BC60-46B3-92F7-3E145D09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0590B7DE-635F-41B4-AD37-8C657E9C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83CE6DB9-9DD8-4315-BA7B-4F0016E5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CC9C5618-E4FA-4BC9-910A-0090DFE8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AFA62314-8DD8-4F94-93C1-2C443B08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6EBE7-E12C-4BAD-AD14-54E452C3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DABA3925-3E7F-44DE-8C19-BE04820D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661197F4-A0EB-4475-B454-E523E072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D7164351-4C75-453C-8A14-9C2E996F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0183A325-B7A9-42D1-A4B3-4DCA0C3E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0706A175-FE11-409B-BB8F-1F7BD396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34A2188A-15BD-4368-95D8-7E482F70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73FE6695-9606-4387-B8AE-F7197DF6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15F1C550-008E-4188-BDFD-E91BC576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E8C410BE-10D2-4B3A-912B-E3567ACA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522DD220-EFE4-422D-90ED-D6A343F2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49396-DA80-4EEF-82DB-706D6B0F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B8EAC17F-814B-4752-ADA2-04FDCC53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138AE85D-485E-4C2B-A3F9-B145A529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3142478E-4D6B-4DFB-B47B-E09FB6EC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ECB77659-ABD3-4179-AE14-9E7E3FB5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EC93FC3D-D34D-43F1-89CB-F343C87A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BA620488-C7AA-469E-88F9-E7F378C1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3E95AA1C-86B0-42D5-B681-70992896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02254673-0DAF-46D4-BD50-3016D70F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B7273ED7-5DCD-4093-AB2A-56C6CAD9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3D751C97-4389-40F3-9A31-35E49889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9A4C1-340E-439E-84F0-A318B1C8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6061C2A4-BF2A-453B-A327-0C8CC575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55FC81FC-B2F9-41BE-A007-1A9E8137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4A85ACB2-EAEA-40FB-B685-12524480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EA2F0ED0-66C9-4E91-92C6-EBE4B953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1440CB7F-8A04-44CB-834F-5FDA22BC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AFDD2149-17B0-4D50-A8DE-E840D81B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88CC0820-8A8E-44E9-A2D7-AF2C3164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81A494A3-63C3-45BD-9EA5-37A9D799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C333DE81-8AC8-458B-AF4A-311065A3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3ACB3239-213A-4F9D-9888-1AD0747E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5989C-85E7-4495-8BC8-02C7BF65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E34373F1-7D3F-449F-92CE-AA72759D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3A71E7E3-75B4-4F9E-B074-0FC1FDC4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E5176AD4-2AA6-4AF0-9459-035186A4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078D7531-83E3-4935-B6CB-AFE7E289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7AD9D0CF-B1E0-4762-A94C-761CF83E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39775AEB-DB72-4737-960C-910B7AC9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D7AFE74A-0FAF-4309-BD56-5A3B319C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94593AD8-6E4A-4D95-8EA2-CF0B52CA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C7805B0F-4642-4C82-B652-195067B8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EB9E4BF6-1534-4F8B-BF4E-CF9339EB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AB11B-129F-4549-9BC0-44EBD95A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C31842D6-6585-41E2-BD26-8FB40D1B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9AF34130-8CCF-4049-B957-736AA6BD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16715576-37DC-4F35-990C-EB2D394D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CB678EB0-D17E-4835-8CC5-DA39739B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539039EE-59F7-4075-AB88-FE90D454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662FC712-D208-40D5-9D7C-1EA8A66E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5FAB1091-84AC-4406-82D0-BA0B9480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7FB0FD64-1D3B-4C4C-9056-C4DEF846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D3A9FCD2-5599-45AC-84D8-941175B5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59F0684F-CB80-428B-8E97-B967C575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C390C-9C96-409D-B5CD-C9A12954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F04BACC2-F812-4FBC-9502-7924A2D4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D156DB8B-062C-4F50-AC58-94AA77D6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665ED5EB-A0C5-4AA0-9D00-A0C1B812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3C72D5E0-26BE-4587-BCB1-1C1BE150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5B1B0580-7231-46A7-B003-F38D0F53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009E956E-3061-4043-8685-8350D43E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EB2C3C7D-A579-48BA-9347-846EDD39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E48DEFEE-8362-4226-A706-6FDCA1F3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E9E95F4D-CB11-4F97-BAC1-D7BC05DF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EF106E38-BF14-4A2B-9A5C-80879F7C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C019-4FC1-45D6-957E-35661B5F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97A17-5AE6-455B-BB2A-7589C68F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906EB63B-5BB3-4893-B148-BE764003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B8DAFB18-1768-4393-AB1E-D2A50C47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B59BB136-B006-404F-B59F-1652F729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695D8695-7480-471F-8632-64ED0283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45418426-F6F2-4255-86D3-BEC56852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FBA3D270-8393-4DA0-A21E-D611412D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EBF02839-4FAF-4C7F-8704-D1E22C81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5363DE04-B74F-4B11-969B-B4ED0072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3BB64EF3-157D-4964-9FE8-3E3BCF45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A226591F-6527-4619-9AE6-509DE520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20826-FB1E-446B-BF9D-ADB803DD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0FFC36F4-4B86-41D5-9979-DBE62179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470CFC92-482B-4DD5-A49E-B5DB2AD6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CF85131A-E698-4431-A1CE-261BBF3B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D375E65D-9E95-48EE-9477-3AE8FF90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FFA6FC1C-3DC3-429C-954B-CE3A7AD6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72E06731-B5A2-412B-ABBB-D40E4BD7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1FAB9071-7738-4E3B-B72F-794F032F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EAE30F68-24AE-4CF0-88D1-800537A2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58474FD8-2CD2-4847-B7C1-0FD23F99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1D712781-A3CD-4C84-B103-BDE1D209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312C6-7565-4493-BDB8-33B51D63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6BB6A5E1-A254-4E52-821D-D2FEDF51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107D4C5B-F5C9-4CC3-88B0-682AB5BD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A012E6E8-120D-403A-8261-53AE67F9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46720F3F-3E67-4BB0-A842-6C104810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6AF0109E-7286-4888-B75C-29E959AC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15849A16-9CF7-4756-A624-E46E55E1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E4E87BB3-9785-407F-9DF9-14053CE0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67652534-2BCB-4BD5-980A-3D16CBBD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2A92750E-DA38-4F0B-A4AE-81D0402A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9304C1DF-7F0F-4AAA-9702-D82E9AF8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E12B2-CCD4-495E-9754-E5EE8BDA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9BA8CD0A-0618-43AA-9EC0-85F9A270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D8BA5CF0-7274-4DAD-B203-A29AB90C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ADDDA287-B8E8-48AD-99E1-7845040E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7F5F7341-372C-4A22-A550-72721B42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5162D8B2-F804-4FF1-AE81-CCB9BA32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0AE5CD93-7807-4FA6-BC6B-18810DEB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B3FAEBCA-AAA1-442F-AEE0-10F7EC6B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9E9A3B20-4E55-4C18-9308-B1760B85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8A7AB750-66EA-492C-8E48-C81FEC9F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41069826-32BF-451F-8A6C-3FAB7FD4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AA69D-BAE2-495F-9B0D-A5AEDF49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2D479042-384F-4853-9727-3F6D40CB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621CD73E-312A-4209-B23F-84DB62BB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9286D1C3-8388-4367-B0C3-30B2B740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6DDAF87C-4205-4284-A73E-9C597469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7F41D135-BFA9-43EE-B751-2D0E7955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12D83EA8-AC66-4A00-BB7B-54D09E0E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D1009CD1-5ABF-4C74-9890-1A867561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B3D5CB1F-6A54-410B-AA68-8CAB1F01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381CF2E2-B29D-4A16-BA7D-BEE44946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4E7FF50A-3814-4680-AC23-91FA438F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F62D3-5BD5-4976-8AE3-A03F480E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57DA51AF-ACC5-429F-BCB5-3DFB3E08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E73B6F79-B692-489E-986D-46CB342A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7586AC75-32E0-434B-B440-B751DCAB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218DA992-F4A0-41FE-8BA3-1D7A3270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AB5A6D54-9921-4AF8-8D28-FE1BD2D1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8250198B-9C7A-4D39-87A9-D11E5911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A8C5A0FC-FBC4-4A6B-8BEC-DC4DA431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FC88BBAD-7657-4C8A-AB4B-8F247297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92FE9B25-E89C-49AC-9783-BCB47461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9B3C0838-D791-4259-A8BB-54A6E27B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92897A-501E-4FC2-8993-31C53727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902714A5-3858-41D1-A75C-7A128998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C5C08AA9-5E6E-441D-92EF-D2791A2C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AC34894F-D3F2-4DCF-9DF1-5B800667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9A684382-4D9D-4720-87F5-0E9B7E23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5B073A39-BBD2-4001-938B-6560C4C0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3DA91DC9-772D-4FFF-8E49-4760EF8C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F643FA8A-DFC5-46DC-A224-2FB1BA28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60797700-EAD5-4AB6-B93F-2DE3BE2D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FE288869-8E11-494A-B44A-2C9F4D3E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2FA2D504-5193-4BDE-9A8D-816BE8EC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CA491-D616-4C36-8C82-D8A29268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9BB3B37A-4AF6-45A7-80F3-58BA21E7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5A6FFE7B-5A18-419E-9794-0CD7D8F0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B5A15A0C-2039-4BD8-BCD1-744CC8A6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0D2E3E3D-DF9F-4E3B-80F4-BFD3C2D6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85A26FE7-B5B6-4E34-8710-6E0145DE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7F2D6608-356C-4F59-A6F0-144AC293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FB58B1F6-3022-4BE5-9D85-E60817C6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80528B35-BD9E-4D9A-ABEF-0FA5881C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ACE255EF-0637-4F4F-8243-ACBB82CC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FBE06C9D-5FAF-4440-B08E-17BF7DF8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5C3CF8-6B28-45EF-83D4-149CC51A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68619FA9-32E4-4F3E-AD6A-FC5E9323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56FCA7A7-8D33-4092-9A8B-742A7FD9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C2BE8C98-AB8A-4879-87CF-20DF4DA0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DEF32286-EFA0-4D1A-A068-10B71F4A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105E1164-EEC1-495A-90EC-3F4D7708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9A59AC4C-3187-4EA2-9945-90B89CDB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639D8400-CDE2-4799-B5EA-8A0575C4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70DB1787-5B42-4D92-A0B8-CC6A1E31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16F9A4EE-FFF6-41F5-9C8E-DB1C1069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AA6AE1F1-5C9E-4AD4-B4D8-4213F8C3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0973E1-39F4-4908-81A0-1C3938F9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3493B29D-C6E6-4936-BCE9-94246EE1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5A50B65F-2CFD-4C35-858A-602C4123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95596E2D-89EA-4171-BB58-239E0020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EAE6EFB5-FAC5-4F98-A103-105E0211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B72F5CF5-E793-4780-B7EF-5C5DC89D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E65B981D-89F7-465D-8FA8-E69BC995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F21D143E-5BD7-4934-BC9A-4C30DC47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087D2C76-46C0-4BB8-B53B-5C53FC4B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6BA809CA-2A01-4E57-9B9A-C6B876A7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6AED736B-B511-49F2-B8F8-FD8A2D55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8694-C5D0-4424-92D9-E6A0E859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DF326B-0F91-46BE-A299-D15887F4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AF5BE138-C5F8-4824-A176-7DE70F20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11BDC5FB-F8AE-4DBF-8054-F151DAB2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FD35EE15-F206-4974-B7AD-209D5DC3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5EE5D4F4-0B68-4269-B917-3B9F8199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95657D4C-1BA0-4471-81DF-8B7DEC3D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CF12EB08-8D99-4EDE-B372-FF6DFDCC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0C7BFFD6-C13B-48CF-829A-707A7F86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DC7546E1-743B-421B-9514-FB9222BD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36A3AE37-06E6-4DF9-963B-06FE5BC5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6D2AA67B-4899-4E5F-BC17-97F0225A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F8F59-6EA7-4B70-A1EE-18E4AA99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5274C3E4-0CE7-45C6-AB6F-C74E01A4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4B6C91E6-E44A-4A15-981F-EBFEFCC8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CC74110A-A51A-496C-984A-18A3DBCD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216BB436-719F-4BD4-B2E2-EB0F889E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611036B7-2ED6-40FD-8A00-A9F060C8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734C7AAC-3E97-4FE8-9C15-0D9ED7AE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0454E3C1-A86C-48D4-A3CC-D6A30605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0984C22A-0B89-47EB-B152-D6C3A689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F32CAEB2-33D4-48E8-B099-1D9B88A1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884EF20B-EF74-49B6-83DA-19CDA2D1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DF45E-F57A-45EA-AC96-94C4421E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59859F42-2095-4DAF-9C90-6A6AE779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2E73C01B-3172-4616-8F64-08401634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258E03DB-915A-4D34-A906-045965E6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199DED0F-5391-40E6-BD49-1473F36A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3220F23D-B908-4115-9BDE-5883DAD8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E88F104F-6650-40F1-B7C7-545BD0AE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AFFF81DE-0F26-4144-BCC1-C5937B7B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FD8EF9D2-E5E5-4A80-BB63-CE9B8E45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4623CBF6-81B2-470F-BE22-53E1E9C0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23988B09-91BB-4945-8D85-A2789372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D6665-AEA9-48A8-82DA-FABBCF09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057641FB-3A81-474A-954F-09F05456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BF4F77ED-D081-4D31-978A-4FFE5538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1D25018D-CB5E-43EE-A367-FA581AC0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2D459897-8E20-4FE0-B122-A40697BF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69B45BB2-49CD-475B-A4B6-FF73C32C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84C84B05-384D-496D-8ECD-70C7A257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514F12B3-DE00-4BEA-8CA6-40150C52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41DCF8B8-03BC-40C6-BF26-C144FB83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CF52FB65-4707-4D86-AF0B-942D7449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879160D4-A758-40F0-8A47-68A08B76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20F201-F760-4E28-8F10-58A87A23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29E9F35B-C884-4AD0-B755-4E03FB48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6E815A15-1916-491D-AB47-719FFED6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50E7165D-99C4-4211-96B1-96BD7BC0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D493FF74-9583-404E-8ADE-3A9B9EA8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2EF57709-0B55-4162-B204-2CB35819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EF56D1A0-B08B-4C99-8A85-01A32CBB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ED7435E6-52D5-42D1-BF42-D0C97890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7F789A1E-1AE1-449E-BD10-43519A4B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CFE122C4-7EF3-4EFD-87E8-882D0401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159A63E3-9FC1-4B88-BC1E-B4713C48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CC994-DE98-460D-9024-71C0F9FD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EC0BCD3B-3CE3-4EB5-9A6A-4A504943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03D8B1A1-049E-4C18-BF4E-A3B2B680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AA5566CB-CCBB-48E4-A620-66097B91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09EB97AC-C62E-4B9C-9688-38D30DC8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8B56595F-CC24-4C54-A88C-A2A1449A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32B623E6-42D1-4267-B251-F9334120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4B5BCC32-6649-46A2-9037-5F18033D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74BC8FE3-0F94-4293-8296-0D27219F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D8320DD1-F351-47D8-A67A-41EC7662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C761CEFD-508A-4C56-96E8-EDA79CB0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79E32-2F73-451D-B6A9-105D49A6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CD1E5423-0F04-4A40-847C-87283477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F88D469A-9A1D-414B-BC6D-B74D27EF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2CA9586A-C494-4A95-841C-DFBEBD4F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DE014521-C1E6-42E2-8CE8-57DDFA5C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E27AB471-8856-4361-A79A-C1B6FC66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D6FD1E60-EE99-4B8E-8D72-46A82450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059E4DD6-0521-4F2F-8D13-308B9300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53B97A5F-727F-4D69-B904-2BDC4443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A195FF6E-18F4-405A-8018-DF22D8D5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27E799B5-3A5E-4038-836E-11829E58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411D09-8EEC-4FF5-950C-923BA670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F66965F3-9466-466E-97D0-00659839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2165E058-E70E-4706-BBC6-034F9B8E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E81BB680-2FBB-4AE2-8041-24AA230F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26FED157-160E-44BA-8555-3BD79F04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71767D22-A5E1-4EBA-BAC1-31EEEE88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7F2B173E-48FA-4B61-B594-D7F4F717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DD944D5D-EF10-40A2-B6AA-6885FC79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5F430D3A-6CC7-43D1-8C83-8364F3E6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45A435AA-428D-49C3-94C6-71645B39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2C39A60E-1A1A-4FD9-AC73-29D61560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C25CA4-66E8-49A7-B257-3B2B8C40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22154B2C-2C62-4012-9233-74C31F9C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586B9F7B-D396-4490-9FB2-2B8D801D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E6DC6EAD-A02C-49AF-B498-9E19A874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B387DA2A-FC44-4A21-B86B-6BCDD9AC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60220D0C-614F-45E0-9E9C-A28B8401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3F97A620-6130-4CD8-A015-D7C22ED6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92098FCE-FFD8-4461-8699-2E3263E1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4CF54CD8-C51E-45A0-A670-7E75977A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079EB6ED-2CCE-492F-BF7C-D0B82E07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FEF55C2E-B1A6-4B28-BEF1-7A470F56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D0C420-15FC-49AD-A62F-17CD23F6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9F289C35-9CE5-4403-A0F4-E547D8A9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F9EAA79C-4462-42BF-B748-5DB868E9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2563894C-4381-4B72-B264-F33A82CD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C7C22234-BF5F-400C-AE68-D3741369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C7EB8EB1-90C3-4B04-952B-2A20A542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A76C55C1-32A7-473E-8ED9-94EEAC4F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6D19E7E7-6E6F-4DE9-B012-08E5B899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23FC083B-8DA3-4D72-A7A3-36E4DC9D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523841A6-494F-4C0F-8D6D-894E0E51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5445103F-CEB3-440C-8ABF-02497CBB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0C93-09E4-4C36-B7E5-9BED9AFB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D8087D-8DFD-4276-B325-025699AF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7359C464-6CFD-4C34-8EF5-2BD130B4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F5EF7538-15BE-425F-B601-95642158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388B5016-688D-4D44-852B-0077AD64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6E0551E6-9355-4C7B-A65C-442C947B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4B0C5910-1F59-4965-945E-419ABE27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CD11D374-332D-4443-A83C-2B9929E6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CCC869C4-B783-45E3-89AA-726E1C84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FC412CF8-397F-4F34-A268-75C10A5A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7AFCB545-8E68-4A06-95A1-E0AF136D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CF43883E-6617-4FEB-AE4F-4A151047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DA53C9-9F3E-4C53-86E6-F8664E2F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2D70E294-22E3-4611-BD88-533AC0AD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7D76684D-46ED-4270-93F2-AAAC14AD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E94FDF83-D508-49E2-B345-E9ED9A9B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EBE903C7-CDA5-4899-B990-5DA51AA9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8233C7B9-8E57-43E6-9770-8938CF6C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FB15813B-2E9A-4C07-8AB9-D36DCB17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512A276D-7D48-4F08-9B54-621B96BA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4D1D79F0-441D-434D-8D9B-20D6BB9F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D994ADD1-932E-46EE-8729-0AB8D373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8171F018-92FE-49EF-85BC-EC17176F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551157-24B6-429F-8266-114B0B9C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9F05DB82-17BE-4CF3-B7F4-107D9E87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546064D7-EE34-42A8-B4B6-8A95F37C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EE768E42-7042-4A09-B1E5-2CEF0E27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B6C971D4-6D94-40FD-A867-DC37623D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1AE6E1F0-07C8-47C6-BAC2-2229647A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0380BFC0-6FA5-4E60-81D3-1150404C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8244C0E8-7A7B-499B-B438-36C31469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0A005769-0C32-4A57-8583-1976E140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159D0CAF-382D-40D6-924E-6560CC0B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AAE9148D-B060-4934-8102-71E9B123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63CAE8-C0B2-46B7-8794-C5D7A2AC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BA1F7EB5-358C-4653-9EFA-9A335F30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0BADD97A-2832-4859-BFED-FBF5CB87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14C8E978-510A-42FF-8748-28D3D48D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BE288E39-50DC-4AE2-B370-870AB37B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4FA12448-69C0-4175-AAF5-14A1846B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25A96284-430A-428A-913A-B9C5C16A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360C7758-2B59-4BF1-AEE1-51A1E066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FF4BAE72-C5C3-4285-A650-254C4609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5C58EA3E-C459-4AC3-8193-822BE469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2DE2B3C4-7D02-453A-84E4-06ABAB77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4A691-7116-45F5-BE85-EDEE2137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00D32CA9-4027-4876-AD91-FE3F80E3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3578782E-AB01-404B-B5D2-D127F55A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D1F0B77C-DE16-4906-8682-51FF7526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AB924526-8CA9-4694-B5CE-C3105265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5D197F7E-B1E5-4193-987A-BB8B85F0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E345F6E1-0BA9-445C-99A3-549EC754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F9603B99-EBD3-427F-BC02-7533D259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A45AE323-E7F0-4354-A96F-D19988CD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5D334633-B7B7-486C-BE67-5AF933CA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2A120BAD-91F8-46E3-9D67-D478C03F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647CF2-2A64-487D-9EF3-C2275102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F1494439-60DF-44FA-9378-BA5C0220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984F3318-E7AF-4098-8DA1-7EED8E58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A131D324-829E-4069-B8D8-94381210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1A056D60-DCC5-409F-80A7-D714A931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FAC5C764-4890-4F13-9A4A-2B8D60B6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9D4467F1-7A73-4E64-84B2-D475FA6A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CF81DB68-1748-4771-82C1-AB6A0D9E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538CA5AB-08AF-494A-BD67-1FE52993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63C3076B-6F0C-4B01-ADF1-81B7B3C4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13FB92F0-2E60-4B78-BDFD-32C160B8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46202A-3624-42FC-8BCE-B046A3FA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977696EE-1038-4CBC-9824-112E3A2D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18428256-985C-4222-9EC3-24C58E45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490E1800-0CD4-4C81-8CEE-AE2A334B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3211D4ED-6359-4E6F-B565-447B11B6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1535AF5D-25A4-4CDA-991B-F2951EAF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D2A7D528-22F3-4A21-A4C8-7C517FF0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0724E074-8D21-4503-BC53-3271D4F4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66C2C3A3-EBF9-4795-9EC1-37213ECE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071714EB-6F08-426F-925D-00DBA8A4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E159A37D-2E6B-419C-835D-1F3DEEA8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7CBB25-F049-4876-A6FF-048F8643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F997A31D-3122-4B2C-A94D-29620584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70591EF6-E681-45E0-8BE4-D3974C86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6A2360C1-4DF0-4F1B-AC60-D852D776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25A5F96A-4AE0-4DF3-B1A7-CCEA3D06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2EDD6233-0B7B-4E89-A1E2-427C8F37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96A516CF-00C5-4BCB-A83A-2836A176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9F42E320-D3F1-49B6-9BEC-0AFF3326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84B9E8B3-F684-4132-8884-7FB2CD4A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0C330D5F-C54C-40F1-A982-F159F338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7F1CEEB5-CBF0-4491-B0B9-A3DF8519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9C6F79-7FD0-42BA-9303-0C09534F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84C4C422-C150-4C75-98D0-9B566ECF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B0BECC14-4774-4A72-B06A-CAD919A1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155D811A-E785-4D80-AB56-BC891A0B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A2E87B4B-6AA7-4ECA-A6B6-27C04070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DCA016E6-C0D5-4A27-993E-525C467C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4450B5B4-75EC-4F2D-B291-4DFAA50A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88E43858-4EA5-4FC2-9181-4B47F254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B43C453A-B6CA-4E9B-8E6B-6877EEA9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4B2D6564-F780-479D-98FD-5647FD5E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76F2D944-8607-4359-ABCC-9E0BA6A2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030934-8C75-42EF-91A9-33A9BEF3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9E44E549-631B-4DDE-A193-2D76A3DD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2AC6B810-97CE-4581-AF14-4788FCE8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E8F5F193-3937-4C6D-AAC5-CA81EA7A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57E6E0B3-B8C4-427D-963D-61120E79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6097A6BD-24F8-4BBB-874F-2C579CD7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967DE06E-D563-49B6-AE58-E33657AC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E32AA1EA-C02C-4913-A1EC-91004291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399927AE-2A67-4A1E-AC32-247E87EE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FF8C7120-A874-41CE-872F-F83AFF4B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E7CB0301-1ED0-437A-8F48-8506EC3F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FFDB-2CEB-42A2-932E-7FC2DCCA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1782CF-AE99-445F-A7F6-16410818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47EB7015-C99D-4589-A7DD-AAC06EEE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79538122-A1EA-4046-A9A4-0CC5B60A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EF50A3E3-3466-4E10-B40C-C03672E8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353123D5-FD94-48A5-BFBF-DFB62972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EB4C173D-14C9-4A6B-97F6-05D7ABDF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7FFD8A51-0005-441D-BE98-8554A9D7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57DCC397-3892-4AB9-8875-A4B1E7FC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57564B43-1677-4633-BAEC-BE4354EC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9FEC8C34-1B59-4CC1-8CE3-12AF5AED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E0A7DA84-B5C0-47D4-A3D6-1C91B585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1E8249-2F5F-43AD-B2E7-19BF29CA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AC756CB8-89FF-44DE-AB75-CE0ABFA1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8434EF2F-0A7F-4D4B-AE2C-E9F1582F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FD9BBEFB-3A52-4832-BFDC-5E04757B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43C8C7F1-AE1D-47FD-95E9-7B23C940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22CDD195-1973-47C2-86BC-DFE3F0F9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52D9CA5D-194B-4FE0-9BED-FCCA4BFF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8AB93FF5-EFD6-482F-91D5-3C5FEBF0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64A32F03-8BE2-400A-A82A-F61124E7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E33FCB6E-A004-48EE-8825-2DBC5459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DB44EB19-6B9F-4138-A1F0-1AE3F0C1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5582B2-5832-4311-B0E1-1395FDFE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99817574-CD48-4222-BA24-6F98DA32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182635E7-C02E-4E8B-A451-C907400D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56C854E8-5B17-48C5-A651-19B79485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A5E399D8-FFD7-41BF-A49C-13BB3548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FBA45AE4-5D49-4D41-A430-20B0FCA6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445E4B78-7D65-43DD-95CF-00240F9C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B0674E89-C5A4-40C2-8061-5535DA53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5CE3835B-2E24-4D8F-B46E-41CBD954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4715C3AC-499A-4830-9F1C-32F66C74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05D32095-06FE-4569-8546-A2F6D6B6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74A480-042B-4976-B041-FFF04AE6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60509703-BBC7-4279-87EA-F149FDD9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3689A845-E39F-4966-ADEA-52322CC8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F31838BB-5DCF-432E-87C1-1A7F3EB9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9A6907AA-6EBD-4FD9-A02A-E23CAD68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75F8F88E-6F10-4E65-B1DE-75FA134B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469AECE9-9F08-431D-9F99-E3235690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7B3DCE51-0765-403E-A171-AFE94E32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603DCA51-828F-4E2E-B258-91112C95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EC8EB7F9-9472-4302-B850-6F452AF8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3C5AC9E7-7A3A-4414-A325-6B48AAB1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7C29D3-60C2-4C39-99E4-3CB32345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9DE91396-C028-411B-A1D0-26BB7627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2F07991A-69A8-4666-B7F6-10D4AFE1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8B5A1698-F478-4E87-95F8-81CB1F3D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68B255E4-426B-489A-9E66-CE4F585B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39D3EC39-8FB2-4694-A999-A71DFFE8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E9AB010A-540E-42A6-8003-3B825596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9B080346-9342-4D40-B515-91D222AB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59D67FB5-916B-498F-A568-F5954B16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79C3065B-2157-4FFD-8DD9-86FAC159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ECC6CEE5-2EB4-4A88-8002-1D6CD864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4A3AF8-3308-4AB7-BA19-690D4AA5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08F92EDC-86E8-4FDD-A581-E59B1296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39A6F026-5BA5-4C4F-90A2-A55F33A9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A9D42595-A397-45B2-BBC0-801FBF8B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CBB92757-030C-4878-AD62-F7A1C4A3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2D6D4FD8-56B5-4B7E-9AE8-3FE01C54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3AE7E78A-090D-4426-B68B-4775B225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89BC7E03-A1F3-4DA3-9755-483D7F44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B6E1B4CF-14DC-4B32-AC38-06282007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A7B7E7B9-7E9C-4A39-B1D1-CBA1D79A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40950B9E-C0A2-4A60-861D-99B3B4C4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7C93A6-7A32-49AE-B6AF-36BBF969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43D48855-029F-4CD9-93E9-6E8AD9AC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3AA1407F-103F-4DF0-949A-BF2B4031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5FA1440F-6A2B-4133-B58F-D6BEDF81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2BEA9449-02F8-4C04-A68B-1A9FD78D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00DEC2BF-33BB-4A5C-9D5B-E84FFA1D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7348BDD3-69AC-410A-A549-6EA4F385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220C5AB3-4F8F-408C-B89D-330825ED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867A1F01-1F6E-41B7-9D73-A87CA3E9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ED3C4E49-7870-4219-816F-F76C111D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CD03C87F-F624-4FEB-8339-A6702DED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E52139-9997-472D-83A2-3A8C4462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80EAB623-38E6-43A7-8CFA-ACCFA54F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E69FF252-85E7-4383-8C21-E784E21F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6E2B1990-397D-4909-9FE8-21D4E32B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E7235FFF-690D-415E-AED7-3E62061D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005901D3-DF56-4769-B8B3-92604B33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CD00055D-259A-468B-ACE9-3D83BAC2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2B59F3A0-36A8-4329-AD4C-314DC176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2D85657B-33D8-459C-B2BB-BDBCFE65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6AE22076-7CA9-4427-BAD6-10993B27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1109D98D-E271-44EB-B74E-E0D5D753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E67195-1EB6-4885-A55D-CC084FCC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78B4DF71-CCAD-4660-9320-858DC2DF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DC8FBCC8-C42D-4887-B4E8-203DC9F2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27717BCB-76F9-4DC0-99D0-88B5A2E1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D207D9CB-68AB-49AA-A99B-E8596AA4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986D5502-13FC-4618-BBE3-6FF54B1B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496FBBDE-EECA-4272-8C11-B841A760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7FBFAC78-8BF0-4441-966B-22C61E44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17925CE2-8895-4110-ACBB-5DBC433A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277BFCF3-1155-4D4F-A32C-3862F80C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8A19E2CB-10B9-4FE4-BA3E-63B3CF74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51F700-7606-4044-9134-639EE1E5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9BCFBA6B-82EF-443A-B4E4-8FBBE264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B12B70C9-F3D3-4101-9BED-7D31F26B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D65F86AE-F0C1-4D5B-93CA-D38676BF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D2FD8D54-059F-44FD-9202-17E90FD0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4316ABA3-56F1-472B-861A-BFCD77F5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2BE9830B-85F2-4B8E-88C1-40B9BB99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8F43FA2C-66A8-4FED-9268-6299A6EC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654A57B3-B1FE-41E2-998D-322AC4C5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B762BC67-81C3-4B70-AD6F-1D806A30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030A4A9E-71E6-4E20-B5FE-0F2F5B8D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F702-6D33-4E54-9664-F9ED8FFB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33C552-3941-4621-B2AD-66EF251C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503D03DB-1BC8-4352-9616-4C3B0741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21EFDEC1-29BC-45E4-98D3-FF2BE12F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071EB18A-1E4D-46DC-A09D-560F0C0B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6F2C83EB-A434-4DE8-8B89-3C5734EF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3C5B9F72-79C7-400E-916C-078E515F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7CA4DD05-167A-461D-8DC8-8A8BA2D8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EB933C78-1917-49EA-A897-687341B7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786E8253-5D72-4FDC-A8C2-53A349E5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5938E536-E2A4-472B-A9A1-9E9D3B75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1463E1D8-87A3-4C60-A5B7-8EFFABAE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0738EE-A2C6-4747-842E-CE565D9A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B7DE29C4-EE0C-49BF-9DE7-12FED422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F0138106-7B0B-40AB-9685-B060F5A7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45BBAAA5-4FEC-47AE-8119-BBA2D55E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999D4D92-962A-4105-9E30-1714A27A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4F15ED4D-FC08-4806-9047-B9E439AD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1AB8EC84-D90A-4215-9008-479866BE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129DDF69-0FA4-4898-85D4-EF2AFE7C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51FEE1B1-C9F0-4DA7-AB16-5A1E727F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03D592E1-5829-4297-8966-6ECB96E8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DF5BDB26-FE8D-4575-97C7-0B8473E0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01D2D1-0295-4458-8FF8-306A2A7A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388722BB-FD51-48C2-B71F-058FDA5A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3C3E3589-AAFB-4DBD-B14D-852AAF32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746D0076-8810-47BA-B3FD-A76886B4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78C7BBCE-2C4E-4823-8AC2-F1935BE4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2A1F8FF2-2357-477B-B4B3-8A11CF4B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FE6374C5-9474-4BA0-8EB9-618F1C4E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62B36481-B57B-4B9C-BE17-A13C9DE2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663C368E-7831-4DC1-AA8B-6865F0A9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07209DF7-8B6F-40A5-82D6-58D6E142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2DC8B361-E4CE-491F-BC80-8084AD39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B67CE6-F773-4BD2-8763-F86E88E9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1F92D5E5-1138-4124-B8F3-DC0E84DA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63125F96-DBAC-4B0F-A2A1-7F7ADDA6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E0E8DFD3-FE1D-4878-93B0-D4A04052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47CD8300-BDD6-4E11-B9B8-68019C16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BCDCDAAA-FE3A-4FBF-86B4-E1827E91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3802010D-ACC3-4B26-8DBB-DC72B834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C91BB2D9-BCDB-4A57-AC36-CFDB785B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47E884C9-35B0-43D0-9559-33B55540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79AC144D-7012-4E73-B281-B440D2E4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F6DDA9B6-B7CB-46EC-8651-D5C2F710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A30F88-81DA-4682-8ED5-3BA52270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ED635521-5E4C-486B-AA59-3FC1B47C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B3E1EC54-3100-4C13-A00F-3F7CB97A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26B453CA-F1FD-404D-9FE2-3B06ADE4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88438118-322B-420A-AEF7-699F67C7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DD8259DD-C118-4595-8C46-A1AD7B14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6763E96D-2102-46C0-A4AC-FBA0BB44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5A6385D7-1C87-4A4E-9407-8FE6B0F6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FAB72CA7-5DD7-4729-9C63-B8146EC1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340B5E49-C365-44B8-AEB4-65F3B022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A6127AD4-E313-442D-985D-8A387381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B995BC-B97D-4AF8-A15D-B86E0763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7FD77095-1C9A-4331-BA3B-6C27694E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98D4BB0A-335B-41E9-82D9-AB093427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BDBB9F31-2766-41E9-959A-0CB631F7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8F77A639-D6F9-418C-BE73-B7BB220B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21F15193-B850-43C4-A32B-82781A75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B508A69C-AF4B-4871-80D6-F09A7BE3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582189A3-8BBF-4A25-8488-8C728EFC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DDECDB4B-E4F6-467B-89D8-82F8CA61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CFB8EBB1-BE8A-4ECF-B394-0B2618B0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61BE2776-EA5D-463B-8A54-777CAB26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1E5389-C7AA-4B68-BA61-07D7A584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8C9AC2A6-E368-4457-8176-5E4111766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A0ADD028-9AEC-4CF9-8A5A-864AC7B3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F32C08AB-F06C-4F3D-A685-A2F7A051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57E0DAE7-98A8-47BD-9690-544E252D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4826EEB1-DA16-4737-8CFB-5FE53C2A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C05AE66B-22D3-40CE-9C4A-26BF1FF9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498FF386-C245-4EAD-9599-F2302DAE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A8955178-AF92-475E-BE7C-14BAD75E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5A145255-DCCF-4384-9F66-11771F8F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E90DFEA4-6E8D-410A-BC0D-C0F6AD1D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804CF6-0E46-4764-A4A3-13045A40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1A6C0684-227F-461B-9A24-2A488B9E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B5FA500F-3B83-46BC-BB2F-844A281C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706EA7CA-27A8-474B-87CC-612EC491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9403A2F4-8645-480A-86D2-A2863752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3BEFD053-F86E-4CEE-B99D-F2995AA9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0A052BEE-B6EA-4B6D-A57D-F5E7E5FE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74397B07-1DE0-4A69-A7C0-1D83FA89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1EAB77D9-D672-4CC7-8B58-30898961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9255CB79-E0EA-41B5-BD20-67FABC95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5F2CEAB9-C9A5-46AF-BCCD-99F05D4E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24ECED-BB69-4E2F-AE95-CE12A658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244C715C-9D01-43DF-ADC3-4130BD01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1A378A2D-0A6F-441B-9216-22D249B0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9375177B-5952-4B52-AE4E-E57BFB78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4BD6E970-F720-41CD-B2EE-CAB6AAEF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193EDFCD-06C3-4C5B-9990-3068E115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B20AE7-FDEB-40EA-A56A-1879DA3E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1475-8437-43EA-B11F-D7E73720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067E8A-CB11-4B58-89D7-98A050BC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A93EF1-B195-4F9B-A77C-A92F5BBE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7DF5FE-05F0-4DA4-945D-F2E2AA8D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36C84F-CFE6-4733-881F-01DB11EA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34952D-BDD6-4E4B-8901-57BE02F9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F7550B-31A1-4C2B-9592-67B28F3F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44D191-4004-4387-87E5-97AF01B4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18319C-E689-4E4C-A824-14B88E55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6CCEA8-5DC5-4362-ABFE-8EA31C92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0AF4AA-2D11-44A5-BF86-12C58373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DA8F-497F-4296-AC9E-8BD22CF0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5131-9528-4BD1-82A0-8F843878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CFB6BA-6354-4E6D-9F32-15A04409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6CB906-13FD-4880-9F07-C3304F11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CC45AA-B661-40BF-B2AF-C444A8B4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8EA65F-E018-4990-AE8B-6B78CDC9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22289C-0E8B-4906-8C17-C07E1C90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949C68-1FDE-45D7-BEDF-65888970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33EBA1-79D7-4647-B08A-2D5A9C23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33EF4D-AF1E-4E46-89CA-985FB2DF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572A90-3014-432D-9513-0627951B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5A40E7-6FEE-487B-9E30-9A9FA97A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4860-652F-4AA6-9C18-B381BF39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82D949-9BE5-40B6-A1F4-B64685DE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3DC46B-919D-4EA2-8C35-3186B8D6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B307E0-521E-433E-A569-EFEBC94B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E755FC-3F8B-4EEF-971C-C359E1EF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69563C-2C9B-4973-B7F5-3A1EA1D2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B8B979-35B5-41FA-ACE9-310F490B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0FA954-ED76-4AF2-845A-567C4774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81E2ED-341D-4FEE-BD4D-63C73E91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90B18A-CD37-4A4F-B03B-B4107226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263DBF-D5C2-4034-AE27-7C51A98C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D582-1866-4894-B83D-7C05D386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30FEE9-D18D-4017-9986-3CCC058A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C2F3F5-0596-441C-A38E-82F6BCF8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D29677-EB30-48C5-8AE3-FBCE5172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17D0A6-4429-4EB8-A557-4AFCA5F3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39A8B0-2218-40CE-8036-92F6B227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0DBF0A-A572-4673-9A14-65908FCB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7156C8-2433-469E-92E2-82EAE466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546950-CAB3-4C3C-8532-7BD7FF64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B8713D-349C-437E-9B6F-16F6663D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55E1D2-2F6A-488D-A4FF-68DFB70A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291B-B832-435F-BA70-8AA2327D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9E4EB3-AE0B-4789-B8A2-5BFB75D3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E4CB5E-5711-4F7F-990C-4B5A0D0A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9D024-915D-48D0-928C-774AECE5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E7717D-FA95-47AB-B661-41EFFB5D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B96805-1B73-4C34-B024-41E3492E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019DA0-774D-4CDE-BC4B-33A824A3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ACF0CD-433A-4FAB-9523-CFF70876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AE7E5C-2F96-40DD-8B6D-5F836DFB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C0DA6B-3232-4EE7-9C0B-54E07F19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86221E-4EC9-4A61-A27F-3BA3CF9F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3DBB-1C38-44E4-A32A-0EB43179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160816-B96D-47B5-9C30-DCEA1854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352F7E-EDEA-4850-9590-F5C5A9E2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EA8177-2474-4342-B02B-60757556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90139F-F4BA-4267-8D42-C044DF35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2575FB-FAF7-44BB-AFF2-FE703BC8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A9C951-8FDD-4F35-AC59-2B69AC71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1ED2D6-C475-4605-85F7-89841E33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46DFA5-A9D8-4BE9-A211-21BA847F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A1AA00-DEB2-44A6-824E-D24C54B9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EA1EA7-062B-483B-AD52-2488BDCC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59A2E-13B8-420A-B89F-12FDBD0A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6892F8-E50E-4278-9A71-3340F2BF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69E5E9-7072-4327-B2C4-BBE2993B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90C18B-44CA-4967-865E-3BFEE6AA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47D46C-4764-458C-B79E-ED90B6FC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C673C0-8A98-48BF-B60E-8B246BF3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777695-53CC-4090-8360-F4247229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BA704C-8335-471E-B7F3-C4068DA2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CF853A-D67D-4FBE-A1A3-89380B62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B08ED6-BFC5-466B-BABC-FFD8DFCC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8F552D-AE5D-4652-8AC1-492F8489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A45E9-0172-464D-84E1-16DA3C4F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FEA40B-B4CA-4D82-B058-8E4E21B1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6EE004-B1EC-4434-AF78-1038CF59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662EA0-8D22-451B-832E-DD7928E6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6FE93D-A628-433B-A00C-35A0E267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6D25D1-32D4-4DE0-8E0E-DBCF6622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C90F3D-58CB-4607-8683-A62ECB22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7B7BED-F8DC-4953-8FA1-98CC6FF5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AC1E0C-9CDB-4BF4-AD3B-A6DCF634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9AA024-D96E-41BA-A75F-11E116D8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20152C-50BA-429C-84B6-9635FE31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C64C1-2B10-4362-86D1-03863A4C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1BBEC6-D322-4ABB-813F-EDB61EC7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B3B128-23DA-4433-93B2-7AE75358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D2FFA4-1DE9-4E7B-AE28-AF284361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4F419D-6114-4BE2-AF45-2B54D92A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2BEBC1-34A6-41EE-942C-8080036F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50EF6C-5744-4EB4-9324-941FE883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154193-B973-449E-8EC0-C13219EF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02AB02-599E-4995-A0A8-11E1CED9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7F1A39-ADCB-4706-ACFD-0D782D36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70C8EE-DCD0-4AE4-8697-6A624BA1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98CE5-CA6A-49BA-8255-D6886827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BFAB00-87C6-48E6-AED7-5C56DDF0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D77E9F-2444-428C-AA41-45A0F98C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EC312D-78E3-412F-8785-06D7CF15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FE0207-EB55-48AB-8DB7-E7BB5920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6DC3A1-3086-4404-AA09-0410EE7B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4E9FC5-F64D-4976-85EE-5F56A684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E264A3-9209-4497-B205-67B44FC1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31B31C-76B2-4375-B52B-5455ECE3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D2DD84-EFCB-4910-A8F3-47F23CA5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4BCAFA-217B-4C1E-89A8-0FB36B2F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2DEA5-F2D7-4C1A-A83C-6571126E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2A79BF-18AC-49DF-B6A0-8E87D63A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337EE1-BEBA-4FF3-A013-BA49B63C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3B385E-B672-4881-B86B-C92BCF3D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CC3FAC-8C96-401E-99F4-1B4C3860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6FA173-0C81-4987-860E-9A605D4E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DBC17F-77B7-4530-96B9-50A4D246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258E87-1131-4D53-AA77-B3F1C29F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AE0907-EE6D-47E2-8DE3-12876A27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081343-3092-44F4-8545-4ADBB718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173BB4-B56E-421E-BF4B-F4F3B4A6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3A1-EC28-4644-803A-640646FF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E8DF1-F0FA-47FD-8529-B14615EE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9E5610-BB91-4365-B46B-FD93E0ED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F9F3B2-0C75-4EA7-BCEF-2357781D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361890-BE4E-45CF-BDA4-83CDB28E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9260A1-9708-41F3-8269-0E335D5A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8856C0-6078-4C1B-9CAB-142F2E16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79A465-E9A4-44BA-A1FB-9EC66D2B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8E2E11-F44B-462B-BD16-FED3C444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71742E-4329-4B92-87B1-25152F56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5906A2-DCF8-4430-AC7D-D4C6E5AD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D269B9-0C81-4F82-BF1C-023112A6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D3034-C0F3-44C6-949A-93C46E5A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42AF40-1148-4512-8D76-780C8FE2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38A3F9-B551-499C-B539-EF5134B1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98184F-BD39-433E-B139-B0449ADF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5CF1E7-0856-4A61-9769-6B1C96DD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1C05BA-DAAA-4F15-A969-E7A58ED1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6B8455-DDE2-46D2-89F8-55952632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32A9D1-F5E3-4331-B760-71141FF8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58AD7D-9154-4305-B111-4D38283A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C804E5-5522-4DDE-B22F-85662C76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2F7A0D-B844-49CA-A258-DFB31F4F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1BED6-7DBD-41EC-8BC6-76CA37BB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3BF7E7-7089-4F94-840F-596AD425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1CA51D-BC4C-48D8-BDD2-62E3385C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3FA2D7-E0EF-4E9A-A650-F6A016B8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D3A104-3667-4FC0-B943-4466EC67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8ED35A-693F-4856-8C07-D927F5DA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623A18-F7DD-4E6E-9648-83214D24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94696E-BDF0-45E4-BC72-259AB0CC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B8DB1B7-B134-470F-92F7-31527D77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BFA309-69B6-4CD8-9C7D-0B681642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AB0CCE-0C46-4926-9DCB-E7EE3A85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A5930-5A14-40B8-9054-7F05D68F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106534-2477-4437-925D-8AE196FD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2E3392-8E1E-4731-A87C-9408CDD0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94BCB6-5BF1-4BA9-9DDD-C20196CF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8A5072-24DB-46E7-A353-79866BC7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E2CD72-B453-407D-863D-CF591FBD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2B48E5-E986-420A-8BCF-F99AA026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861F72-5E7F-40F1-8690-8BA2966B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001B6D-CBB2-4036-985B-EEC7E9DB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D0146E-006A-4303-9A6B-34A1ABA8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4BAC96-EEFB-4D20-8F0C-EBCAD823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28207-E60B-47AD-AB3A-111D54C3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B34A7B-BBC7-48BC-A2A9-378EB303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2D625A-F5A8-48C4-8108-E8388677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AA2F14-104A-431E-B31E-F8DBE430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AC81C3-1A06-4FBD-8EB3-EC0B7652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129408-5E41-494C-AA20-DC5E157F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D5A1AE-9848-445C-8E07-10831D93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468D87-B12C-4EEC-86DE-6F1FF769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868676-EE15-4EC0-80CD-7AE7521A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48AF3F-5005-4242-A69F-6E1BD48A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749B4B-0268-4B42-B447-B4162A01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89585-3B06-42DA-8CBD-5562D02C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A06917-4B07-483C-97A3-1C60293F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CBB6CD-AB54-4FFC-AA9C-1FDB44C0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9D0173-BCCD-4B93-BAA2-6A8AD3EA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442AD2-3CD7-4498-85E9-2D082610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0FE3E1-3FAC-4E56-8375-5F343C31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C61516-8489-47D8-9844-B86DCA37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D6AAD7-F0C1-472A-81AF-CB44CF81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D37BF5-22E8-4058-B591-72E9CD8B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AF69DB-C0D0-40F9-8A96-2F5B89CC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479B99-E54B-43C1-837F-3B7E89FA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5E5D9-CA2C-4208-A8A5-A5898D1F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2FA6AD-F90E-4835-9EE0-159F3191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B0726D-FD6B-4489-9B8D-52991C89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A63DCD-91B6-4CED-BD3F-2E87AA70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BA3079-5744-4556-BB45-6F6B806B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E3B2E4-7EA2-40D3-BFE3-52A2D425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58A3E5-2E27-4A05-A1F7-8A5C8BF1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82E18C-2F58-4866-A8E4-E4120928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5CCECC-556C-4652-8F5E-B3D982F4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808FBE-C002-4403-983D-8714F0BA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30B3A4-F83A-41F8-832E-0C4CD93C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13930-51E5-49EA-BCE4-DD79DF8B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5270EE-E428-4504-8CAF-9BE51A7C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B99B15-56A1-4217-A935-36B6E7A6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CBA18B-343E-4B9B-9A55-23995CAB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9B9D016-A7E9-456D-B2AA-43DDABAE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012E634-A888-4FE5-A3BF-24016528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4F8C5C9-E975-4F5B-B853-758A4F11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89DF50C-F8CF-4FFD-AE59-A28C0A4B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9A71123-48BF-4DDB-A12A-1EAA20A8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81265F-6DB6-4492-B5A6-A916431C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92A993F-74B1-4887-8A2F-83CDA0D3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11766-03C9-46EF-AE4D-C1907DB1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27FF37-2673-44C9-B20A-4C164BDD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839E8CE-6317-4F71-81B6-4A5CCC7B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448C300-D874-463C-BB69-39AA2F50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5D1BEB8-128B-48EC-95A2-374957A6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0CDCF13-5276-4B83-BFA8-CF4B1DAC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0083D6-2F51-409E-845C-B9744B6A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E61F95E-7187-495E-AD93-0C1C922D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F78A41A-40FB-4085-9585-9CC77D7C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7C0091-5EE5-4125-B3C1-8ABEDEBC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F255561-98E0-4DFC-9E1D-6D0880C2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49BD1-BC18-4D2A-B986-B40B349B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D1F42B2-1068-41FA-A566-D99C2E6B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C43A80-A0C8-4F76-9BE5-BC76941A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801697-59E9-4A37-B385-EAE99B40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117AB5A-2083-4429-A913-48A1C58E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88B6134-375B-4665-A63C-03C2D873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4531589-D4D2-4F14-A41B-64E2EC07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FBB33FC-56A1-48A2-8F3C-564C2E00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52A8FC8-5DB9-444E-8F40-AEC345EF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9BA10C5-B42E-4E4F-840E-4B95CFEE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3ECCAD-E917-45AA-9685-4A3DE392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5E89-DFD5-4196-B312-BA6CE753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1D81C-F9B3-495F-B4EC-559846AE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6B2B248-8C1D-40F7-B42E-881923E3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0DA4B90-0506-4D11-8D57-35CDA0C3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7EE390-A69C-46D3-BC84-EC5C972B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428E21-73BA-412C-A79E-4669FDC4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2613C86-F849-483D-9BE2-B798031E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D755854-2B3A-4CE8-8C4F-B9DEB81E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56AFF86-3F46-47C1-982F-730B7B06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8F9F320-690F-4C80-BB91-40140C42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7688D70-F8FF-4AFF-B688-AF223EE9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06534F4-B791-42B8-B905-035441A8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84843-F668-4805-8B5D-AAD21F8B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B0B420D-64A0-49A9-BDA0-2CC19830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2BDC4CE-AC63-40E0-A32C-F252CC8A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1060441-9D4B-4F64-850A-2E5D6AFD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8D39C3A-D393-4144-A483-185D7E40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A7C814A-5D8A-4E76-9172-186A4B0D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26C4FE9-B32C-4D0C-AEC1-92F0FEC1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EC3E25B-9197-40E8-975C-40459D0C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1C83ED6-A813-4EEC-8287-CD37C965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78D5DF4-4BC9-45A5-9E67-674C480C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1DC696-62F6-4D81-AC09-8B476416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08986-6482-4ACC-8637-FF72A1E2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FF5BD92-9DD2-4E05-AF8F-982B67DA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57C1FB3-2AC7-4527-9750-60E6BEB5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D6ACEB-4DA9-4EA8-B796-C5E8F329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393EAB1-E2E3-4A49-9C29-35D3FE30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789FB09-52C2-4E14-A20C-65A8118A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08581DA-ECEF-473B-9CE1-5E68F109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48F9694-F668-439D-B2C3-7986E678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AAA21F6-7088-45E5-A4E9-FE491552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4DA433F-F902-461D-9F95-1DF4BFCC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21CC698-9E83-4980-A188-8B990B16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3F34E-7898-4A5D-9209-25685618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B3A497D-811E-4A12-A9AC-D0A1AA7F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982037-F99B-425C-8FDF-11A6CB38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C55B8FC-A71A-4D50-B32B-D64F84E3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075955E-A30A-4425-86C2-6FC1CD03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9A35B27-6D05-4328-B8F1-6144BD52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B5CB112-E989-446B-A8FC-FA55C9A6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6D29D08-52FD-44DB-947F-5870CCD7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920D806-95FA-4AD4-BE8C-D8957EE9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6D115FC-46B0-434B-8C23-31DE4519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F293F07-9687-42BA-BD5E-E00F4168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D85E9-F8E5-46FC-9BA9-FA8A37BE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FD658A8-6FAA-4963-96F2-4B5A5638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52C392B-3871-4938-8687-3D69B919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11943F9-2ED2-42D3-9CCD-14B8DDCE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A139643-6533-4398-BA85-B4C752F4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E7369E1-77BE-4DEE-ACF2-0B2BF805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FDC2997-E708-4840-8DDF-7712CF52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FFE928B-E904-4280-87C8-3C045D81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40DB72C-6FEA-494B-966D-966B4499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5E5BB1A-A6BE-4FDF-AA7D-CB119165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091847B-20A1-4F60-9B70-76652896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ACBC7-1F84-4A4B-90A9-410E30E9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3FD288E-7161-43D1-AEA9-9B66E2C0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5BF8302-BCAE-48FF-9C43-4C86177A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4BEB1F6-86BE-40CC-A25B-2DAF2316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D5252E8-B642-44EC-B1AA-0C828589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87BAA4C-702A-4463-9966-D753E29F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380E357-8584-4AEE-9B72-E7613F52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02C6850-8D74-44EB-9297-AB08222D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BDFE2EC-5733-4433-818E-DCCC7272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B67A313-AFDC-43B8-B779-639B7DC3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E58397A-8B79-4A17-8911-F59EC713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9661E-72FE-46B3-8CEC-28F808F1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9592A37-D70F-43E9-A163-56893B7C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B471D3C-2DD1-4A14-B2ED-C7CBDB48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61E5F1A-6F32-437B-8DA8-3D7DBEA2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009CCAC-DAA8-4F13-A5F4-C9E5C8B3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100443A-C9AD-4FC0-882D-FC06E70B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756690A-1A21-48A3-B6A9-C4869523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666446C-B07D-4B84-A449-CC096F0C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9BD776F-A94D-46E4-9142-40684A18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01B3A16-54F9-46FE-B84A-9AFA0E6B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3F46A26-B1CF-45A5-B32E-63558CA5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9F3F8-9763-4D02-9C0E-52F8B082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11D1CFD-2AF6-4969-AD0F-7BEECB8D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36158DB-6101-4938-A278-CB99ECCC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1B84EDD-5871-4802-BA42-999B428C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D2CDA17-CF31-4FA7-9B8D-B7F42124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B4557B0-8ECE-47AD-A3AC-AF02147F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CDBFCFD-EF3C-44C1-8106-7C85E287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6D9A480-E708-4CB1-A669-B8EE41AB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DCB85FA-C201-4C91-A0A2-4EEE4514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9BAEF09-F6EC-44B9-A13E-9288E686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23C3AA2-A0AB-47E2-881F-D1E341DB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E9055-713F-4F8A-9BE1-6D0E48FF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9980987-7806-49DD-A0B9-B2ACE4FB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97295B3-6D6D-4BE9-9CAB-44B48C0C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7DE9209-3C61-4573-A8D3-BCDAC2B3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8E306E9-67D5-4780-8E75-BE8157F8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79C3CA4-6EB8-4BDC-9277-35C25691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99B707C-2C46-4D1A-B02F-FE899229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02D6635-DBCF-4853-B763-1CC1866A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0553653-41D6-4B56-83A8-F90A5EE8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218C30D-00C6-484F-A38D-C912046E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31D11FF-9852-42BD-8D6C-FCB3894B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BEE87-E550-4634-B9F0-8EF38850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69AA5EE-259D-45B9-B747-CFFD5463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1F62FD6-5F77-4342-8116-024CFDD6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50395BE-31A8-4233-980D-5277A24D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2C3C70C-400E-412F-AA84-5D1A1D6A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16BA83E-6CE7-4DE6-80D2-114EF1C1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2D272E4-BF68-41E6-80F3-E6E5248E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4F64B89-3EC0-4FD1-99FE-F8AC1F6F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84CFFC1-3655-4CD0-89A2-06004E5B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C7A70E1-4086-4F22-9660-24BDD99F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73C3531-6B3D-451D-8812-F2F9D380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56F3-2982-42A4-A837-E8B6DEA9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78619-A02C-483F-A8AD-BFC64D58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05A9EF6-F1A9-47E2-8667-D01503B2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FADD56F-0F19-40BD-BEF8-3E45A106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A1A2809-0C46-4FFD-A6F0-BEF003B5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19A59F7-FB93-4BB1-A996-B2D64F78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184A1E7-18D4-4B4F-9205-C1A7C022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2454872-C58D-424B-85B1-C78FDBA6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1A8E88C-F5C8-441D-B7A8-99DD4385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B5144C2-CCA0-42D0-B2EF-C9CDB688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29D30BA-2D6A-47A9-A88B-799DAB3A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72EA177-AF69-4FE3-A525-860A07ED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C0789-95A4-4580-9F23-C95EF71E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25390AC-8890-4F61-867F-7BD9C2D5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DE4C846-7FD9-4E04-930F-893E1F50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7DBA3CE-57A5-4613-93BD-797DF804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CA20311-6F2A-4BC7-8F7C-8EC20B45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1C31071-5A2C-43CC-BBE7-32B2B31E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00A482F-CBB9-489B-94EC-AFA0710F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19FFEBC-D7D5-4BC3-A7EB-959D9A42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075F0F1-2F23-4965-862E-D1581BF4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ABA3A37-B38F-49EB-9C4A-73459075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E2D819B-5BAF-42EB-86B4-7F993EB5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B4D9B-D20C-4426-9524-1DB65524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3217231-94F9-42F5-9D3B-C9F24611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011B992-F03D-472B-86D1-6166B9F2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6CD91CB-016D-4E59-9A1E-AE093057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84BEE30-1D62-454A-8C11-D990478E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BF9625A-19B9-4D96-9E11-86C81141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E4DB1B6-1271-494C-9E47-7CCC32DE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284148D-DFE2-4C0B-AD2C-32DF0C64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1A14923-E5D3-4732-9460-DB6A59BD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A089BD3-C209-4B4B-AD1A-8485F629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E87A9E1-789B-4EDB-B054-AD69B718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340E1-9A3D-45FD-BC65-A31DB4F1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3A15D2C-5955-46F8-85BF-71A1FAA0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A97FB66-2CF6-4EBC-AB25-516B15F2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A0A5642-6A5C-49D1-930B-E5FB00FA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5133146-709F-487A-B9DA-070D21E7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F8B3BB4-F59F-478B-812A-CBA31985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2458704-94F8-41A4-8976-E68E044A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0F3BDC5-CC68-4444-9A2F-38E1885C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EA89729-4A6C-422E-BAD2-B47030B1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05D755C-6E22-45D6-8AC6-6F160D18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2B747A9-D340-45CD-A083-DF3E3977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6861B-D4B9-4B12-86DC-38A23BEA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18CC84A-BCFA-48F5-A672-C906D285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BED74F5-87BB-4B9A-AD63-733F3272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5581797-9FE9-4BCD-81FA-D819597F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5C46287-4928-4A76-B3DF-4E5B1FA5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C6C41F4-131A-4854-BCF0-8B002BE4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7F0E90B-A599-4E60-A6D4-40188DD9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86FD122-BC5D-4ABD-84BE-18A993CD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3E1C954-7240-4484-BEFF-4005B8F0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586A93C-EB01-4912-A5C5-3678E343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157B03E-5620-4E09-AA49-A47B57F7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D1EF1-EA99-492D-A065-7D1ADD4F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79DBCEC-3ADE-40EC-9145-F145ADCE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4DD9190-1E40-4EDD-85C3-345638C2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E6EA7A4-6210-49EF-8F30-68368BC3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E194593-C703-4BDB-AA8B-AD93A7BA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BFDD85E-8EC3-49C5-9409-8417EE3B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78200E9-86E5-432F-BFB6-E8ADDBCA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357B7C3-4DDD-4908-A020-BAB20B08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0851CEA-331F-41DA-8D06-198F6540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EB54078-5C25-4D70-9076-B6C0EEAD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B0CD438-2CF8-4BD9-871A-426B999B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48F7A-CC6E-4345-8998-AB142A37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5898CBE-BB28-4767-9362-92C53A81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B59AC62-2FDB-415D-8600-1F013BFF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380C964-9445-4A44-9A80-13359FE7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8D65B54-FD9E-493F-A418-B2C4DFC9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0FAAB60-2D0D-4335-ADB3-90AFC0D8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8D5A318-408D-4102-8B26-1A7772F1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36D0794-060E-4789-ADDE-AF3BA645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4AB8B61-5FEC-4D72-B235-9BCFAE8C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5ACCFF0-B8F4-424B-8908-58615692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7B87BBE-BC07-4391-8840-D555AA0B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8A326-3B9D-4A72-AD40-06866469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05B24EA-5175-44E4-BBE3-F3F08485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4E1FA60-C077-4A37-9A0B-DCE5E058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A6CDF53-B444-460C-843A-AE4DAC0D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6F3D3CA-6F3E-45EA-90DF-C53B0091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1C86CD8-31C9-41A1-B304-FA5208B0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14FE97A-4CF8-4C36-A15F-648F9336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205BBEF-AAB0-46A5-AFFC-F7CEF84C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BD04D66-4F07-4FE1-950C-8859D848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23989BB-EBF6-45B7-9FD0-2C7B3CB3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7299F92-5DC5-4CB9-96F7-99A83A32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76098-D4DF-4478-8451-A9D782F5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D664929-4C61-4091-B10E-452455B1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C07254C-E9EF-4EB2-8F50-D5FD927F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508F5E3-A6A9-4418-A24B-71C0113E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7CC8D34-091E-40A5-867D-8BFE0744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8BF497C-1A16-422E-B567-3A321D63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9EFF9E9-DBE4-4E4E-9C0B-93E1152F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C4678DA-59DB-42A5-AB61-DACE65A2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685FDC4-EB52-40A7-96BA-F514AA81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F0FCB73-398C-46A1-84E1-6FBD91DA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32CE784-1CC0-4A81-A500-DEE319BC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45920-75A4-44C5-B4A9-6D193ED5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8AC929B-FD73-4284-810D-3AD4A8A7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FCDDCB1-4C9E-49C7-A229-A748372D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501B4D5-7EA4-41E5-A432-4CB03CF4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AB9FE03-44FA-4DAF-B5D8-E60B0868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56CA181-0239-4BB1-B9F7-E349A5F4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7CEC57F-5BCE-4D00-A840-6CA70C5F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A9360A3-0483-43DD-B6CA-C2069ED9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4FB8ECD-41A9-4ED8-9126-5DF7DB5B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CE4E15D-4F81-4DF2-956F-C72D97FE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F4F0451-E758-4BDC-8413-3D48DE72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EFE8-6AD7-4850-B996-13E76074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39F2F-D4E2-4F23-BBAD-842510FF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5987D35-19B7-418F-AD2C-8D0D3F02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4C83650-931E-412D-8CB0-A03B7D12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7D1DA39-9863-440C-8EB1-1173C3EC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6A759A8-5298-45B7-9221-DC4D2A14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052C5AB-6859-4001-9209-0CFBE8C0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60A360F-2845-4762-B562-72196698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D562EB0-5BC1-4F4C-867F-C7FB4DBE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BEF5E8C-A8D9-4571-9DB9-53114D9C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50C30F1-D515-444C-8904-592B3886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F71F361-6E5E-4529-92C6-0409634D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EB870-A7C7-48C7-9C8D-0E47886E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D45628F-7259-4BF0-83A5-6765C57C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547C7F8-00F5-46C4-8D4F-F2E7D0BA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5F65329-DA35-4F71-A0ED-0B7ACFCF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36BEE8A-83F0-4A77-A9BC-AF795FB3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BBEF3DC-D622-461F-9F45-E677E32F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000B64F-711E-466F-82F8-A3F98C9D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F88C593-B3C3-459D-B71C-1D38A2D9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508E2AD-D511-449C-A22C-7AB46DCC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7DF246D-B7EA-45FB-91CE-5E0146BB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05ACF60-EDFD-46BA-9FF1-0635278A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F7548-A59D-427C-856D-D831B8CA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5667107-BF74-4DDF-B054-CC9A4278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67E3611-0AD5-4854-B8C7-CA3E13B9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BF55CE8-592C-41CA-9422-98E0267B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8D4BA6A-53A0-4E72-B9A5-B92B2657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4A58596-AC6F-4EE2-98F9-94D183D3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0BAAD25-3DFA-4456-AACD-44C25B29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AB7D77E-0EAD-44F6-9464-E0FF6D7A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0EF3DC2-653C-48D8-AF55-F797AF91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1B90EA1-81D9-4899-9038-37E4041D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F6BEDBD-D433-4101-823D-E4D55E48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48E60-A272-41CB-AED4-00AF7B3E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E1271F4-F8D1-4866-9A93-8FA225B8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7832C53-6FC9-4052-B8D6-1CE20585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CD1DDDB-346A-46DF-86E8-C201CE5C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0ADDD38-8FF1-4370-9112-15742D43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19F66C7-DCD0-4C02-9DC3-EE8EB18C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AC92297-9F29-4DD7-BDA6-BA096E21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C89DE59-A4D2-4FA5-92D2-DF0FBC8D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21CA5FB-5001-4D5D-9613-9003DD98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990B01C-CA7A-4330-B249-CAB80907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A4853F7-20BA-4DDB-81A9-7D11DBBC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2EB1F-0614-42CE-8418-7303F135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B2B0E5F-71D8-421B-9652-A6CFCD16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B4DBF37-FD47-4B4F-BF54-E7B5D9D7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2A12CB1-2DB0-4A5D-B2EC-8B75F5B0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7012363-2C2D-4684-BD5D-34A1596D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58D89D7-D286-44F5-9816-957CD71A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4C069FB-1821-4B5F-A3B3-7ED06306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CFD72EC-EAC0-4B23-A01A-3ADE8D3B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6096D3F-67C6-4E59-9668-394749C7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B4A54B0-0E63-4C12-9AD4-1F87E4C1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E533813-4321-436D-B3BC-2B225B9A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FA44B-1EC5-49F1-9171-9CD74A25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7E488CC-A159-4521-BE24-05DA9D06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99F25A3-1B21-4564-B91F-8BEA51EE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3C1F60C-4D17-4D97-92B4-804C99A8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65B8E0F-1452-4F33-9461-2E209508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B8094ED-12B6-4342-991E-08E6E0D0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8383640-12F6-4F3B-B1C5-EAE9680B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2B6A345-E1D7-4871-AD06-56056FCA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7D878B0-8581-4FEE-98DC-FB309CF3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D752E55-D656-4C40-9839-7DE9AB00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F2929BC-3DFA-4B4D-8436-E71E95FB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8851F-CD9D-4DDC-9D86-C57E1F88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4E86126-31F7-48AB-B30B-D1E27C49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10A4833-1673-4865-B1C6-120B22BD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6CCD460-FC6D-4597-BF56-29CE9613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30722E7-5869-4199-A23E-AACEFBDB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6C434F4-7DA9-4EEC-9E46-50F48273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EEBADBE-A1AB-4BFC-B264-20FBD9AA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F3B5CB9-1DF3-493D-8898-A267D300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A4BC5F4-A6FA-4F96-8E5C-CF90E281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8AA87DF-AE3D-4D5C-A589-95544EB5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69E051B-1C28-4B4B-A324-57F2C62F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E7EDE-0F0F-4DC6-B09A-801CFF23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FE53EFC-72E6-4844-A367-ABA875A1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292226C-75E1-463C-8626-7DED6E34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8721843-42DE-489F-9C38-F253C7E8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3738587-0A2A-44B0-B169-12E1BB52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C04CD7C-B9B7-48CD-9D78-08270877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4323440-8CDA-4A11-A179-04A7984C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4E6C7B3-D8E6-4C8F-AAD6-D10064B8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87E6D8E-3971-4C7B-9EDD-8E971C95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9CEF39F-303C-4365-86C7-0ED8F8F0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6835C84-FCDD-4522-9302-E4A4810F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2C224-5B78-4D7B-9D1B-544D037F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9E9E159-8A79-41EA-8CBE-3A6D151E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8F466A0-F611-4194-8369-D6F30799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30C9095-D339-4503-A410-8BF29B79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4328BF1-2670-4712-9AFB-7383A451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82546D7-6AFB-43EC-8959-9B8EDC3C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67FFE40-D761-4CA6-86F0-F06C53B2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B201059-6D0E-4F95-B805-051BA561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4F2CC3D-1FA4-44C5-B1F7-535F360E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832AE0F-A5ED-4153-868F-D6C9053C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8ACF8E2-263D-48DD-A83B-21904826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042A0-9E4E-4686-B89E-12BCB2B2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594514C-33EF-41D8-879A-6DC06CB5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9CF50AA-AFDC-4622-8E4D-528CBE3C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096B2E9-5E31-438A-B3F4-DD1C0B71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EC0BAEC-2008-4F56-943B-E3689300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A8B4E8C-6A56-48FF-8824-E5846466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7649A18-ACE5-464C-BB1F-5D2D2D59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5CDBF6A-7C7D-4FFA-BF0C-7479DEE6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8499A74-E4CA-48E0-99CD-08955ACD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3ADD955-BFBB-4D62-9D04-824D36EE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287A2C5-28FF-40FA-915D-05B46553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EA09-8459-4683-8DCA-C2540F96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24556-D385-4774-9BF3-9A491902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9CCAB18-23D3-4D0E-A357-8E9C90BB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F555549-CC6C-413D-B6F5-6C82A78C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008CC10-5900-4355-A0BE-2DA17658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F67DDF9-B1E7-4742-A302-18D13594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EA53EC7-22E0-4BB9-8B3E-5E9DB390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17ADE57-430D-4DE3-8141-6B29630F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EAE2B02-AF51-4035-AD29-4C63C258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48FF6A3-3D86-4D42-9B01-6D308431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9E87AB2-6B42-407F-A5B5-FB6CCBA1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F7DBFF0-5911-4053-BCA3-C1A6B992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BD569-9C6E-4E57-ADDD-A710CC88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B7C6A2C-9F6A-4FCE-8F89-36A2038A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D2E8285-9B3F-4318-9246-7AD1E6E2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83D969B-1FDF-41EC-AE11-7904EE21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E345042-E344-4D21-B9A8-8513ED6A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2ADE7D2-C635-4846-8387-EDA386DF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E1274A0-9916-4C47-952C-320F8D67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8885D1E-1F36-4588-BC1A-70A5DAD9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0FE16BC-7651-4134-9FFA-18DE4465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795F7EF-C9E4-4643-B595-5B128437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76C1B26-B49E-42BB-AA7D-CE4C2ADF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43678-0189-4885-8EA6-4C9ED976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111DDD0-A5A1-4885-8EDC-B903C4C1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7952379-B254-480A-A5BF-4DB8269F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106C3F6-8381-410C-9854-B03F9420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29F9297-E4E0-431F-A128-EDCCEC74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5CC5050-DDE2-46B2-8C99-CCB8C1C4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955461A-F7BF-40DB-A011-24B101B9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FDA492B-6BD8-4A04-A079-79A9950D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352BCD0-3B99-4A32-B9E4-59768284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DAAB17A-C91C-4BC1-8792-823D4E37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C881BA6-288E-40C5-801C-3CD1467E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97608-6E58-40E9-BB0C-E842FEE2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A14DE7B-E64A-4B0C-8AA1-3E0ECEC3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1A24B71-DCFF-4C58-94DC-D7C4FCE9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24A1254-530E-4761-8B82-E3D57311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0B86E17-A528-431E-8FA7-0AE4F786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66721F0-5B9B-4872-AD1A-54E25CE6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6EF9BE4-61BE-48CD-A50C-D0B66DCC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CB7D8E8-F9AB-4423-8547-4B3F81EB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9B48F29-F65D-480B-B946-5201AF01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EA26816-F2E9-41BA-A6BE-6AFDE51E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F3FF267-76E6-471A-B0BA-F0AB0BD0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B7CF2-6664-468B-9F8D-8E1DB1CD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BDB0B90-F94B-478D-82A5-860E3E5D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C602F4F-AC73-466F-B9F2-954052B0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8019AA9-635C-43DD-B02C-C24B41A6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DEDD945-CC1F-4314-9F95-5A418D6B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6EAC3AC-5F84-41B2-99BD-706DBDED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73561F8-5275-424A-8718-3CEC29D6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E2DBD5B-886E-4DF1-B0D0-6C08F56C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ECAEB21-4D33-4253-8183-37900795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1190AF8-DCDD-435E-AE7D-87BC41A6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01FAA7D-6C14-4599-918A-F853CA16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0231D-B777-4999-95B5-D0A75FC4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775C7E5-575B-463E-923F-55A046A2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3337C06-B455-4803-B51E-DE68B6F8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CB1B106-5CB2-4B8A-B27E-EB021A9C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C3951FF-E4B4-4EEF-92AC-A27018F1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14B23F9-4DFC-4FDC-AFDD-2E431585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C121A3F-FEB1-434A-896E-8E89CAEB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0DAE282-CA1F-45B9-91F6-602432CA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E0411BB-19AE-42EC-A2B7-8BE90538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00CCF7D-9F49-4A21-AD24-1F010658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EAB8F73-3871-4DAD-94AF-C297F2CE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39E42-C789-4B0A-B42E-A0DBDE58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9364D78-8AAA-48EB-A8D0-CB75500D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A952EFB-DD5F-42C3-9277-C31C8159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C77F5D9-A4C6-4D44-A8EC-09325046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1DAE3B4-8F71-4685-BA1B-F2ED754D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FA417DC-2AB0-4E9A-8052-DB7CEE3B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ED5ECDE-695D-4871-807F-18895920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BCA6B7E-0ACB-4E4D-A3EF-5826CBA3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FABADA0-3A57-4C23-8283-CFEEA66A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62240E5-783B-4B58-BC5D-B32E90BB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27DE924-453D-45B9-BCBC-CAFD3F85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B9C39-7149-4CED-B9FA-B655EF63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94B1133-6516-43C7-B1EC-CD5F998C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62DA935-5CCA-40CB-BF36-82FE974B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56BDBD2-8EC7-4E5E-9747-34B4A16B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B706FC5-7A99-4869-98AF-CB28CE9D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FA0C381-E199-4EB3-93A6-B931C1A3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7AA7C5E-B0AE-4326-9DDA-DFA634B3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E58C5E7-FA60-4E2D-A885-2D1C1192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B2CDCE8-BDEA-471A-AC9E-0C3E39C8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76F6C4A-D163-4E47-AED3-CBC07C57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B7C9F26-6EA9-4354-8665-4392646A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5E3BB-8260-4BB6-92BE-331B198E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ABC61E0-8401-421A-B1E9-38568BC6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36F20AA-C05E-44E9-AB7B-EDB04D6D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D97385B-F4FD-46CF-B5AF-879062D4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EA1657D-AA48-4259-B8FC-341C69AC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6C0B274-A221-4865-933C-13473C53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9181E79-6DD2-4073-96F9-95E9CA86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3737D28-5A83-4F5B-8507-4F46299C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26BA0F4-FADC-47E3-AF1B-6ACE160A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9AA2306-5255-4BFA-8FAA-3FE409CC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BEDFF7E-08AA-4057-9FBA-C2F6DBAC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943F6-FAF5-4F13-8706-9EAF8223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97DE0EC-9696-40E9-B64F-07DD1CB2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1360756-B0B2-4EEB-A38E-3F0116C6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52C19F8-DF85-4373-96F0-11B77C30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684FF25-E869-4A15-A086-5E5FDE0E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B182D12-AA4D-4492-AF01-87A07E48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02C17B1-60ED-4137-87D0-597430B5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1D9A94B-EA7C-4CAF-A2C9-3B6045B7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0C1141B-B785-4042-93DD-0571A83C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7FD2D2C-CD79-40D7-B935-9B302B3C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1795641-8ECB-4E11-A8C7-411C11BB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540-5961-435A-8CF6-2BC08ADE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2D4BF-65E6-479F-A771-7011CE4A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51AF262-372B-4521-B098-024E330C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A671A54-777F-4646-89D4-C25AC2BB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76609A2-C145-4B21-9075-91D5EA97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750315F-61EC-43D9-A072-5084B8B1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2B85932-BC82-43F5-80A3-CF02377E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E87EF7C-2226-46FE-8969-1309B254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7DE6A97-3CAE-438A-B4F4-A11EE9B7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C5B4ECC-B577-459F-A0CE-585CB1AB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E6EADB4-9A71-4290-80BA-9E3B478E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B0E145B-1247-4430-9BAF-AB3EB113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FB494-C826-4955-833F-85195D9D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4F2FCC1-DFA5-454D-8461-32695161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70D262F-5026-49CC-92F4-A449299F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9F2BC48-EA98-4120-9AFE-84DE5081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49D7BA5-213A-4F44-9E22-5ED29BD3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A84BA0E-C621-4A8A-A5A5-E9B26620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191D569-CB7C-4A56-8E75-0E287B50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255CF6A-B2A3-45FF-B36D-61E33200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D2F8FE2-17BA-41DF-816E-322ACF39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5E9B39C-3BBE-4133-953A-FD09B233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D797A14-5CE5-41C4-AA0A-ADAA31E9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69633-4329-43BA-98FA-1A9772FA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EB67C21-E741-4D79-BAA9-F0F7DAEC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A5136E1-76CF-4D2D-A169-29D3CCCA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C21B775-518E-4D5B-A512-0BA0ABC6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40CEA4D-86E9-4A26-87ED-C7EB624F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0F8ADDD-5A5E-4F1B-8B8C-1F7CFBE1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3DD9110-1823-4DC6-9825-4A7C0BBD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218FC0F-A339-4ABE-82B9-AC473787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33F38DC-4812-4459-89AC-F8A0DEC2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8535C0B-B47D-42D5-9962-B26A85E1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3AF7581-CB3A-47C2-9788-EBE14884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4389A-EEF9-4A97-A64F-F85F0C4B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DE49953-D608-46EE-8513-0369316A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C7EB37F-9B2F-4490-9F3B-8BDDF1AB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89733D5-0BAE-4FC9-92FE-553E7237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91EE06B-35C7-4623-B6C3-F1B20BF0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7DBC691-2331-42F0-BCD6-A20ACFD6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6B38BD2-B442-4C57-9543-845FC7AC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C05C281-4C36-4968-8E89-75A1A0E4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8C1C4E0-54EF-451D-BF6F-B1445376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C78C8C9-DD98-427D-A6DF-F8299FA0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3DAF195-148E-4BB4-93CF-C4E87F95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9BEC4-7719-45C1-9345-C1E2DE06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55155F4-8B53-4C5D-A38E-87DDACFA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E10B4B0-E02D-4F1F-A13D-6E877C44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AE64BC2-BE74-41FE-94F0-6CEFC37C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C0A02BD-EA27-495D-8774-C22D5BBA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4CF61E1-492B-453B-95DC-1D6FDD25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6550608-2EC6-491A-B1A1-85B84FA7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85B9DD2-1D1C-4A40-AC53-83F1E1A7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554F131-A0E0-4A73-ADD2-8E268782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591EB6B-B938-4C7B-9760-31F31948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0951265-4852-41B2-B8F1-4AF574A5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17522-25CA-41FB-AB20-135433A0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B4AE763-2DFB-4CEF-B505-2CD53656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F6CB22A-AD08-4468-A1D7-920776EA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C9D0DB0-77E2-4DA0-926F-DC27FE29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994F5EB-84EF-4602-9F70-495C7793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3C1D99D-61FE-4A37-9716-8F43177C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52A9673-1A33-4F23-97D8-09E2E939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2C8ABF1-89FE-4F6B-B6DD-373B766D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A5365C3-3C15-4937-B0FF-556EE39D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1A11549-AF97-40E7-8707-E21AF3D5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9A592FF-11FB-4F6E-A96E-7A344FCB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9269A-7198-430E-AEF0-A2F303E8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BF6DC28-0B6E-439E-9C61-405DB533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9BBDE98-D317-42BE-8133-8C03AD85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81E7AE4-3C23-4154-84DE-B3274A9A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E98BD14-5EC9-46C4-92FD-8FC0EB80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994F93F-EAD2-4B64-AFCA-3604098A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7AE21CA-5CFD-47E7-8669-D885E330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6E4B26E-D521-4A9A-A96E-8A55DB8A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B80DA86-9DC5-42D0-9F89-EB2AFE2B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F63A065-96A1-4DCC-AA5A-F46D3504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191C993-F063-479F-8F87-5C6A5FC8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C6235-ABC5-4452-88C8-0FCB39B3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28C44D3-09AA-467D-84FC-2D636739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C7AC14A-0F9E-44BC-AC92-B83589FC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4432805-96F4-4CEA-BCEF-41666085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74CE9C6-0971-40CD-A7B9-82BC0E78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F13AC8B-0D1B-41BB-91AF-1C446121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9CC95D5-0E55-4046-8D11-5EB07B1D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79051D5-39FB-4052-8AB3-63D33E83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5C23949-CA27-4A60-BC5D-62B096AC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9036DA0-C4B7-418F-884B-4A33771F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C9B96E7-31A7-4F3E-AED9-03B0572A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ADE79-1996-4991-937D-A8912F43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2DFB579-70AB-4A8B-9DC6-E6C7311A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08482A6-20A4-4E33-8DCF-78A80416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83429C5-1823-4037-B4F7-7DD0410E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D0BF75E-835E-4CA0-A99D-816D53A7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81FAD9E-4F1D-4434-A241-AFE0EEDE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DA83BBA-9E34-405C-AEB3-17F917A9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6E0D536-9848-4DE2-A417-4FF327D1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2BC8901-BC7B-47EF-B688-045D5E61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CE8342C-061A-4EB0-940E-168F5B51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1ADC7C7-A0DF-4E38-A261-1AFA736F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7EECB-89FC-47A7-9770-97830B73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F3EA7D9-85F4-4664-9198-009FEA60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BB3894C-1B31-48D4-9317-EC84F2BA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4563905-A9FE-4E19-BCC4-5CFA606F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FE1657B-E4DF-4832-ABBB-2CC8661C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94DB8F4-E836-4405-BEAD-22A4F195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8C9A3E9-3660-4D58-A1C4-D334F85A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B0A3714-7274-4479-83D8-B312328D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B1310EA-F8BD-4B8B-962C-587279B4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67CAAD5-CE28-4DC3-903F-40F18922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576610C-8ADE-4418-A1A9-82B36198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0A30-7A87-479B-B6CF-69F83DEF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4AD3C-0D9E-4FA4-BCD7-D9B4B51B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92C1DB9-8FC0-4C3B-9D02-8DC700BA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1FB2EB3-CE52-42B0-A5ED-2E2A7CBE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15A74D9-824F-4A95-A82F-9F678825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807C088-8389-4D32-B704-72F80335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4E067D8-C5DF-40A2-B0AD-889A0D46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74946F9-2FDF-4DF3-AF18-F8A28C7E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5216205-5C85-480D-BFE2-86DE01B9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7A28B2A-0CB4-4C56-9074-49E8D46C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C294FE9-0B45-4B9D-BA38-6F48B3CB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16BE397-5BE4-4B61-A85D-77FB9711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F2D29-99A5-42C2-BDD3-B3C20FE8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8E76A14-BBCB-4372-929C-06845414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6ECCFCF-64C5-46F4-A055-B1FE5F0F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7F48B5D-446D-46D8-94D7-21A1954B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09EACB4-366D-4768-9F9E-3AC5B98F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EF3AB9A-5787-4FF7-B771-3B33644A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7A8D86A-9670-40F1-9C72-646D1461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8C21863-EF03-4155-9AAF-47009953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CA66380-C107-4159-8562-6062B72E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46AB9D0-8902-4807-A9AF-D9712A58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F76CE6A-61BE-4B4D-9057-8BDBFC2A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3C908-449A-4C81-9CFE-0F54E7EA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58BE03F-600C-4DA5-8EE6-7B70F1FD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5BDE564-B6E5-4671-8F8E-E3DF969B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82AA6B2-E62D-4F28-9FE5-5204B2C0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D9328E3-A5D9-4DDE-BAE4-763AC9F6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3DD35F1-DFE7-41B7-9D33-DF4966AD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AB600C59-9D50-4EED-97F4-07C47F11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2888598-4363-4058-9AF3-C469E8BC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FFCF0DF-9973-4238-8DD4-3F82CECB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A541571-1B67-4A4E-9EFF-3D37E8CE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6E16792-0A24-40B4-A3D6-48E42494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19B76-3CEF-4976-BD5D-17F26B1E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3373E09-2187-43F0-9F2F-C37B4253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AA9E58B0-9215-41BF-84AC-19A99014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B623BBB-C34E-4475-A1E7-C8E4D1BC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08C7825-BC62-43FB-A7D0-3D8B1FFD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062681F-C8B1-4724-84A6-9979BE9D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1CCFAF6-9D2B-40BD-B0A3-1694F12E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A5CAB09-1BAC-4BC5-A0C9-80DF4634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B8650CA-20D5-4A72-B3E4-18419E14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C80AEA2-A102-4D7D-BD25-B5038D8F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2B08ACF-4849-4612-92EE-0148815A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AE27C-ACBF-47C5-BA29-B9F28067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7D6E8D1-3797-4F90-9282-3D8B473A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2DF85C4-D2C1-4D73-A9E9-F36A06D3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F27E34E-0491-4048-92F9-CFC782E2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4DF83AC-14CE-4B30-A006-3729A5BA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DDFA650-A72D-429E-A30B-1DE162D7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DB3486D-B831-4BD3-87EC-BF9B533E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CF09E93-0CE5-43C8-87E6-562C7356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4C65C29-4813-404E-B26B-0A4DFE4C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B4FF562-0967-4289-85F0-8059F717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479E737-617F-45BB-87DD-B78A0335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CCB7E-888C-4A4A-9359-7491A864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4E53419-925D-4A34-BACE-1A8F4C5C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F03BE80-E883-4C4D-996E-714CAD18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51231DA-202D-4E20-8AD3-4D6AC39B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7D64A27-1D76-4631-A7F8-304D7C2A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B039EFA-46DF-4E77-8716-D1CAB402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AFEC200-94CB-437D-B3C0-32153F0A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5C1D664-1987-4E70-92A8-D560212C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A32EE54-85E4-4AC0-A6D4-F6C3F35F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9E8455F-F96D-4CEC-84EE-405648AF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BC6DC84-DCC3-4482-B031-55BD3E7B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48235-E19C-4046-99A0-C12E7230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356F586-CF92-4FA7-9F8B-4ED05A90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17DEC24-6395-4A5F-A41C-9807970F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8A64C0E-DD5F-4497-B5CE-493B7F01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3D3BFFF-2482-4182-9059-391DAAAE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AAEE680-BE38-4F05-ABD7-33864D63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14BF654-1BF5-4A92-B297-56AF31C3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53BFB02-9A96-432C-BAA8-5DF5A744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E84E276-250C-4C0B-8643-29F640B3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313C945-E33D-456E-B44A-C51D5DDB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644132C-7C95-434E-9D28-0450E716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69058-F140-4DCB-9AE3-0954F50F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A1460E2-A86E-4333-A06D-693585FD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922819A-E6FA-4050-A03E-97D223C1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FA95A15-E464-4012-AF0E-90E8B3E5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4ED22FD-05AF-427E-84B6-3A78A18C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8EC5055-BA9C-4478-B2C5-B208BB62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FAED40D-10FC-47A9-93F5-A618D5F6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09E0E3A-3B89-4EE9-B92F-3BA23175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9BC3400-0F3F-4326-AAEB-DD4AD9A6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D4D63B5-C22C-44FA-B850-A82FC13C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B2DDE09-E74F-4CBA-BF6C-541BA66A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38225-A270-455E-8A1C-59F3DA80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15C122B-C2A5-4116-907E-640EE71D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E0CD298-F7ED-4784-BC80-576276B3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F33A94D-7EA5-4057-9A5B-470B39EA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898802D-FBE8-409C-9D23-5E5F98FF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84B4C9D-1A3C-4F06-B6CE-53BD6E3A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A516F98-A6F0-448B-9E12-04C5AD0B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D25EF7E-07A7-4BA9-9640-5E80D1FA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DBC9FF2-91B0-45E9-B5DF-E32DCDB5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0D464D3-1330-4794-B407-A58BFF03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3613C39-01EF-48D2-AE8E-6EA75F83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25720-7CDE-458A-BDD8-25A83185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1B1AC07-3105-4143-B2FC-4121EE9D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B40C7EC-B81C-467F-9EBA-D90E6258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0470037-D4F6-4674-8D42-1218C05F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8C5045B-C46C-48E7-A873-607AFA0F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E4EAE58-24EC-4D19-A6BA-4670E8DC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A1661C8-65CC-48CB-8A93-BF488A76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67E59BE-BA34-4A61-A557-1DB27BAA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F1A7434-8618-40AA-B006-41C297E1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194C36F-185A-4908-9FB7-2BE8F1F9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B8B9888-A4DA-4B79-9252-4C72BD0F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slideLayout" Target="../slideLayouts/slideLayout1477.xml"/><Relationship Id="rId3" Type="http://schemas.openxmlformats.org/officeDocument/2006/relationships/slideLayout" Target="../slideLayouts/slideLayout1478.xml"/><Relationship Id="rId4" Type="http://schemas.openxmlformats.org/officeDocument/2006/relationships/slideLayout" Target="../slideLayouts/slideLayout1479.xml"/><Relationship Id="rId5" Type="http://schemas.openxmlformats.org/officeDocument/2006/relationships/slideLayout" Target="../slideLayouts/slideLayout1480.xml"/><Relationship Id="rId6" Type="http://schemas.openxmlformats.org/officeDocument/2006/relationships/slideLayout" Target="../slideLayouts/slideLayout1481.xml"/><Relationship Id="rId7" Type="http://schemas.openxmlformats.org/officeDocument/2006/relationships/slideLayout" Target="../slideLayouts/slideLayout1482.xml"/><Relationship Id="rId8" Type="http://schemas.openxmlformats.org/officeDocument/2006/relationships/slideLayout" Target="../slideLayouts/slideLayout1483.xml"/><Relationship Id="rId9" Type="http://schemas.openxmlformats.org/officeDocument/2006/relationships/slideLayout" Target="../slideLayouts/slideLayout1484.xml"/><Relationship Id="rId10" Type="http://schemas.openxmlformats.org/officeDocument/2006/relationships/slideLayout" Target="../slideLayouts/slideLayout1485.xml"/><Relationship Id="rId11" Type="http://schemas.openxmlformats.org/officeDocument/2006/relationships/slideLayout" Target="../slideLayouts/slideLayout1486.xml"/><Relationship Id="rId12" Type="http://schemas.openxmlformats.org/officeDocument/2006/relationships/slideLayout" Target="../slideLayouts/slideLayout1487.xml"/><Relationship Id="rId13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33.xml.rels><?xml version="1.0" encoding="UTF-8"?>
<Relationships xmlns="http://schemas.openxmlformats.org/package/2006/relationships"><Relationship Id="rId1" Type="http://schemas.openxmlformats.org/officeDocument/2006/relationships/theme" Target="../theme/theme133.xml"/><Relationship Id="rId2" Type="http://schemas.openxmlformats.org/officeDocument/2006/relationships/slideLayout" Target="../slideLayouts/slideLayout1585.xml"/><Relationship Id="rId3" Type="http://schemas.openxmlformats.org/officeDocument/2006/relationships/slideLayout" Target="../slideLayouts/slideLayout1586.xml"/><Relationship Id="rId4" Type="http://schemas.openxmlformats.org/officeDocument/2006/relationships/slideLayout" Target="../slideLayouts/slideLayout1587.xml"/><Relationship Id="rId5" Type="http://schemas.openxmlformats.org/officeDocument/2006/relationships/slideLayout" Target="../slideLayouts/slideLayout1588.xml"/><Relationship Id="rId6" Type="http://schemas.openxmlformats.org/officeDocument/2006/relationships/slideLayout" Target="../slideLayouts/slideLayout1589.xml"/><Relationship Id="rId7" Type="http://schemas.openxmlformats.org/officeDocument/2006/relationships/slideLayout" Target="../slideLayouts/slideLayout1590.xml"/><Relationship Id="rId8" Type="http://schemas.openxmlformats.org/officeDocument/2006/relationships/slideLayout" Target="../slideLayouts/slideLayout1591.xml"/><Relationship Id="rId9" Type="http://schemas.openxmlformats.org/officeDocument/2006/relationships/slideLayout" Target="../slideLayouts/slideLayout1592.xml"/><Relationship Id="rId10" Type="http://schemas.openxmlformats.org/officeDocument/2006/relationships/slideLayout" Target="../slideLayouts/slideLayout1593.xml"/><Relationship Id="rId11" Type="http://schemas.openxmlformats.org/officeDocument/2006/relationships/slideLayout" Target="../slideLayouts/slideLayout1594.xml"/><Relationship Id="rId12" Type="http://schemas.openxmlformats.org/officeDocument/2006/relationships/slideLayout" Target="../slideLayouts/slideLayout1595.xml"/><Relationship Id="rId13" Type="http://schemas.openxmlformats.org/officeDocument/2006/relationships/slideLayout" Target="../slideLayouts/slideLayout1596.xml"/>
</Relationships>
</file>

<file path=ppt/slideMasters/_rels/slideMaster134.xml.rels><?xml version="1.0" encoding="UTF-8"?>
<Relationships xmlns="http://schemas.openxmlformats.org/package/2006/relationships"><Relationship Id="rId1" Type="http://schemas.openxmlformats.org/officeDocument/2006/relationships/theme" Target="../theme/theme134.xml"/><Relationship Id="rId2" Type="http://schemas.openxmlformats.org/officeDocument/2006/relationships/slideLayout" Target="../slideLayouts/slideLayout1597.xml"/><Relationship Id="rId3" Type="http://schemas.openxmlformats.org/officeDocument/2006/relationships/slideLayout" Target="../slideLayouts/slideLayout1598.xml"/><Relationship Id="rId4" Type="http://schemas.openxmlformats.org/officeDocument/2006/relationships/slideLayout" Target="../slideLayouts/slideLayout1599.xml"/><Relationship Id="rId5" Type="http://schemas.openxmlformats.org/officeDocument/2006/relationships/slideLayout" Target="../slideLayouts/slideLayout1600.xml"/><Relationship Id="rId6" Type="http://schemas.openxmlformats.org/officeDocument/2006/relationships/slideLayout" Target="../slideLayouts/slideLayout1601.xml"/><Relationship Id="rId7" Type="http://schemas.openxmlformats.org/officeDocument/2006/relationships/slideLayout" Target="../slideLayouts/slideLayout1602.xml"/><Relationship Id="rId8" Type="http://schemas.openxmlformats.org/officeDocument/2006/relationships/slideLayout" Target="../slideLayouts/slideLayout1603.xml"/><Relationship Id="rId9" Type="http://schemas.openxmlformats.org/officeDocument/2006/relationships/slideLayout" Target="../slideLayouts/slideLayout1604.xml"/><Relationship Id="rId10" Type="http://schemas.openxmlformats.org/officeDocument/2006/relationships/slideLayout" Target="../slideLayouts/slideLayout1605.xml"/><Relationship Id="rId11" Type="http://schemas.openxmlformats.org/officeDocument/2006/relationships/slideLayout" Target="../slideLayouts/slideLayout1606.xml"/><Relationship Id="rId12" Type="http://schemas.openxmlformats.org/officeDocument/2006/relationships/slideLayout" Target="../slideLayouts/slideLayout1607.xml"/><Relationship Id="rId13" Type="http://schemas.openxmlformats.org/officeDocument/2006/relationships/slideLayout" Target="../slideLayouts/slideLayout1608.xml"/>
</Relationships>
</file>

<file path=ppt/slideMasters/_rels/slideMaster135.xml.rels><?xml version="1.0" encoding="UTF-8"?>
<Relationships xmlns="http://schemas.openxmlformats.org/package/2006/relationships"><Relationship Id="rId1" Type="http://schemas.openxmlformats.org/officeDocument/2006/relationships/theme" Target="../theme/theme135.xml"/><Relationship Id="rId2" Type="http://schemas.openxmlformats.org/officeDocument/2006/relationships/slideLayout" Target="../slideLayouts/slideLayout1609.xml"/><Relationship Id="rId3" Type="http://schemas.openxmlformats.org/officeDocument/2006/relationships/slideLayout" Target="../slideLayouts/slideLayout1610.xml"/><Relationship Id="rId4" Type="http://schemas.openxmlformats.org/officeDocument/2006/relationships/slideLayout" Target="../slideLayouts/slideLayout1611.xml"/><Relationship Id="rId5" Type="http://schemas.openxmlformats.org/officeDocument/2006/relationships/slideLayout" Target="../slideLayouts/slideLayout1612.xml"/><Relationship Id="rId6" Type="http://schemas.openxmlformats.org/officeDocument/2006/relationships/slideLayout" Target="../slideLayouts/slideLayout1613.xml"/><Relationship Id="rId7" Type="http://schemas.openxmlformats.org/officeDocument/2006/relationships/slideLayout" Target="../slideLayouts/slideLayout1614.xml"/><Relationship Id="rId8" Type="http://schemas.openxmlformats.org/officeDocument/2006/relationships/slideLayout" Target="../slideLayouts/slideLayout1615.xml"/><Relationship Id="rId9" Type="http://schemas.openxmlformats.org/officeDocument/2006/relationships/slideLayout" Target="../slideLayouts/slideLayout1616.xml"/><Relationship Id="rId10" Type="http://schemas.openxmlformats.org/officeDocument/2006/relationships/slideLayout" Target="../slideLayouts/slideLayout1617.xml"/><Relationship Id="rId11" Type="http://schemas.openxmlformats.org/officeDocument/2006/relationships/slideLayout" Target="../slideLayouts/slideLayout1618.xml"/><Relationship Id="rId12" Type="http://schemas.openxmlformats.org/officeDocument/2006/relationships/slideLayout" Target="../slideLayouts/slideLayout1619.xml"/><Relationship Id="rId13" Type="http://schemas.openxmlformats.org/officeDocument/2006/relationships/slideLayout" Target="../slideLayouts/slideLayout1620.xml"/>
</Relationships>
</file>

<file path=ppt/slideMasters/_rels/slideMaster136.xml.rels><?xml version="1.0" encoding="UTF-8"?>
<Relationships xmlns="http://schemas.openxmlformats.org/package/2006/relationships"><Relationship Id="rId1" Type="http://schemas.openxmlformats.org/officeDocument/2006/relationships/theme" Target="../theme/theme136.xml"/><Relationship Id="rId2" Type="http://schemas.openxmlformats.org/officeDocument/2006/relationships/slideLayout" Target="../slideLayouts/slideLayout1621.xml"/><Relationship Id="rId3" Type="http://schemas.openxmlformats.org/officeDocument/2006/relationships/slideLayout" Target="../slideLayouts/slideLayout1622.xml"/><Relationship Id="rId4" Type="http://schemas.openxmlformats.org/officeDocument/2006/relationships/slideLayout" Target="../slideLayouts/slideLayout1623.xml"/><Relationship Id="rId5" Type="http://schemas.openxmlformats.org/officeDocument/2006/relationships/slideLayout" Target="../slideLayouts/slideLayout1624.xml"/><Relationship Id="rId6" Type="http://schemas.openxmlformats.org/officeDocument/2006/relationships/slideLayout" Target="../slideLayouts/slideLayout1625.xml"/><Relationship Id="rId7" Type="http://schemas.openxmlformats.org/officeDocument/2006/relationships/slideLayout" Target="../slideLayouts/slideLayout1626.xml"/><Relationship Id="rId8" Type="http://schemas.openxmlformats.org/officeDocument/2006/relationships/slideLayout" Target="../slideLayouts/slideLayout1627.xml"/><Relationship Id="rId9" Type="http://schemas.openxmlformats.org/officeDocument/2006/relationships/slideLayout" Target="../slideLayouts/slideLayout1628.xml"/><Relationship Id="rId10" Type="http://schemas.openxmlformats.org/officeDocument/2006/relationships/slideLayout" Target="../slideLayouts/slideLayout1629.xml"/><Relationship Id="rId11" Type="http://schemas.openxmlformats.org/officeDocument/2006/relationships/slideLayout" Target="../slideLayouts/slideLayout1630.xml"/><Relationship Id="rId12" Type="http://schemas.openxmlformats.org/officeDocument/2006/relationships/slideLayout" Target="../slideLayouts/slideLayout1631.xml"/><Relationship Id="rId13" Type="http://schemas.openxmlformats.org/officeDocument/2006/relationships/slideLayout" Target="../slideLayouts/slideLayout1632.xml"/>
</Relationships>
</file>

<file path=ppt/slideMasters/_rels/slideMaster137.xml.rels><?xml version="1.0" encoding="UTF-8"?>
<Relationships xmlns="http://schemas.openxmlformats.org/package/2006/relationships"><Relationship Id="rId1" Type="http://schemas.openxmlformats.org/officeDocument/2006/relationships/theme" Target="../theme/theme137.xml"/><Relationship Id="rId2" Type="http://schemas.openxmlformats.org/officeDocument/2006/relationships/slideLayout" Target="../slideLayouts/slideLayout1633.xml"/><Relationship Id="rId3" Type="http://schemas.openxmlformats.org/officeDocument/2006/relationships/slideLayout" Target="../slideLayouts/slideLayout1634.xml"/><Relationship Id="rId4" Type="http://schemas.openxmlformats.org/officeDocument/2006/relationships/slideLayout" Target="../slideLayouts/slideLayout1635.xml"/><Relationship Id="rId5" Type="http://schemas.openxmlformats.org/officeDocument/2006/relationships/slideLayout" Target="../slideLayouts/slideLayout1636.xml"/><Relationship Id="rId6" Type="http://schemas.openxmlformats.org/officeDocument/2006/relationships/slideLayout" Target="../slideLayouts/slideLayout1637.xml"/><Relationship Id="rId7" Type="http://schemas.openxmlformats.org/officeDocument/2006/relationships/slideLayout" Target="../slideLayouts/slideLayout1638.xml"/><Relationship Id="rId8" Type="http://schemas.openxmlformats.org/officeDocument/2006/relationships/slideLayout" Target="../slideLayouts/slideLayout1639.xml"/><Relationship Id="rId9" Type="http://schemas.openxmlformats.org/officeDocument/2006/relationships/slideLayout" Target="../slideLayouts/slideLayout1640.xml"/><Relationship Id="rId10" Type="http://schemas.openxmlformats.org/officeDocument/2006/relationships/slideLayout" Target="../slideLayouts/slideLayout1641.xml"/><Relationship Id="rId11" Type="http://schemas.openxmlformats.org/officeDocument/2006/relationships/slideLayout" Target="../slideLayouts/slideLayout1642.xml"/><Relationship Id="rId12" Type="http://schemas.openxmlformats.org/officeDocument/2006/relationships/slideLayout" Target="../slideLayouts/slideLayout1643.xml"/><Relationship Id="rId13" Type="http://schemas.openxmlformats.org/officeDocument/2006/relationships/slideLayout" Target="../slideLayouts/slideLayout1644.xml"/>
</Relationships>
</file>

<file path=ppt/slideMasters/_rels/slideMaster138.xml.rels><?xml version="1.0" encoding="UTF-8"?>
<Relationships xmlns="http://schemas.openxmlformats.org/package/2006/relationships"><Relationship Id="rId1" Type="http://schemas.openxmlformats.org/officeDocument/2006/relationships/theme" Target="../theme/theme138.xml"/><Relationship Id="rId2" Type="http://schemas.openxmlformats.org/officeDocument/2006/relationships/slideLayout" Target="../slideLayouts/slideLayout1645.xml"/><Relationship Id="rId3" Type="http://schemas.openxmlformats.org/officeDocument/2006/relationships/slideLayout" Target="../slideLayouts/slideLayout1646.xml"/><Relationship Id="rId4" Type="http://schemas.openxmlformats.org/officeDocument/2006/relationships/slideLayout" Target="../slideLayouts/slideLayout1647.xml"/><Relationship Id="rId5" Type="http://schemas.openxmlformats.org/officeDocument/2006/relationships/slideLayout" Target="../slideLayouts/slideLayout1648.xml"/><Relationship Id="rId6" Type="http://schemas.openxmlformats.org/officeDocument/2006/relationships/slideLayout" Target="../slideLayouts/slideLayout1649.xml"/><Relationship Id="rId7" Type="http://schemas.openxmlformats.org/officeDocument/2006/relationships/slideLayout" Target="../slideLayouts/slideLayout1650.xml"/><Relationship Id="rId8" Type="http://schemas.openxmlformats.org/officeDocument/2006/relationships/slideLayout" Target="../slideLayouts/slideLayout1651.xml"/><Relationship Id="rId9" Type="http://schemas.openxmlformats.org/officeDocument/2006/relationships/slideLayout" Target="../slideLayouts/slideLayout1652.xml"/><Relationship Id="rId10" Type="http://schemas.openxmlformats.org/officeDocument/2006/relationships/slideLayout" Target="../slideLayouts/slideLayout1653.xml"/><Relationship Id="rId11" Type="http://schemas.openxmlformats.org/officeDocument/2006/relationships/slideLayout" Target="../slideLayouts/slideLayout1654.xml"/><Relationship Id="rId12" Type="http://schemas.openxmlformats.org/officeDocument/2006/relationships/slideLayout" Target="../slideLayouts/slideLayout1655.xml"/><Relationship Id="rId13" Type="http://schemas.openxmlformats.org/officeDocument/2006/relationships/slideLayout" Target="../slideLayouts/slideLayout1656.xml"/>
</Relationships>
</file>

<file path=ppt/slideMasters/_rels/slideMaster139.xml.rels><?xml version="1.0" encoding="UTF-8"?>
<Relationships xmlns="http://schemas.openxmlformats.org/package/2006/relationships"><Relationship Id="rId1" Type="http://schemas.openxmlformats.org/officeDocument/2006/relationships/theme" Target="../theme/theme139.xml"/><Relationship Id="rId2" Type="http://schemas.openxmlformats.org/officeDocument/2006/relationships/slideLayout" Target="../slideLayouts/slideLayout1657.xml"/><Relationship Id="rId3" Type="http://schemas.openxmlformats.org/officeDocument/2006/relationships/slideLayout" Target="../slideLayouts/slideLayout1658.xml"/><Relationship Id="rId4" Type="http://schemas.openxmlformats.org/officeDocument/2006/relationships/slideLayout" Target="../slideLayouts/slideLayout1659.xml"/><Relationship Id="rId5" Type="http://schemas.openxmlformats.org/officeDocument/2006/relationships/slideLayout" Target="../slideLayouts/slideLayout1660.xml"/><Relationship Id="rId6" Type="http://schemas.openxmlformats.org/officeDocument/2006/relationships/slideLayout" Target="../slideLayouts/slideLayout1661.xml"/><Relationship Id="rId7" Type="http://schemas.openxmlformats.org/officeDocument/2006/relationships/slideLayout" Target="../slideLayouts/slideLayout1662.xml"/><Relationship Id="rId8" Type="http://schemas.openxmlformats.org/officeDocument/2006/relationships/slideLayout" Target="../slideLayouts/slideLayout1663.xml"/><Relationship Id="rId9" Type="http://schemas.openxmlformats.org/officeDocument/2006/relationships/slideLayout" Target="../slideLayouts/slideLayout1664.xml"/><Relationship Id="rId10" Type="http://schemas.openxmlformats.org/officeDocument/2006/relationships/slideLayout" Target="../slideLayouts/slideLayout1665.xml"/><Relationship Id="rId11" Type="http://schemas.openxmlformats.org/officeDocument/2006/relationships/slideLayout" Target="../slideLayouts/slideLayout1666.xml"/><Relationship Id="rId12" Type="http://schemas.openxmlformats.org/officeDocument/2006/relationships/slideLayout" Target="../slideLayouts/slideLayout1667.xml"/><Relationship Id="rId13" Type="http://schemas.openxmlformats.org/officeDocument/2006/relationships/slideLayout" Target="../slideLayouts/slideLayout1668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40.xml.rels><?xml version="1.0" encoding="UTF-8"?>
<Relationships xmlns="http://schemas.openxmlformats.org/package/2006/relationships"><Relationship Id="rId1" Type="http://schemas.openxmlformats.org/officeDocument/2006/relationships/theme" Target="../theme/theme140.xml"/><Relationship Id="rId2" Type="http://schemas.openxmlformats.org/officeDocument/2006/relationships/slideLayout" Target="../slideLayouts/slideLayout1669.xml"/><Relationship Id="rId3" Type="http://schemas.openxmlformats.org/officeDocument/2006/relationships/slideLayout" Target="../slideLayouts/slideLayout1670.xml"/><Relationship Id="rId4" Type="http://schemas.openxmlformats.org/officeDocument/2006/relationships/slideLayout" Target="../slideLayouts/slideLayout1671.xml"/><Relationship Id="rId5" Type="http://schemas.openxmlformats.org/officeDocument/2006/relationships/slideLayout" Target="../slideLayouts/slideLayout1672.xml"/><Relationship Id="rId6" Type="http://schemas.openxmlformats.org/officeDocument/2006/relationships/slideLayout" Target="../slideLayouts/slideLayout1673.xml"/><Relationship Id="rId7" Type="http://schemas.openxmlformats.org/officeDocument/2006/relationships/slideLayout" Target="../slideLayouts/slideLayout1674.xml"/><Relationship Id="rId8" Type="http://schemas.openxmlformats.org/officeDocument/2006/relationships/slideLayout" Target="../slideLayouts/slideLayout1675.xml"/><Relationship Id="rId9" Type="http://schemas.openxmlformats.org/officeDocument/2006/relationships/slideLayout" Target="../slideLayouts/slideLayout1676.xml"/><Relationship Id="rId10" Type="http://schemas.openxmlformats.org/officeDocument/2006/relationships/slideLayout" Target="../slideLayouts/slideLayout1677.xml"/><Relationship Id="rId11" Type="http://schemas.openxmlformats.org/officeDocument/2006/relationships/slideLayout" Target="../slideLayouts/slideLayout1678.xml"/><Relationship Id="rId12" Type="http://schemas.openxmlformats.org/officeDocument/2006/relationships/slideLayout" Target="../slideLayouts/slideLayout1679.xml"/><Relationship Id="rId13" Type="http://schemas.openxmlformats.org/officeDocument/2006/relationships/slideLayout" Target="../slideLayouts/slideLayout1680.xml"/>
</Relationships>
</file>

<file path=ppt/slideMasters/_rels/slideMaster141.xml.rels><?xml version="1.0" encoding="UTF-8"?>
<Relationships xmlns="http://schemas.openxmlformats.org/package/2006/relationships"><Relationship Id="rId1" Type="http://schemas.openxmlformats.org/officeDocument/2006/relationships/theme" Target="../theme/theme141.xml"/><Relationship Id="rId2" Type="http://schemas.openxmlformats.org/officeDocument/2006/relationships/slideLayout" Target="../slideLayouts/slideLayout1681.xml"/><Relationship Id="rId3" Type="http://schemas.openxmlformats.org/officeDocument/2006/relationships/slideLayout" Target="../slideLayouts/slideLayout1682.xml"/><Relationship Id="rId4" Type="http://schemas.openxmlformats.org/officeDocument/2006/relationships/slideLayout" Target="../slideLayouts/slideLayout1683.xml"/><Relationship Id="rId5" Type="http://schemas.openxmlformats.org/officeDocument/2006/relationships/slideLayout" Target="../slideLayouts/slideLayout1684.xml"/><Relationship Id="rId6" Type="http://schemas.openxmlformats.org/officeDocument/2006/relationships/slideLayout" Target="../slideLayouts/slideLayout1685.xml"/><Relationship Id="rId7" Type="http://schemas.openxmlformats.org/officeDocument/2006/relationships/slideLayout" Target="../slideLayouts/slideLayout1686.xml"/><Relationship Id="rId8" Type="http://schemas.openxmlformats.org/officeDocument/2006/relationships/slideLayout" Target="../slideLayouts/slideLayout1687.xml"/><Relationship Id="rId9" Type="http://schemas.openxmlformats.org/officeDocument/2006/relationships/slideLayout" Target="../slideLayouts/slideLayout1688.xml"/><Relationship Id="rId10" Type="http://schemas.openxmlformats.org/officeDocument/2006/relationships/slideLayout" Target="../slideLayouts/slideLayout1689.xml"/><Relationship Id="rId11" Type="http://schemas.openxmlformats.org/officeDocument/2006/relationships/slideLayout" Target="../slideLayouts/slideLayout1690.xml"/><Relationship Id="rId12" Type="http://schemas.openxmlformats.org/officeDocument/2006/relationships/slideLayout" Target="../slideLayouts/slideLayout1691.xml"/><Relationship Id="rId13" Type="http://schemas.openxmlformats.org/officeDocument/2006/relationships/slideLayout" Target="../slideLayouts/slideLayout1692.xml"/>
</Relationships>
</file>

<file path=ppt/slideMasters/_rels/slideMaster142.xml.rels><?xml version="1.0" encoding="UTF-8"?>
<Relationships xmlns="http://schemas.openxmlformats.org/package/2006/relationships"><Relationship Id="rId1" Type="http://schemas.openxmlformats.org/officeDocument/2006/relationships/theme" Target="../theme/theme142.xml"/><Relationship Id="rId2" Type="http://schemas.openxmlformats.org/officeDocument/2006/relationships/slideLayout" Target="../slideLayouts/slideLayout1693.xml"/><Relationship Id="rId3" Type="http://schemas.openxmlformats.org/officeDocument/2006/relationships/slideLayout" Target="../slideLayouts/slideLayout1694.xml"/><Relationship Id="rId4" Type="http://schemas.openxmlformats.org/officeDocument/2006/relationships/slideLayout" Target="../slideLayouts/slideLayout1695.xml"/><Relationship Id="rId5" Type="http://schemas.openxmlformats.org/officeDocument/2006/relationships/slideLayout" Target="../slideLayouts/slideLayout1696.xml"/><Relationship Id="rId6" Type="http://schemas.openxmlformats.org/officeDocument/2006/relationships/slideLayout" Target="../slideLayouts/slideLayout1697.xml"/><Relationship Id="rId7" Type="http://schemas.openxmlformats.org/officeDocument/2006/relationships/slideLayout" Target="../slideLayouts/slideLayout1698.xml"/><Relationship Id="rId8" Type="http://schemas.openxmlformats.org/officeDocument/2006/relationships/slideLayout" Target="../slideLayouts/slideLayout1699.xml"/><Relationship Id="rId9" Type="http://schemas.openxmlformats.org/officeDocument/2006/relationships/slideLayout" Target="../slideLayouts/slideLayout1700.xml"/><Relationship Id="rId10" Type="http://schemas.openxmlformats.org/officeDocument/2006/relationships/slideLayout" Target="../slideLayouts/slideLayout1701.xml"/><Relationship Id="rId11" Type="http://schemas.openxmlformats.org/officeDocument/2006/relationships/slideLayout" Target="../slideLayouts/slideLayout1702.xml"/><Relationship Id="rId12" Type="http://schemas.openxmlformats.org/officeDocument/2006/relationships/slideLayout" Target="../slideLayouts/slideLayout1703.xml"/><Relationship Id="rId13" Type="http://schemas.openxmlformats.org/officeDocument/2006/relationships/slideLayout" Target="../slideLayouts/slideLayout1704.xml"/>
</Relationships>
</file>

<file path=ppt/slideMasters/_rels/slideMaster143.xml.rels><?xml version="1.0" encoding="UTF-8"?>
<Relationships xmlns="http://schemas.openxmlformats.org/package/2006/relationships"><Relationship Id="rId1" Type="http://schemas.openxmlformats.org/officeDocument/2006/relationships/theme" Target="../theme/theme143.xml"/><Relationship Id="rId2" Type="http://schemas.openxmlformats.org/officeDocument/2006/relationships/slideLayout" Target="../slideLayouts/slideLayout1705.xml"/><Relationship Id="rId3" Type="http://schemas.openxmlformats.org/officeDocument/2006/relationships/slideLayout" Target="../slideLayouts/slideLayout1706.xml"/><Relationship Id="rId4" Type="http://schemas.openxmlformats.org/officeDocument/2006/relationships/slideLayout" Target="../slideLayouts/slideLayout1707.xml"/><Relationship Id="rId5" Type="http://schemas.openxmlformats.org/officeDocument/2006/relationships/slideLayout" Target="../slideLayouts/slideLayout1708.xml"/><Relationship Id="rId6" Type="http://schemas.openxmlformats.org/officeDocument/2006/relationships/slideLayout" Target="../slideLayouts/slideLayout1709.xml"/><Relationship Id="rId7" Type="http://schemas.openxmlformats.org/officeDocument/2006/relationships/slideLayout" Target="../slideLayouts/slideLayout1710.xml"/><Relationship Id="rId8" Type="http://schemas.openxmlformats.org/officeDocument/2006/relationships/slideLayout" Target="../slideLayouts/slideLayout1711.xml"/><Relationship Id="rId9" Type="http://schemas.openxmlformats.org/officeDocument/2006/relationships/slideLayout" Target="../slideLayouts/slideLayout1712.xml"/><Relationship Id="rId10" Type="http://schemas.openxmlformats.org/officeDocument/2006/relationships/slideLayout" Target="../slideLayouts/slideLayout1713.xml"/><Relationship Id="rId11" Type="http://schemas.openxmlformats.org/officeDocument/2006/relationships/slideLayout" Target="../slideLayouts/slideLayout1714.xml"/><Relationship Id="rId12" Type="http://schemas.openxmlformats.org/officeDocument/2006/relationships/slideLayout" Target="../slideLayouts/slideLayout1715.xml"/><Relationship Id="rId13" Type="http://schemas.openxmlformats.org/officeDocument/2006/relationships/slideLayout" Target="../slideLayouts/slideLayout1716.xml"/>
</Relationships>
</file>

<file path=ppt/slideMasters/_rels/slideMaster144.xml.rels><?xml version="1.0" encoding="UTF-8"?>
<Relationships xmlns="http://schemas.openxmlformats.org/package/2006/relationships"><Relationship Id="rId1" Type="http://schemas.openxmlformats.org/officeDocument/2006/relationships/theme" Target="../theme/theme144.xml"/><Relationship Id="rId2" Type="http://schemas.openxmlformats.org/officeDocument/2006/relationships/slideLayout" Target="../slideLayouts/slideLayout1717.xml"/><Relationship Id="rId3" Type="http://schemas.openxmlformats.org/officeDocument/2006/relationships/slideLayout" Target="../slideLayouts/slideLayout1718.xml"/><Relationship Id="rId4" Type="http://schemas.openxmlformats.org/officeDocument/2006/relationships/slideLayout" Target="../slideLayouts/slideLayout1719.xml"/><Relationship Id="rId5" Type="http://schemas.openxmlformats.org/officeDocument/2006/relationships/slideLayout" Target="../slideLayouts/slideLayout1720.xml"/><Relationship Id="rId6" Type="http://schemas.openxmlformats.org/officeDocument/2006/relationships/slideLayout" Target="../slideLayouts/slideLayout1721.xml"/><Relationship Id="rId7" Type="http://schemas.openxmlformats.org/officeDocument/2006/relationships/slideLayout" Target="../slideLayouts/slideLayout1722.xml"/><Relationship Id="rId8" Type="http://schemas.openxmlformats.org/officeDocument/2006/relationships/slideLayout" Target="../slideLayouts/slideLayout1723.xml"/><Relationship Id="rId9" Type="http://schemas.openxmlformats.org/officeDocument/2006/relationships/slideLayout" Target="../slideLayouts/slideLayout1724.xml"/><Relationship Id="rId10" Type="http://schemas.openxmlformats.org/officeDocument/2006/relationships/slideLayout" Target="../slideLayouts/slideLayout1725.xml"/><Relationship Id="rId11" Type="http://schemas.openxmlformats.org/officeDocument/2006/relationships/slideLayout" Target="../slideLayouts/slideLayout1726.xml"/><Relationship Id="rId12" Type="http://schemas.openxmlformats.org/officeDocument/2006/relationships/slideLayout" Target="../slideLayouts/slideLayout1727.xml"/><Relationship Id="rId13" Type="http://schemas.openxmlformats.org/officeDocument/2006/relationships/slideLayout" Target="../slideLayouts/slideLayout1728.xml"/>
</Relationships>
</file>

<file path=ppt/slideMasters/_rels/slideMaster145.xml.rels><?xml version="1.0" encoding="UTF-8"?>
<Relationships xmlns="http://schemas.openxmlformats.org/package/2006/relationships"><Relationship Id="rId1" Type="http://schemas.openxmlformats.org/officeDocument/2006/relationships/theme" Target="../theme/theme145.xml"/><Relationship Id="rId2" Type="http://schemas.openxmlformats.org/officeDocument/2006/relationships/slideLayout" Target="../slideLayouts/slideLayout1729.xml"/><Relationship Id="rId3" Type="http://schemas.openxmlformats.org/officeDocument/2006/relationships/slideLayout" Target="../slideLayouts/slideLayout1730.xml"/><Relationship Id="rId4" Type="http://schemas.openxmlformats.org/officeDocument/2006/relationships/slideLayout" Target="../slideLayouts/slideLayout1731.xml"/><Relationship Id="rId5" Type="http://schemas.openxmlformats.org/officeDocument/2006/relationships/slideLayout" Target="../slideLayouts/slideLayout1732.xml"/><Relationship Id="rId6" Type="http://schemas.openxmlformats.org/officeDocument/2006/relationships/slideLayout" Target="../slideLayouts/slideLayout1733.xml"/><Relationship Id="rId7" Type="http://schemas.openxmlformats.org/officeDocument/2006/relationships/slideLayout" Target="../slideLayouts/slideLayout1734.xml"/><Relationship Id="rId8" Type="http://schemas.openxmlformats.org/officeDocument/2006/relationships/slideLayout" Target="../slideLayouts/slideLayout1735.xml"/><Relationship Id="rId9" Type="http://schemas.openxmlformats.org/officeDocument/2006/relationships/slideLayout" Target="../slideLayouts/slideLayout1736.xml"/><Relationship Id="rId10" Type="http://schemas.openxmlformats.org/officeDocument/2006/relationships/slideLayout" Target="../slideLayouts/slideLayout1737.xml"/><Relationship Id="rId11" Type="http://schemas.openxmlformats.org/officeDocument/2006/relationships/slideLayout" Target="../slideLayouts/slideLayout1738.xml"/><Relationship Id="rId12" Type="http://schemas.openxmlformats.org/officeDocument/2006/relationships/slideLayout" Target="../slideLayouts/slideLayout1739.xml"/><Relationship Id="rId13" Type="http://schemas.openxmlformats.org/officeDocument/2006/relationships/slideLayout" Target="../slideLayouts/slideLayout1740.xml"/>
</Relationships>
</file>

<file path=ppt/slideMasters/_rels/slideMaster146.xml.rels><?xml version="1.0" encoding="UTF-8"?>
<Relationships xmlns="http://schemas.openxmlformats.org/package/2006/relationships"><Relationship Id="rId1" Type="http://schemas.openxmlformats.org/officeDocument/2006/relationships/theme" Target="../theme/theme146.xml"/><Relationship Id="rId2" Type="http://schemas.openxmlformats.org/officeDocument/2006/relationships/slideLayout" Target="../slideLayouts/slideLayout1741.xml"/><Relationship Id="rId3" Type="http://schemas.openxmlformats.org/officeDocument/2006/relationships/slideLayout" Target="../slideLayouts/slideLayout1742.xml"/><Relationship Id="rId4" Type="http://schemas.openxmlformats.org/officeDocument/2006/relationships/slideLayout" Target="../slideLayouts/slideLayout1743.xml"/><Relationship Id="rId5" Type="http://schemas.openxmlformats.org/officeDocument/2006/relationships/slideLayout" Target="../slideLayouts/slideLayout1744.xml"/><Relationship Id="rId6" Type="http://schemas.openxmlformats.org/officeDocument/2006/relationships/slideLayout" Target="../slideLayouts/slideLayout1745.xml"/><Relationship Id="rId7" Type="http://schemas.openxmlformats.org/officeDocument/2006/relationships/slideLayout" Target="../slideLayouts/slideLayout1746.xml"/><Relationship Id="rId8" Type="http://schemas.openxmlformats.org/officeDocument/2006/relationships/slideLayout" Target="../slideLayouts/slideLayout1747.xml"/><Relationship Id="rId9" Type="http://schemas.openxmlformats.org/officeDocument/2006/relationships/slideLayout" Target="../slideLayouts/slideLayout1748.xml"/><Relationship Id="rId10" Type="http://schemas.openxmlformats.org/officeDocument/2006/relationships/slideLayout" Target="../slideLayouts/slideLayout1749.xml"/><Relationship Id="rId11" Type="http://schemas.openxmlformats.org/officeDocument/2006/relationships/slideLayout" Target="../slideLayouts/slideLayout1750.xml"/><Relationship Id="rId12" Type="http://schemas.openxmlformats.org/officeDocument/2006/relationships/slideLayout" Target="../slideLayouts/slideLayout1751.xml"/><Relationship Id="rId13" Type="http://schemas.openxmlformats.org/officeDocument/2006/relationships/slideLayout" Target="../slideLayouts/slideLayout1752.xml"/>
</Relationships>
</file>

<file path=ppt/slideMasters/_rels/slideMaster147.xml.rels><?xml version="1.0" encoding="UTF-8"?>
<Relationships xmlns="http://schemas.openxmlformats.org/package/2006/relationships"><Relationship Id="rId1" Type="http://schemas.openxmlformats.org/officeDocument/2006/relationships/theme" Target="../theme/theme147.xml"/><Relationship Id="rId2" Type="http://schemas.openxmlformats.org/officeDocument/2006/relationships/slideLayout" Target="../slideLayouts/slideLayout1753.xml"/><Relationship Id="rId3" Type="http://schemas.openxmlformats.org/officeDocument/2006/relationships/slideLayout" Target="../slideLayouts/slideLayout1754.xml"/><Relationship Id="rId4" Type="http://schemas.openxmlformats.org/officeDocument/2006/relationships/slideLayout" Target="../slideLayouts/slideLayout1755.xml"/><Relationship Id="rId5" Type="http://schemas.openxmlformats.org/officeDocument/2006/relationships/slideLayout" Target="../slideLayouts/slideLayout1756.xml"/><Relationship Id="rId6" Type="http://schemas.openxmlformats.org/officeDocument/2006/relationships/slideLayout" Target="../slideLayouts/slideLayout1757.xml"/><Relationship Id="rId7" Type="http://schemas.openxmlformats.org/officeDocument/2006/relationships/slideLayout" Target="../slideLayouts/slideLayout1758.xml"/><Relationship Id="rId8" Type="http://schemas.openxmlformats.org/officeDocument/2006/relationships/slideLayout" Target="../slideLayouts/slideLayout1759.xml"/><Relationship Id="rId9" Type="http://schemas.openxmlformats.org/officeDocument/2006/relationships/slideLayout" Target="../slideLayouts/slideLayout1760.xml"/><Relationship Id="rId10" Type="http://schemas.openxmlformats.org/officeDocument/2006/relationships/slideLayout" Target="../slideLayouts/slideLayout1761.xml"/><Relationship Id="rId11" Type="http://schemas.openxmlformats.org/officeDocument/2006/relationships/slideLayout" Target="../slideLayouts/slideLayout1762.xml"/><Relationship Id="rId12" Type="http://schemas.openxmlformats.org/officeDocument/2006/relationships/slideLayout" Target="../slideLayouts/slideLayout1763.xml"/><Relationship Id="rId13" Type="http://schemas.openxmlformats.org/officeDocument/2006/relationships/slideLayout" Target="../slideLayouts/slideLayout1764.xml"/>
</Relationships>
</file>

<file path=ppt/slideMasters/_rels/slideMaster148.xml.rels><?xml version="1.0" encoding="UTF-8"?>
<Relationships xmlns="http://schemas.openxmlformats.org/package/2006/relationships"><Relationship Id="rId1" Type="http://schemas.openxmlformats.org/officeDocument/2006/relationships/theme" Target="../theme/theme148.xml"/><Relationship Id="rId2" Type="http://schemas.openxmlformats.org/officeDocument/2006/relationships/slideLayout" Target="../slideLayouts/slideLayout1765.xml"/><Relationship Id="rId3" Type="http://schemas.openxmlformats.org/officeDocument/2006/relationships/slideLayout" Target="../slideLayouts/slideLayout1766.xml"/><Relationship Id="rId4" Type="http://schemas.openxmlformats.org/officeDocument/2006/relationships/slideLayout" Target="../slideLayouts/slideLayout1767.xml"/><Relationship Id="rId5" Type="http://schemas.openxmlformats.org/officeDocument/2006/relationships/slideLayout" Target="../slideLayouts/slideLayout1768.xml"/><Relationship Id="rId6" Type="http://schemas.openxmlformats.org/officeDocument/2006/relationships/slideLayout" Target="../slideLayouts/slideLayout1769.xml"/><Relationship Id="rId7" Type="http://schemas.openxmlformats.org/officeDocument/2006/relationships/slideLayout" Target="../slideLayouts/slideLayout1770.xml"/><Relationship Id="rId8" Type="http://schemas.openxmlformats.org/officeDocument/2006/relationships/slideLayout" Target="../slideLayouts/slideLayout1771.xml"/><Relationship Id="rId9" Type="http://schemas.openxmlformats.org/officeDocument/2006/relationships/slideLayout" Target="../slideLayouts/slideLayout1772.xml"/><Relationship Id="rId10" Type="http://schemas.openxmlformats.org/officeDocument/2006/relationships/slideLayout" Target="../slideLayouts/slideLayout1773.xml"/><Relationship Id="rId11" Type="http://schemas.openxmlformats.org/officeDocument/2006/relationships/slideLayout" Target="../slideLayouts/slideLayout1774.xml"/><Relationship Id="rId12" Type="http://schemas.openxmlformats.org/officeDocument/2006/relationships/slideLayout" Target="../slideLayouts/slideLayout1775.xml"/><Relationship Id="rId13" Type="http://schemas.openxmlformats.org/officeDocument/2006/relationships/slideLayout" Target="../slideLayouts/slideLayout1776.xml"/>
</Relationships>
</file>

<file path=ppt/slideMasters/_rels/slideMaster149.xml.rels><?xml version="1.0" encoding="UTF-8"?>
<Relationships xmlns="http://schemas.openxmlformats.org/package/2006/relationships"><Relationship Id="rId1" Type="http://schemas.openxmlformats.org/officeDocument/2006/relationships/theme" Target="../theme/theme149.xml"/><Relationship Id="rId2" Type="http://schemas.openxmlformats.org/officeDocument/2006/relationships/slideLayout" Target="../slideLayouts/slideLayout1777.xml"/><Relationship Id="rId3" Type="http://schemas.openxmlformats.org/officeDocument/2006/relationships/slideLayout" Target="../slideLayouts/slideLayout1778.xml"/><Relationship Id="rId4" Type="http://schemas.openxmlformats.org/officeDocument/2006/relationships/slideLayout" Target="../slideLayouts/slideLayout1779.xml"/><Relationship Id="rId5" Type="http://schemas.openxmlformats.org/officeDocument/2006/relationships/slideLayout" Target="../slideLayouts/slideLayout1780.xml"/><Relationship Id="rId6" Type="http://schemas.openxmlformats.org/officeDocument/2006/relationships/slideLayout" Target="../slideLayouts/slideLayout1781.xml"/><Relationship Id="rId7" Type="http://schemas.openxmlformats.org/officeDocument/2006/relationships/slideLayout" Target="../slideLayouts/slideLayout1782.xml"/><Relationship Id="rId8" Type="http://schemas.openxmlformats.org/officeDocument/2006/relationships/slideLayout" Target="../slideLayouts/slideLayout1783.xml"/><Relationship Id="rId9" Type="http://schemas.openxmlformats.org/officeDocument/2006/relationships/slideLayout" Target="../slideLayouts/slideLayout1784.xml"/><Relationship Id="rId10" Type="http://schemas.openxmlformats.org/officeDocument/2006/relationships/slideLayout" Target="../slideLayouts/slideLayout1785.xml"/><Relationship Id="rId11" Type="http://schemas.openxmlformats.org/officeDocument/2006/relationships/slideLayout" Target="../slideLayouts/slideLayout1786.xml"/><Relationship Id="rId12" Type="http://schemas.openxmlformats.org/officeDocument/2006/relationships/slideLayout" Target="../slideLayouts/slideLayout1787.xml"/><Relationship Id="rId13" Type="http://schemas.openxmlformats.org/officeDocument/2006/relationships/slideLayout" Target="../slideLayouts/slideLayout178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50.xml.rels><?xml version="1.0" encoding="UTF-8"?>
<Relationships xmlns="http://schemas.openxmlformats.org/package/2006/relationships"><Relationship Id="rId1" Type="http://schemas.openxmlformats.org/officeDocument/2006/relationships/theme" Target="../theme/theme150.xml"/><Relationship Id="rId2" Type="http://schemas.openxmlformats.org/officeDocument/2006/relationships/slideLayout" Target="../slideLayouts/slideLayout1789.xml"/><Relationship Id="rId3" Type="http://schemas.openxmlformats.org/officeDocument/2006/relationships/slideLayout" Target="../slideLayouts/slideLayout1790.xml"/><Relationship Id="rId4" Type="http://schemas.openxmlformats.org/officeDocument/2006/relationships/slideLayout" Target="../slideLayouts/slideLayout1791.xml"/><Relationship Id="rId5" Type="http://schemas.openxmlformats.org/officeDocument/2006/relationships/slideLayout" Target="../slideLayouts/slideLayout1792.xml"/><Relationship Id="rId6" Type="http://schemas.openxmlformats.org/officeDocument/2006/relationships/slideLayout" Target="../slideLayouts/slideLayout1793.xml"/><Relationship Id="rId7" Type="http://schemas.openxmlformats.org/officeDocument/2006/relationships/slideLayout" Target="../slideLayouts/slideLayout1794.xml"/><Relationship Id="rId8" Type="http://schemas.openxmlformats.org/officeDocument/2006/relationships/slideLayout" Target="../slideLayouts/slideLayout1795.xml"/><Relationship Id="rId9" Type="http://schemas.openxmlformats.org/officeDocument/2006/relationships/slideLayout" Target="../slideLayouts/slideLayout1796.xml"/><Relationship Id="rId10" Type="http://schemas.openxmlformats.org/officeDocument/2006/relationships/slideLayout" Target="../slideLayouts/slideLayout1797.xml"/><Relationship Id="rId11" Type="http://schemas.openxmlformats.org/officeDocument/2006/relationships/slideLayout" Target="../slideLayouts/slideLayout1798.xml"/><Relationship Id="rId12" Type="http://schemas.openxmlformats.org/officeDocument/2006/relationships/slideLayout" Target="../slideLayouts/slideLayout1799.xml"/><Relationship Id="rId13" Type="http://schemas.openxmlformats.org/officeDocument/2006/relationships/slideLayout" Target="../slideLayouts/slideLayout1800.xml"/>
</Relationships>
</file>

<file path=ppt/slideMasters/_rels/slideMaster151.xml.rels><?xml version="1.0" encoding="UTF-8"?>
<Relationships xmlns="http://schemas.openxmlformats.org/package/2006/relationships"><Relationship Id="rId1" Type="http://schemas.openxmlformats.org/officeDocument/2006/relationships/theme" Target="../theme/theme151.xml"/><Relationship Id="rId2" Type="http://schemas.openxmlformats.org/officeDocument/2006/relationships/slideLayout" Target="../slideLayouts/slideLayout1801.xml"/><Relationship Id="rId3" Type="http://schemas.openxmlformats.org/officeDocument/2006/relationships/slideLayout" Target="../slideLayouts/slideLayout1802.xml"/><Relationship Id="rId4" Type="http://schemas.openxmlformats.org/officeDocument/2006/relationships/slideLayout" Target="../slideLayouts/slideLayout1803.xml"/><Relationship Id="rId5" Type="http://schemas.openxmlformats.org/officeDocument/2006/relationships/slideLayout" Target="../slideLayouts/slideLayout1804.xml"/><Relationship Id="rId6" Type="http://schemas.openxmlformats.org/officeDocument/2006/relationships/slideLayout" Target="../slideLayouts/slideLayout1805.xml"/><Relationship Id="rId7" Type="http://schemas.openxmlformats.org/officeDocument/2006/relationships/slideLayout" Target="../slideLayouts/slideLayout1806.xml"/><Relationship Id="rId8" Type="http://schemas.openxmlformats.org/officeDocument/2006/relationships/slideLayout" Target="../slideLayouts/slideLayout1807.xml"/><Relationship Id="rId9" Type="http://schemas.openxmlformats.org/officeDocument/2006/relationships/slideLayout" Target="../slideLayouts/slideLayout1808.xml"/><Relationship Id="rId10" Type="http://schemas.openxmlformats.org/officeDocument/2006/relationships/slideLayout" Target="../slideLayouts/slideLayout1809.xml"/><Relationship Id="rId11" Type="http://schemas.openxmlformats.org/officeDocument/2006/relationships/slideLayout" Target="../slideLayouts/slideLayout1810.xml"/><Relationship Id="rId12" Type="http://schemas.openxmlformats.org/officeDocument/2006/relationships/slideLayout" Target="../slideLayouts/slideLayout1811.xml"/><Relationship Id="rId13" Type="http://schemas.openxmlformats.org/officeDocument/2006/relationships/slideLayout" Target="../slideLayouts/slideLayout1812.xml"/>
</Relationships>
</file>

<file path=ppt/slideMasters/_rels/slideMaster152.xml.rels><?xml version="1.0" encoding="UTF-8"?>
<Relationships xmlns="http://schemas.openxmlformats.org/package/2006/relationships"><Relationship Id="rId1" Type="http://schemas.openxmlformats.org/officeDocument/2006/relationships/theme" Target="../theme/theme152.xml"/><Relationship Id="rId2" Type="http://schemas.openxmlformats.org/officeDocument/2006/relationships/slideLayout" Target="../slideLayouts/slideLayout1813.xml"/><Relationship Id="rId3" Type="http://schemas.openxmlformats.org/officeDocument/2006/relationships/slideLayout" Target="../slideLayouts/slideLayout1814.xml"/><Relationship Id="rId4" Type="http://schemas.openxmlformats.org/officeDocument/2006/relationships/slideLayout" Target="../slideLayouts/slideLayout1815.xml"/><Relationship Id="rId5" Type="http://schemas.openxmlformats.org/officeDocument/2006/relationships/slideLayout" Target="../slideLayouts/slideLayout1816.xml"/><Relationship Id="rId6" Type="http://schemas.openxmlformats.org/officeDocument/2006/relationships/slideLayout" Target="../slideLayouts/slideLayout1817.xml"/><Relationship Id="rId7" Type="http://schemas.openxmlformats.org/officeDocument/2006/relationships/slideLayout" Target="../slideLayouts/slideLayout1818.xml"/><Relationship Id="rId8" Type="http://schemas.openxmlformats.org/officeDocument/2006/relationships/slideLayout" Target="../slideLayouts/slideLayout1819.xml"/><Relationship Id="rId9" Type="http://schemas.openxmlformats.org/officeDocument/2006/relationships/slideLayout" Target="../slideLayouts/slideLayout1820.xml"/><Relationship Id="rId10" Type="http://schemas.openxmlformats.org/officeDocument/2006/relationships/slideLayout" Target="../slideLayouts/slideLayout1821.xml"/><Relationship Id="rId11" Type="http://schemas.openxmlformats.org/officeDocument/2006/relationships/slideLayout" Target="../slideLayouts/slideLayout1822.xml"/><Relationship Id="rId12" Type="http://schemas.openxmlformats.org/officeDocument/2006/relationships/slideLayout" Target="../slideLayouts/slideLayout1823.xml"/><Relationship Id="rId13" Type="http://schemas.openxmlformats.org/officeDocument/2006/relationships/slideLayout" Target="../slideLayouts/slideLayout1824.xml"/>
</Relationships>
</file>

<file path=ppt/slideMasters/_rels/slideMaster153.xml.rels><?xml version="1.0" encoding="UTF-8"?>
<Relationships xmlns="http://schemas.openxmlformats.org/package/2006/relationships"><Relationship Id="rId1" Type="http://schemas.openxmlformats.org/officeDocument/2006/relationships/theme" Target="../theme/theme153.xml"/><Relationship Id="rId2" Type="http://schemas.openxmlformats.org/officeDocument/2006/relationships/slideLayout" Target="../slideLayouts/slideLayout1825.xml"/><Relationship Id="rId3" Type="http://schemas.openxmlformats.org/officeDocument/2006/relationships/slideLayout" Target="../slideLayouts/slideLayout1826.xml"/><Relationship Id="rId4" Type="http://schemas.openxmlformats.org/officeDocument/2006/relationships/slideLayout" Target="../slideLayouts/slideLayout1827.xml"/><Relationship Id="rId5" Type="http://schemas.openxmlformats.org/officeDocument/2006/relationships/slideLayout" Target="../slideLayouts/slideLayout1828.xml"/><Relationship Id="rId6" Type="http://schemas.openxmlformats.org/officeDocument/2006/relationships/slideLayout" Target="../slideLayouts/slideLayout1829.xml"/><Relationship Id="rId7" Type="http://schemas.openxmlformats.org/officeDocument/2006/relationships/slideLayout" Target="../slideLayouts/slideLayout1830.xml"/><Relationship Id="rId8" Type="http://schemas.openxmlformats.org/officeDocument/2006/relationships/slideLayout" Target="../slideLayouts/slideLayout1831.xml"/><Relationship Id="rId9" Type="http://schemas.openxmlformats.org/officeDocument/2006/relationships/slideLayout" Target="../slideLayouts/slideLayout1832.xml"/><Relationship Id="rId10" Type="http://schemas.openxmlformats.org/officeDocument/2006/relationships/slideLayout" Target="../slideLayouts/slideLayout1833.xml"/><Relationship Id="rId11" Type="http://schemas.openxmlformats.org/officeDocument/2006/relationships/slideLayout" Target="../slideLayouts/slideLayout1834.xml"/><Relationship Id="rId12" Type="http://schemas.openxmlformats.org/officeDocument/2006/relationships/slideLayout" Target="../slideLayouts/slideLayout1835.xml"/><Relationship Id="rId13" Type="http://schemas.openxmlformats.org/officeDocument/2006/relationships/slideLayout" Target="../slideLayouts/slideLayout1836.xml"/>
</Relationships>
</file>

<file path=ppt/slideMasters/_rels/slideMaster154.xml.rels><?xml version="1.0" encoding="UTF-8"?>
<Relationships xmlns="http://schemas.openxmlformats.org/package/2006/relationships"><Relationship Id="rId1" Type="http://schemas.openxmlformats.org/officeDocument/2006/relationships/theme" Target="../theme/theme154.xml"/><Relationship Id="rId2" Type="http://schemas.openxmlformats.org/officeDocument/2006/relationships/slideLayout" Target="../slideLayouts/slideLayout1837.xml"/><Relationship Id="rId3" Type="http://schemas.openxmlformats.org/officeDocument/2006/relationships/slideLayout" Target="../slideLayouts/slideLayout1838.xml"/><Relationship Id="rId4" Type="http://schemas.openxmlformats.org/officeDocument/2006/relationships/slideLayout" Target="../slideLayouts/slideLayout1839.xml"/><Relationship Id="rId5" Type="http://schemas.openxmlformats.org/officeDocument/2006/relationships/slideLayout" Target="../slideLayouts/slideLayout1840.xml"/><Relationship Id="rId6" Type="http://schemas.openxmlformats.org/officeDocument/2006/relationships/slideLayout" Target="../slideLayouts/slideLayout1841.xml"/><Relationship Id="rId7" Type="http://schemas.openxmlformats.org/officeDocument/2006/relationships/slideLayout" Target="../slideLayouts/slideLayout1842.xml"/><Relationship Id="rId8" Type="http://schemas.openxmlformats.org/officeDocument/2006/relationships/slideLayout" Target="../slideLayouts/slideLayout1843.xml"/><Relationship Id="rId9" Type="http://schemas.openxmlformats.org/officeDocument/2006/relationships/slideLayout" Target="../slideLayouts/slideLayout1844.xml"/><Relationship Id="rId10" Type="http://schemas.openxmlformats.org/officeDocument/2006/relationships/slideLayout" Target="../slideLayouts/slideLayout1845.xml"/><Relationship Id="rId11" Type="http://schemas.openxmlformats.org/officeDocument/2006/relationships/slideLayout" Target="../slideLayouts/slideLayout1846.xml"/><Relationship Id="rId12" Type="http://schemas.openxmlformats.org/officeDocument/2006/relationships/slideLayout" Target="../slideLayouts/slideLayout1847.xml"/><Relationship Id="rId13" Type="http://schemas.openxmlformats.org/officeDocument/2006/relationships/slideLayout" Target="../slideLayouts/slideLayout1848.xml"/>
</Relationships>
</file>

<file path=ppt/slideMasters/_rels/slideMaster155.xml.rels><?xml version="1.0" encoding="UTF-8"?>
<Relationships xmlns="http://schemas.openxmlformats.org/package/2006/relationships"><Relationship Id="rId1" Type="http://schemas.openxmlformats.org/officeDocument/2006/relationships/theme" Target="../theme/theme155.xml"/><Relationship Id="rId2" Type="http://schemas.openxmlformats.org/officeDocument/2006/relationships/slideLayout" Target="../slideLayouts/slideLayout1849.xml"/><Relationship Id="rId3" Type="http://schemas.openxmlformats.org/officeDocument/2006/relationships/slideLayout" Target="../slideLayouts/slideLayout1850.xml"/><Relationship Id="rId4" Type="http://schemas.openxmlformats.org/officeDocument/2006/relationships/slideLayout" Target="../slideLayouts/slideLayout1851.xml"/><Relationship Id="rId5" Type="http://schemas.openxmlformats.org/officeDocument/2006/relationships/slideLayout" Target="../slideLayouts/slideLayout1852.xml"/><Relationship Id="rId6" Type="http://schemas.openxmlformats.org/officeDocument/2006/relationships/slideLayout" Target="../slideLayouts/slideLayout1853.xml"/><Relationship Id="rId7" Type="http://schemas.openxmlformats.org/officeDocument/2006/relationships/slideLayout" Target="../slideLayouts/slideLayout1854.xml"/><Relationship Id="rId8" Type="http://schemas.openxmlformats.org/officeDocument/2006/relationships/slideLayout" Target="../slideLayouts/slideLayout1855.xml"/><Relationship Id="rId9" Type="http://schemas.openxmlformats.org/officeDocument/2006/relationships/slideLayout" Target="../slideLayouts/slideLayout1856.xml"/><Relationship Id="rId10" Type="http://schemas.openxmlformats.org/officeDocument/2006/relationships/slideLayout" Target="../slideLayouts/slideLayout1857.xml"/><Relationship Id="rId11" Type="http://schemas.openxmlformats.org/officeDocument/2006/relationships/slideLayout" Target="../slideLayouts/slideLayout1858.xml"/><Relationship Id="rId12" Type="http://schemas.openxmlformats.org/officeDocument/2006/relationships/slideLayout" Target="../slideLayouts/slideLayout1859.xml"/><Relationship Id="rId13" Type="http://schemas.openxmlformats.org/officeDocument/2006/relationships/slideLayout" Target="../slideLayouts/slideLayout1860.xml"/>
</Relationships>
</file>

<file path=ppt/slideMasters/_rels/slideMaster156.xml.rels><?xml version="1.0" encoding="UTF-8"?>
<Relationships xmlns="http://schemas.openxmlformats.org/package/2006/relationships"><Relationship Id="rId1" Type="http://schemas.openxmlformats.org/officeDocument/2006/relationships/theme" Target="../theme/theme156.xml"/><Relationship Id="rId2" Type="http://schemas.openxmlformats.org/officeDocument/2006/relationships/slideLayout" Target="../slideLayouts/slideLayout1861.xml"/><Relationship Id="rId3" Type="http://schemas.openxmlformats.org/officeDocument/2006/relationships/slideLayout" Target="../slideLayouts/slideLayout1862.xml"/><Relationship Id="rId4" Type="http://schemas.openxmlformats.org/officeDocument/2006/relationships/slideLayout" Target="../slideLayouts/slideLayout1863.xml"/><Relationship Id="rId5" Type="http://schemas.openxmlformats.org/officeDocument/2006/relationships/slideLayout" Target="../slideLayouts/slideLayout1864.xml"/><Relationship Id="rId6" Type="http://schemas.openxmlformats.org/officeDocument/2006/relationships/slideLayout" Target="../slideLayouts/slideLayout1865.xml"/><Relationship Id="rId7" Type="http://schemas.openxmlformats.org/officeDocument/2006/relationships/slideLayout" Target="../slideLayouts/slideLayout1866.xml"/><Relationship Id="rId8" Type="http://schemas.openxmlformats.org/officeDocument/2006/relationships/slideLayout" Target="../slideLayouts/slideLayout1867.xml"/><Relationship Id="rId9" Type="http://schemas.openxmlformats.org/officeDocument/2006/relationships/slideLayout" Target="../slideLayouts/slideLayout1868.xml"/><Relationship Id="rId10" Type="http://schemas.openxmlformats.org/officeDocument/2006/relationships/slideLayout" Target="../slideLayouts/slideLayout1869.xml"/><Relationship Id="rId11" Type="http://schemas.openxmlformats.org/officeDocument/2006/relationships/slideLayout" Target="../slideLayouts/slideLayout1870.xml"/><Relationship Id="rId12" Type="http://schemas.openxmlformats.org/officeDocument/2006/relationships/slideLayout" Target="../slideLayouts/slideLayout1871.xml"/><Relationship Id="rId13" Type="http://schemas.openxmlformats.org/officeDocument/2006/relationships/slideLayout" Target="../slideLayouts/slideLayout1872.xml"/>
</Relationships>
</file>

<file path=ppt/slideMasters/_rels/slideMaster157.xml.rels><?xml version="1.0" encoding="UTF-8"?>
<Relationships xmlns="http://schemas.openxmlformats.org/package/2006/relationships"><Relationship Id="rId1" Type="http://schemas.openxmlformats.org/officeDocument/2006/relationships/theme" Target="../theme/theme157.xml"/><Relationship Id="rId2" Type="http://schemas.openxmlformats.org/officeDocument/2006/relationships/slideLayout" Target="../slideLayouts/slideLayout1873.xml"/><Relationship Id="rId3" Type="http://schemas.openxmlformats.org/officeDocument/2006/relationships/slideLayout" Target="../slideLayouts/slideLayout1874.xml"/><Relationship Id="rId4" Type="http://schemas.openxmlformats.org/officeDocument/2006/relationships/slideLayout" Target="../slideLayouts/slideLayout1875.xml"/><Relationship Id="rId5" Type="http://schemas.openxmlformats.org/officeDocument/2006/relationships/slideLayout" Target="../slideLayouts/slideLayout1876.xml"/><Relationship Id="rId6" Type="http://schemas.openxmlformats.org/officeDocument/2006/relationships/slideLayout" Target="../slideLayouts/slideLayout1877.xml"/><Relationship Id="rId7" Type="http://schemas.openxmlformats.org/officeDocument/2006/relationships/slideLayout" Target="../slideLayouts/slideLayout1878.xml"/><Relationship Id="rId8" Type="http://schemas.openxmlformats.org/officeDocument/2006/relationships/slideLayout" Target="../slideLayouts/slideLayout1879.xml"/><Relationship Id="rId9" Type="http://schemas.openxmlformats.org/officeDocument/2006/relationships/slideLayout" Target="../slideLayouts/slideLayout1880.xml"/><Relationship Id="rId10" Type="http://schemas.openxmlformats.org/officeDocument/2006/relationships/slideLayout" Target="../slideLayouts/slideLayout1881.xml"/><Relationship Id="rId11" Type="http://schemas.openxmlformats.org/officeDocument/2006/relationships/slideLayout" Target="../slideLayouts/slideLayout1882.xml"/><Relationship Id="rId12" Type="http://schemas.openxmlformats.org/officeDocument/2006/relationships/slideLayout" Target="../slideLayouts/slideLayout1883.xml"/><Relationship Id="rId13" Type="http://schemas.openxmlformats.org/officeDocument/2006/relationships/slideLayout" Target="../slideLayouts/slideLayout1884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B3C9-8A02-4015-9B4F-A981FD20C21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D1E6-F8A1-4465-88B3-F61106EA6C5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EDFC-57F8-4DC9-A50F-74F5BE292EF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9503-5F1B-4A63-8160-8C0E3E983FF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 type="dt" idx="29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3D42-D017-43FC-A45B-86C0158A157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PlaceHolder 4"/>
          <p:cNvSpPr>
            <a:spLocks noGrp="1"/>
          </p:cNvSpPr>
          <p:nvPr>
            <p:ph type="ftr" idx="29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PlaceHolder 5"/>
          <p:cNvSpPr>
            <a:spLocks noGrp="1"/>
          </p:cNvSpPr>
          <p:nvPr>
            <p:ph type="sldNum" idx="30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BC16-02C0-45FA-9801-45C059B0F8B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 type="dt" idx="30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5563-EEA4-4FC3-A04C-A31A6FA56A2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PlaceHolder 4"/>
          <p:cNvSpPr>
            <a:spLocks noGrp="1"/>
          </p:cNvSpPr>
          <p:nvPr>
            <p:ph type="ftr" idx="30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PlaceHolder 5"/>
          <p:cNvSpPr>
            <a:spLocks noGrp="1"/>
          </p:cNvSpPr>
          <p:nvPr>
            <p:ph type="sldNum" idx="30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B45D-59C5-45AE-89A4-8729D02096D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3" name="PlaceHolder 3"/>
          <p:cNvSpPr>
            <a:spLocks noGrp="1"/>
          </p:cNvSpPr>
          <p:nvPr>
            <p:ph type="dt" idx="30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15BE-BD82-4078-9491-0A54C32009C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PlaceHolder 4"/>
          <p:cNvSpPr>
            <a:spLocks noGrp="1"/>
          </p:cNvSpPr>
          <p:nvPr>
            <p:ph type="ftr" idx="30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PlaceHolder 5"/>
          <p:cNvSpPr>
            <a:spLocks noGrp="1"/>
          </p:cNvSpPr>
          <p:nvPr>
            <p:ph type="sldNum" idx="30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8D1B-3A5B-4B9E-AACC-7C3F67B94D0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4" name="PlaceHolder 3"/>
          <p:cNvSpPr>
            <a:spLocks noGrp="1"/>
          </p:cNvSpPr>
          <p:nvPr>
            <p:ph type="dt" idx="30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CE04-2A4E-43EF-BB3D-F624B08B700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PlaceHolder 4"/>
          <p:cNvSpPr>
            <a:spLocks noGrp="1"/>
          </p:cNvSpPr>
          <p:nvPr>
            <p:ph type="ftr" idx="30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PlaceHolder 5"/>
          <p:cNvSpPr>
            <a:spLocks noGrp="1"/>
          </p:cNvSpPr>
          <p:nvPr>
            <p:ph type="sldNum" idx="30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AAB9-AFB2-4B13-8A67-8CD1A376879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5" name="PlaceHolder 3"/>
          <p:cNvSpPr>
            <a:spLocks noGrp="1"/>
          </p:cNvSpPr>
          <p:nvPr>
            <p:ph type="dt" idx="3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D327-2F7E-4A71-A238-7DBEBFDFDEE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PlaceHolder 4"/>
          <p:cNvSpPr>
            <a:spLocks noGrp="1"/>
          </p:cNvSpPr>
          <p:nvPr>
            <p:ph type="ftr" idx="3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PlaceHolder 5"/>
          <p:cNvSpPr>
            <a:spLocks noGrp="1"/>
          </p:cNvSpPr>
          <p:nvPr>
            <p:ph type="sldNum" idx="3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A743-B7A4-4710-B60B-B678F0646EF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6" name="PlaceHolder 3"/>
          <p:cNvSpPr>
            <a:spLocks noGrp="1"/>
          </p:cNvSpPr>
          <p:nvPr>
            <p:ph type="dt" idx="3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2D65-2325-432F-B84B-17732E0CBB5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PlaceHolder 4"/>
          <p:cNvSpPr>
            <a:spLocks noGrp="1"/>
          </p:cNvSpPr>
          <p:nvPr>
            <p:ph type="ftr" idx="3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PlaceHolder 5"/>
          <p:cNvSpPr>
            <a:spLocks noGrp="1"/>
          </p:cNvSpPr>
          <p:nvPr>
            <p:ph type="sldNum" idx="3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2C82-5416-4A1D-8E1C-D42B90BF03B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 type="dt" idx="3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38DF-412B-4F65-A65E-75FA0D08222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 type="ftr" idx="3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PlaceHolder 5"/>
          <p:cNvSpPr>
            <a:spLocks noGrp="1"/>
          </p:cNvSpPr>
          <p:nvPr>
            <p:ph type="sldNum" idx="3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DD67-2F86-4633-91E3-0B61E210B73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8" name="PlaceHolder 3"/>
          <p:cNvSpPr>
            <a:spLocks noGrp="1"/>
          </p:cNvSpPr>
          <p:nvPr>
            <p:ph type="dt" idx="3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0ED5-8040-46EA-991A-4EA0BC1DFBA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PlaceHolder 4"/>
          <p:cNvSpPr>
            <a:spLocks noGrp="1"/>
          </p:cNvSpPr>
          <p:nvPr>
            <p:ph type="ftr" idx="3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PlaceHolder 5"/>
          <p:cNvSpPr>
            <a:spLocks noGrp="1"/>
          </p:cNvSpPr>
          <p:nvPr>
            <p:ph type="sldNum" idx="3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37DC-1957-4474-988B-C7F16064285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PlaceHolder 3"/>
          <p:cNvSpPr>
            <a:spLocks noGrp="1"/>
          </p:cNvSpPr>
          <p:nvPr>
            <p:ph type="dt" idx="3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A989-3440-41BA-80B3-0264C0C9B6A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PlaceHolder 4"/>
          <p:cNvSpPr>
            <a:spLocks noGrp="1"/>
          </p:cNvSpPr>
          <p:nvPr>
            <p:ph type="ftr" idx="3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PlaceHolder 5"/>
          <p:cNvSpPr>
            <a:spLocks noGrp="1"/>
          </p:cNvSpPr>
          <p:nvPr>
            <p:ph type="sldNum" idx="3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5C57-07A2-4647-BEA3-88BB7D1D9AC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0" name="PlaceHolder 3"/>
          <p:cNvSpPr>
            <a:spLocks noGrp="1"/>
          </p:cNvSpPr>
          <p:nvPr>
            <p:ph type="dt" idx="3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2A4F-307F-47F9-A96B-2074BD51260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PlaceHolder 4"/>
          <p:cNvSpPr>
            <a:spLocks noGrp="1"/>
          </p:cNvSpPr>
          <p:nvPr>
            <p:ph type="ftr" idx="3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PlaceHolder 5"/>
          <p:cNvSpPr>
            <a:spLocks noGrp="1"/>
          </p:cNvSpPr>
          <p:nvPr>
            <p:ph type="sldNum" idx="3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8889-007F-4768-B981-5FB8D0E1702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F75F-CA0F-4233-B6E9-C9365E879C9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24B5-990F-4E23-B072-BFBA554A95A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1" name="PlaceHolder 3"/>
          <p:cNvSpPr>
            <a:spLocks noGrp="1"/>
          </p:cNvSpPr>
          <p:nvPr>
            <p:ph type="dt" idx="3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B279-B307-44A8-81F3-9ECFC05A383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PlaceHolder 4"/>
          <p:cNvSpPr>
            <a:spLocks noGrp="1"/>
          </p:cNvSpPr>
          <p:nvPr>
            <p:ph type="ftr" idx="3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PlaceHolder 5"/>
          <p:cNvSpPr>
            <a:spLocks noGrp="1"/>
          </p:cNvSpPr>
          <p:nvPr>
            <p:ph type="sldNum" idx="3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9053-8147-4A20-9DA8-812F629D9F4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 type="dt" idx="3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09EF-3BAD-4B8F-A701-3995305058E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PlaceHolder 4"/>
          <p:cNvSpPr>
            <a:spLocks noGrp="1"/>
          </p:cNvSpPr>
          <p:nvPr>
            <p:ph type="ftr" idx="3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PlaceHolder 5"/>
          <p:cNvSpPr>
            <a:spLocks noGrp="1"/>
          </p:cNvSpPr>
          <p:nvPr>
            <p:ph type="sldNum" idx="3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D3F0-6F87-48D8-909C-A6F9D273447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3" name="PlaceHolder 3"/>
          <p:cNvSpPr>
            <a:spLocks noGrp="1"/>
          </p:cNvSpPr>
          <p:nvPr>
            <p:ph type="dt" idx="3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172F-515A-4528-AE32-00740A7D67F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PlaceHolder 4"/>
          <p:cNvSpPr>
            <a:spLocks noGrp="1"/>
          </p:cNvSpPr>
          <p:nvPr>
            <p:ph type="ftr" idx="3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PlaceHolder 5"/>
          <p:cNvSpPr>
            <a:spLocks noGrp="1"/>
          </p:cNvSpPr>
          <p:nvPr>
            <p:ph type="sldNum" idx="3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A717-5EBB-4B54-856C-538A5785450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4" name="PlaceHolder 3"/>
          <p:cNvSpPr>
            <a:spLocks noGrp="1"/>
          </p:cNvSpPr>
          <p:nvPr>
            <p:ph type="dt" idx="3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A6EB-FE4F-4D2E-AF22-A82BF66433C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PlaceHolder 4"/>
          <p:cNvSpPr>
            <a:spLocks noGrp="1"/>
          </p:cNvSpPr>
          <p:nvPr>
            <p:ph type="ftr" idx="3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PlaceHolder 5"/>
          <p:cNvSpPr>
            <a:spLocks noGrp="1"/>
          </p:cNvSpPr>
          <p:nvPr>
            <p:ph type="sldNum" idx="3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42A0-3829-4F65-92CB-E054B17D451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5" name="PlaceHolder 3"/>
          <p:cNvSpPr>
            <a:spLocks noGrp="1"/>
          </p:cNvSpPr>
          <p:nvPr>
            <p:ph type="dt" idx="3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D9BC-FC66-4757-9D9B-070DADA62A7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PlaceHolder 4"/>
          <p:cNvSpPr>
            <a:spLocks noGrp="1"/>
          </p:cNvSpPr>
          <p:nvPr>
            <p:ph type="ftr" idx="3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PlaceHolder 5"/>
          <p:cNvSpPr>
            <a:spLocks noGrp="1"/>
          </p:cNvSpPr>
          <p:nvPr>
            <p:ph type="sldNum" idx="3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D6DE-C517-4207-987F-103A2E7320C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6" name="PlaceHolder 3"/>
          <p:cNvSpPr>
            <a:spLocks noGrp="1"/>
          </p:cNvSpPr>
          <p:nvPr>
            <p:ph type="dt" idx="3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8BDA-8F19-4B3F-A0BD-A997D999A4B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PlaceHolder 4"/>
          <p:cNvSpPr>
            <a:spLocks noGrp="1"/>
          </p:cNvSpPr>
          <p:nvPr>
            <p:ph type="ftr" idx="3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PlaceHolder 5"/>
          <p:cNvSpPr>
            <a:spLocks noGrp="1"/>
          </p:cNvSpPr>
          <p:nvPr>
            <p:ph type="sldNum" idx="3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96D6-32C6-4088-BF9D-4A3962B3DFA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7" name="PlaceHolder 3"/>
          <p:cNvSpPr>
            <a:spLocks noGrp="1"/>
          </p:cNvSpPr>
          <p:nvPr>
            <p:ph type="dt" idx="3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1B73-60F9-48F4-9737-D5D1DE0BBAF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PlaceHolder 4"/>
          <p:cNvSpPr>
            <a:spLocks noGrp="1"/>
          </p:cNvSpPr>
          <p:nvPr>
            <p:ph type="ftr" idx="3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PlaceHolder 5"/>
          <p:cNvSpPr>
            <a:spLocks noGrp="1"/>
          </p:cNvSpPr>
          <p:nvPr>
            <p:ph type="sldNum" idx="3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9C39-2749-42AD-BFF0-AFCF6D309DD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8" name="PlaceHolder 3"/>
          <p:cNvSpPr>
            <a:spLocks noGrp="1"/>
          </p:cNvSpPr>
          <p:nvPr>
            <p:ph type="dt" idx="3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DD49-C24C-4676-8130-7C5A9DB72EB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PlaceHolder 4"/>
          <p:cNvSpPr>
            <a:spLocks noGrp="1"/>
          </p:cNvSpPr>
          <p:nvPr>
            <p:ph type="ftr" idx="3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PlaceHolder 5"/>
          <p:cNvSpPr>
            <a:spLocks noGrp="1"/>
          </p:cNvSpPr>
          <p:nvPr>
            <p:ph type="sldNum" idx="3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4063-3ACA-44F5-A724-118389422AC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9" name="PlaceHolder 3"/>
          <p:cNvSpPr>
            <a:spLocks noGrp="1"/>
          </p:cNvSpPr>
          <p:nvPr>
            <p:ph type="dt" idx="3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BFB4-D908-44BB-A7FA-6A86E5933CC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0" name="PlaceHolder 4"/>
          <p:cNvSpPr>
            <a:spLocks noGrp="1"/>
          </p:cNvSpPr>
          <p:nvPr>
            <p:ph type="ftr" idx="3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PlaceHolder 5"/>
          <p:cNvSpPr>
            <a:spLocks noGrp="1"/>
          </p:cNvSpPr>
          <p:nvPr>
            <p:ph type="sldNum" idx="3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5FBB-9BF7-4F63-BF04-5ABC33A049C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0" name="PlaceHolder 3"/>
          <p:cNvSpPr>
            <a:spLocks noGrp="1"/>
          </p:cNvSpPr>
          <p:nvPr>
            <p:ph type="dt" idx="3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B061-580F-445C-8647-E029E1CF479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PlaceHolder 4"/>
          <p:cNvSpPr>
            <a:spLocks noGrp="1"/>
          </p:cNvSpPr>
          <p:nvPr>
            <p:ph type="ftr" idx="3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PlaceHolder 5"/>
          <p:cNvSpPr>
            <a:spLocks noGrp="1"/>
          </p:cNvSpPr>
          <p:nvPr>
            <p:ph type="sldNum" idx="3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2FFA-8613-4B3E-9217-40FCBC0B9CB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A4E3-F286-4EC1-AC45-C5005F5923B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42E1-0747-4F80-98F1-D6329E40227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 type="dt" idx="3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FCC5-195A-41A0-B5C3-EE5E4295179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 type="ftr" idx="3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PlaceHolder 5"/>
          <p:cNvSpPr>
            <a:spLocks noGrp="1"/>
          </p:cNvSpPr>
          <p:nvPr>
            <p:ph type="sldNum" idx="3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8537-3C5F-4C9D-BB25-FF796BA0FF0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2" name="PlaceHolder 3"/>
          <p:cNvSpPr>
            <a:spLocks noGrp="1"/>
          </p:cNvSpPr>
          <p:nvPr>
            <p:ph type="dt" idx="3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E142-93CF-4084-BC49-E74D26C55AD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3" name="PlaceHolder 4"/>
          <p:cNvSpPr>
            <a:spLocks noGrp="1"/>
          </p:cNvSpPr>
          <p:nvPr>
            <p:ph type="ftr" idx="3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PlaceHolder 5"/>
          <p:cNvSpPr>
            <a:spLocks noGrp="1"/>
          </p:cNvSpPr>
          <p:nvPr>
            <p:ph type="sldNum" idx="3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0806-409D-41B8-83C2-12D46224E68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3" name="PlaceHolder 3"/>
          <p:cNvSpPr>
            <a:spLocks noGrp="1"/>
          </p:cNvSpPr>
          <p:nvPr>
            <p:ph type="dt" idx="3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12F0-5543-4915-8189-98464CE5346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PlaceHolder 4"/>
          <p:cNvSpPr>
            <a:spLocks noGrp="1"/>
          </p:cNvSpPr>
          <p:nvPr>
            <p:ph type="ftr" idx="3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5" name="PlaceHolder 5"/>
          <p:cNvSpPr>
            <a:spLocks noGrp="1"/>
          </p:cNvSpPr>
          <p:nvPr>
            <p:ph type="sldNum" idx="3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FDF0-9931-40F1-9829-03708F9003D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4" name="PlaceHolder 3"/>
          <p:cNvSpPr>
            <a:spLocks noGrp="1"/>
          </p:cNvSpPr>
          <p:nvPr>
            <p:ph type="dt" idx="3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FB25-5058-4675-99C7-3682E73EF08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PlaceHolder 4"/>
          <p:cNvSpPr>
            <a:spLocks noGrp="1"/>
          </p:cNvSpPr>
          <p:nvPr>
            <p:ph type="ftr" idx="3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6" name="PlaceHolder 5"/>
          <p:cNvSpPr>
            <a:spLocks noGrp="1"/>
          </p:cNvSpPr>
          <p:nvPr>
            <p:ph type="sldNum" idx="3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A86E-0C82-448B-A61A-C3CB7492868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5" name="PlaceHolder 3"/>
          <p:cNvSpPr>
            <a:spLocks noGrp="1"/>
          </p:cNvSpPr>
          <p:nvPr>
            <p:ph type="dt" idx="3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21AF-335B-4C7E-A7DE-FA895352223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PlaceHolder 4"/>
          <p:cNvSpPr>
            <a:spLocks noGrp="1"/>
          </p:cNvSpPr>
          <p:nvPr>
            <p:ph type="ftr" idx="3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PlaceHolder 5"/>
          <p:cNvSpPr>
            <a:spLocks noGrp="1"/>
          </p:cNvSpPr>
          <p:nvPr>
            <p:ph type="sldNum" idx="37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D00A-0CE9-4FED-9629-43E3F9226D4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2"/>
    <p:sldLayoutId id="2147485249" r:id="rId3"/>
    <p:sldLayoutId id="2147485250" r:id="rId4"/>
    <p:sldLayoutId id="2147485251" r:id="rId5"/>
    <p:sldLayoutId id="2147485252" r:id="rId6"/>
    <p:sldLayoutId id="2147485253" r:id="rId7"/>
    <p:sldLayoutId id="2147485254" r:id="rId8"/>
    <p:sldLayoutId id="2147485255" r:id="rId9"/>
    <p:sldLayoutId id="2147485256" r:id="rId10"/>
    <p:sldLayoutId id="2147485257" r:id="rId11"/>
    <p:sldLayoutId id="2147485258" r:id="rId12"/>
    <p:sldLayoutId id="2147485259" r:id="rId13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6" name="PlaceHolder 3"/>
          <p:cNvSpPr>
            <a:spLocks noGrp="1"/>
          </p:cNvSpPr>
          <p:nvPr>
            <p:ph type="dt" idx="37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ACDC-24AF-4E50-A541-F376BF88904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7" name="PlaceHolder 4"/>
          <p:cNvSpPr>
            <a:spLocks noGrp="1"/>
          </p:cNvSpPr>
          <p:nvPr>
            <p:ph type="ftr" idx="37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8" name="PlaceHolder 5"/>
          <p:cNvSpPr>
            <a:spLocks noGrp="1"/>
          </p:cNvSpPr>
          <p:nvPr>
            <p:ph type="sldNum" idx="37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11D8-A0C3-415E-97DB-A9E83DF9EDB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7" name="PlaceHolder 3"/>
          <p:cNvSpPr>
            <a:spLocks noGrp="1"/>
          </p:cNvSpPr>
          <p:nvPr>
            <p:ph type="dt" idx="37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2A37-C124-4C84-B806-2B2BD2033BC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PlaceHolder 4"/>
          <p:cNvSpPr>
            <a:spLocks noGrp="1"/>
          </p:cNvSpPr>
          <p:nvPr>
            <p:ph type="ftr" idx="37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PlaceHolder 5"/>
          <p:cNvSpPr>
            <a:spLocks noGrp="1"/>
          </p:cNvSpPr>
          <p:nvPr>
            <p:ph type="sldNum" idx="37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B07E-CD2D-4AA2-B1DF-20F21F313AD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8" name="PlaceHolder 3"/>
          <p:cNvSpPr>
            <a:spLocks noGrp="1"/>
          </p:cNvSpPr>
          <p:nvPr>
            <p:ph type="dt" idx="37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4380-C012-499C-B1C2-2F632F78956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PlaceHolder 4"/>
          <p:cNvSpPr>
            <a:spLocks noGrp="1"/>
          </p:cNvSpPr>
          <p:nvPr>
            <p:ph type="ftr" idx="38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0" name="PlaceHolder 5"/>
          <p:cNvSpPr>
            <a:spLocks noGrp="1"/>
          </p:cNvSpPr>
          <p:nvPr>
            <p:ph type="sldNum" idx="38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42C3-7228-472D-9920-2A858702E21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9" name="PlaceHolder 3"/>
          <p:cNvSpPr>
            <a:spLocks noGrp="1"/>
          </p:cNvSpPr>
          <p:nvPr>
            <p:ph type="dt" idx="38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1664-AC13-4320-AC11-6F634973DE8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PlaceHolder 4"/>
          <p:cNvSpPr>
            <a:spLocks noGrp="1"/>
          </p:cNvSpPr>
          <p:nvPr>
            <p:ph type="ftr" idx="38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PlaceHolder 5"/>
          <p:cNvSpPr>
            <a:spLocks noGrp="1"/>
          </p:cNvSpPr>
          <p:nvPr>
            <p:ph type="sldNum" idx="38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C177-9AA2-4C04-AFE5-C113B5AE78C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0" name="PlaceHolder 3"/>
          <p:cNvSpPr>
            <a:spLocks noGrp="1"/>
          </p:cNvSpPr>
          <p:nvPr>
            <p:ph type="dt" idx="38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7335-0C93-4A1C-A5CC-E3115665DBF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PlaceHolder 4"/>
          <p:cNvSpPr>
            <a:spLocks noGrp="1"/>
          </p:cNvSpPr>
          <p:nvPr>
            <p:ph type="ftr" idx="38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2" name="PlaceHolder 5"/>
          <p:cNvSpPr>
            <a:spLocks noGrp="1"/>
          </p:cNvSpPr>
          <p:nvPr>
            <p:ph type="sldNum" idx="38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BDCE-38FA-4F38-B661-8903B7715B1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3878-AEEC-4523-95FB-93410C0A171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4758-28E3-4297-8E8D-5305993C488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1" name="PlaceHolder 3"/>
          <p:cNvSpPr>
            <a:spLocks noGrp="1"/>
          </p:cNvSpPr>
          <p:nvPr>
            <p:ph type="dt" idx="38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EDB4-2CA4-4F17-A51F-9F205B5DF3A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PlaceHolder 4"/>
          <p:cNvSpPr>
            <a:spLocks noGrp="1"/>
          </p:cNvSpPr>
          <p:nvPr>
            <p:ph type="ftr" idx="38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PlaceHolder 5"/>
          <p:cNvSpPr>
            <a:spLocks noGrp="1"/>
          </p:cNvSpPr>
          <p:nvPr>
            <p:ph type="sldNum" idx="39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02D3-80F5-472B-A862-BE5FDB3A04A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2" name="PlaceHolder 3"/>
          <p:cNvSpPr>
            <a:spLocks noGrp="1"/>
          </p:cNvSpPr>
          <p:nvPr>
            <p:ph type="dt" idx="39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7648-132D-4E3C-A98A-6785D9DB056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PlaceHolder 4"/>
          <p:cNvSpPr>
            <a:spLocks noGrp="1"/>
          </p:cNvSpPr>
          <p:nvPr>
            <p:ph type="ftr" idx="39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PlaceHolder 5"/>
          <p:cNvSpPr>
            <a:spLocks noGrp="1"/>
          </p:cNvSpPr>
          <p:nvPr>
            <p:ph type="sldNum" idx="39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470A-B650-4626-853A-C19748740FD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3" name="PlaceHolder 3"/>
          <p:cNvSpPr>
            <a:spLocks noGrp="1"/>
          </p:cNvSpPr>
          <p:nvPr>
            <p:ph type="dt" idx="39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6C79-B8E2-4A92-955A-AD2226103C6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PlaceHolder 4"/>
          <p:cNvSpPr>
            <a:spLocks noGrp="1"/>
          </p:cNvSpPr>
          <p:nvPr>
            <p:ph type="ftr" idx="39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5" name="PlaceHolder 5"/>
          <p:cNvSpPr>
            <a:spLocks noGrp="1"/>
          </p:cNvSpPr>
          <p:nvPr>
            <p:ph type="sldNum" idx="39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9EB5-665C-460B-AD80-8A92904DE90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4" name="PlaceHolder 3"/>
          <p:cNvSpPr>
            <a:spLocks noGrp="1"/>
          </p:cNvSpPr>
          <p:nvPr>
            <p:ph type="dt" idx="39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A23B-D98C-4412-89F2-4E5B67BAE8C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PlaceHolder 4"/>
          <p:cNvSpPr>
            <a:spLocks noGrp="1"/>
          </p:cNvSpPr>
          <p:nvPr>
            <p:ph type="ftr" idx="39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6" name="PlaceHolder 5"/>
          <p:cNvSpPr>
            <a:spLocks noGrp="1"/>
          </p:cNvSpPr>
          <p:nvPr>
            <p:ph type="sldNum" idx="39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71A9-7337-489D-929C-311FBBE710B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65" r:id="rId2"/>
    <p:sldLayoutId id="2147485366" r:id="rId3"/>
    <p:sldLayoutId id="2147485367" r:id="rId4"/>
    <p:sldLayoutId id="2147485368" r:id="rId5"/>
    <p:sldLayoutId id="2147485369" r:id="rId6"/>
    <p:sldLayoutId id="2147485370" r:id="rId7"/>
    <p:sldLayoutId id="2147485371" r:id="rId8"/>
    <p:sldLayoutId id="2147485372" r:id="rId9"/>
    <p:sldLayoutId id="2147485373" r:id="rId10"/>
    <p:sldLayoutId id="2147485374" r:id="rId11"/>
    <p:sldLayoutId id="2147485375" r:id="rId12"/>
    <p:sldLayoutId id="2147485376" r:id="rId13"/>
  </p:sldLayoutIdLst>
</p:sldMaster>
</file>

<file path=ppt/slideMasters/slideMaster1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5" name="PlaceHolder 3"/>
          <p:cNvSpPr>
            <a:spLocks noGrp="1"/>
          </p:cNvSpPr>
          <p:nvPr>
            <p:ph type="dt" idx="40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6DF9-CD95-44EB-84CE-6A3F6AB0B11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PlaceHolder 4"/>
          <p:cNvSpPr>
            <a:spLocks noGrp="1"/>
          </p:cNvSpPr>
          <p:nvPr>
            <p:ph type="ftr" idx="40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7" name="PlaceHolder 5"/>
          <p:cNvSpPr>
            <a:spLocks noGrp="1"/>
          </p:cNvSpPr>
          <p:nvPr>
            <p:ph type="sldNum" idx="40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37DB-DB10-4FEE-818D-B9F88DBC546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78" r:id="rId2"/>
    <p:sldLayoutId id="2147485379" r:id="rId3"/>
    <p:sldLayoutId id="2147485380" r:id="rId4"/>
    <p:sldLayoutId id="2147485381" r:id="rId5"/>
    <p:sldLayoutId id="2147485382" r:id="rId6"/>
    <p:sldLayoutId id="2147485383" r:id="rId7"/>
    <p:sldLayoutId id="2147485384" r:id="rId8"/>
    <p:sldLayoutId id="2147485385" r:id="rId9"/>
    <p:sldLayoutId id="2147485386" r:id="rId10"/>
    <p:sldLayoutId id="2147485387" r:id="rId11"/>
    <p:sldLayoutId id="2147485388" r:id="rId12"/>
    <p:sldLayoutId id="2147485389" r:id="rId13"/>
  </p:sldLayoutIdLst>
</p:sldMaster>
</file>

<file path=ppt/slideMasters/slideMaster1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6" name="PlaceHolder 3"/>
          <p:cNvSpPr>
            <a:spLocks noGrp="1"/>
          </p:cNvSpPr>
          <p:nvPr>
            <p:ph type="dt" idx="40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DE09-D6BC-4DC5-B374-966BDB3C521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PlaceHolder 4"/>
          <p:cNvSpPr>
            <a:spLocks noGrp="1"/>
          </p:cNvSpPr>
          <p:nvPr>
            <p:ph type="ftr" idx="40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8" name="PlaceHolder 5"/>
          <p:cNvSpPr>
            <a:spLocks noGrp="1"/>
          </p:cNvSpPr>
          <p:nvPr>
            <p:ph type="sldNum" idx="40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DE67-EE57-4F91-8DFB-3178FAB7BD4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91" r:id="rId2"/>
    <p:sldLayoutId id="2147485392" r:id="rId3"/>
    <p:sldLayoutId id="2147485393" r:id="rId4"/>
    <p:sldLayoutId id="2147485394" r:id="rId5"/>
    <p:sldLayoutId id="2147485395" r:id="rId6"/>
    <p:sldLayoutId id="2147485396" r:id="rId7"/>
    <p:sldLayoutId id="2147485397" r:id="rId8"/>
    <p:sldLayoutId id="2147485398" r:id="rId9"/>
    <p:sldLayoutId id="2147485399" r:id="rId10"/>
    <p:sldLayoutId id="2147485400" r:id="rId11"/>
    <p:sldLayoutId id="2147485401" r:id="rId12"/>
    <p:sldLayoutId id="2147485402" r:id="rId13"/>
  </p:sldLayoutIdLst>
</p:sldMaster>
</file>

<file path=ppt/slideMasters/slideMaster1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7" name="PlaceHolder 3"/>
          <p:cNvSpPr>
            <a:spLocks noGrp="1"/>
          </p:cNvSpPr>
          <p:nvPr>
            <p:ph type="dt" idx="40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415B-E18D-4126-8F23-E4ADB8B5B8A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PlaceHolder 4"/>
          <p:cNvSpPr>
            <a:spLocks noGrp="1"/>
          </p:cNvSpPr>
          <p:nvPr>
            <p:ph type="ftr" idx="40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9" name="PlaceHolder 5"/>
          <p:cNvSpPr>
            <a:spLocks noGrp="1"/>
          </p:cNvSpPr>
          <p:nvPr>
            <p:ph type="sldNum" idx="40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B162-19FB-45B3-ACB0-D27F28D6A14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04" r:id="rId2"/>
    <p:sldLayoutId id="2147485405" r:id="rId3"/>
    <p:sldLayoutId id="2147485406" r:id="rId4"/>
    <p:sldLayoutId id="2147485407" r:id="rId5"/>
    <p:sldLayoutId id="2147485408" r:id="rId6"/>
    <p:sldLayoutId id="2147485409" r:id="rId7"/>
    <p:sldLayoutId id="2147485410" r:id="rId8"/>
    <p:sldLayoutId id="2147485411" r:id="rId9"/>
    <p:sldLayoutId id="2147485412" r:id="rId10"/>
    <p:sldLayoutId id="2147485413" r:id="rId11"/>
    <p:sldLayoutId id="2147485414" r:id="rId12"/>
    <p:sldLayoutId id="2147485415" r:id="rId13"/>
  </p:sldLayoutIdLst>
</p:sldMaster>
</file>

<file path=ppt/slideMasters/slideMaster1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8" name="PlaceHolder 3"/>
          <p:cNvSpPr>
            <a:spLocks noGrp="1"/>
          </p:cNvSpPr>
          <p:nvPr>
            <p:ph type="dt" idx="40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2FE8-3E95-4B77-AA3C-0578E3A7E70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PlaceHolder 4"/>
          <p:cNvSpPr>
            <a:spLocks noGrp="1"/>
          </p:cNvSpPr>
          <p:nvPr>
            <p:ph type="ftr" idx="41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0" name="PlaceHolder 5"/>
          <p:cNvSpPr>
            <a:spLocks noGrp="1"/>
          </p:cNvSpPr>
          <p:nvPr>
            <p:ph type="sldNum" idx="4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01E3-0E9F-4B33-AA6F-240C3E203E8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17" r:id="rId2"/>
    <p:sldLayoutId id="2147485418" r:id="rId3"/>
    <p:sldLayoutId id="2147485419" r:id="rId4"/>
    <p:sldLayoutId id="2147485420" r:id="rId5"/>
    <p:sldLayoutId id="2147485421" r:id="rId6"/>
    <p:sldLayoutId id="2147485422" r:id="rId7"/>
    <p:sldLayoutId id="2147485423" r:id="rId8"/>
    <p:sldLayoutId id="2147485424" r:id="rId9"/>
    <p:sldLayoutId id="2147485425" r:id="rId10"/>
    <p:sldLayoutId id="2147485426" r:id="rId11"/>
    <p:sldLayoutId id="2147485427" r:id="rId12"/>
    <p:sldLayoutId id="2147485428" r:id="rId13"/>
  </p:sldLayoutIdLst>
</p:sldMaster>
</file>

<file path=ppt/slideMasters/slideMaster1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9" name="PlaceHolder 3"/>
          <p:cNvSpPr>
            <a:spLocks noGrp="1"/>
          </p:cNvSpPr>
          <p:nvPr>
            <p:ph type="dt" idx="4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2653-8939-4CBF-A719-2BAAD05DA17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PlaceHolder 4"/>
          <p:cNvSpPr>
            <a:spLocks noGrp="1"/>
          </p:cNvSpPr>
          <p:nvPr>
            <p:ph type="ftr" idx="4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1" name="PlaceHolder 5"/>
          <p:cNvSpPr>
            <a:spLocks noGrp="1"/>
          </p:cNvSpPr>
          <p:nvPr>
            <p:ph type="sldNum" idx="4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1EE8-9E49-43AE-A9FB-34ED7B5792A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30" r:id="rId2"/>
    <p:sldLayoutId id="2147485431" r:id="rId3"/>
    <p:sldLayoutId id="2147485432" r:id="rId4"/>
    <p:sldLayoutId id="2147485433" r:id="rId5"/>
    <p:sldLayoutId id="2147485434" r:id="rId6"/>
    <p:sldLayoutId id="2147485435" r:id="rId7"/>
    <p:sldLayoutId id="2147485436" r:id="rId8"/>
    <p:sldLayoutId id="2147485437" r:id="rId9"/>
    <p:sldLayoutId id="2147485438" r:id="rId10"/>
    <p:sldLayoutId id="2147485439" r:id="rId11"/>
    <p:sldLayoutId id="2147485440" r:id="rId12"/>
    <p:sldLayoutId id="2147485441" r:id="rId13"/>
  </p:sldLayoutIdLst>
</p:sldMaster>
</file>

<file path=ppt/slideMasters/slideMaster1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0" name="PlaceHolder 3"/>
          <p:cNvSpPr>
            <a:spLocks noGrp="1"/>
          </p:cNvSpPr>
          <p:nvPr>
            <p:ph type="dt" idx="4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9002-0791-4079-B7D3-A750504D39D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PlaceHolder 4"/>
          <p:cNvSpPr>
            <a:spLocks noGrp="1"/>
          </p:cNvSpPr>
          <p:nvPr>
            <p:ph type="ftr" idx="41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2" name="PlaceHolder 5"/>
          <p:cNvSpPr>
            <a:spLocks noGrp="1"/>
          </p:cNvSpPr>
          <p:nvPr>
            <p:ph type="sldNum" idx="4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EAF4-9475-48A2-819D-0ADEC78C801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43" r:id="rId2"/>
    <p:sldLayoutId id="2147485444" r:id="rId3"/>
    <p:sldLayoutId id="2147485445" r:id="rId4"/>
    <p:sldLayoutId id="2147485446" r:id="rId5"/>
    <p:sldLayoutId id="2147485447" r:id="rId6"/>
    <p:sldLayoutId id="2147485448" r:id="rId7"/>
    <p:sldLayoutId id="2147485449" r:id="rId8"/>
    <p:sldLayoutId id="2147485450" r:id="rId9"/>
    <p:sldLayoutId id="2147485451" r:id="rId10"/>
    <p:sldLayoutId id="2147485452" r:id="rId11"/>
    <p:sldLayoutId id="2147485453" r:id="rId12"/>
    <p:sldLayoutId id="2147485454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2953-244D-46B8-8B48-AC3841024F7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8961-88DC-40BD-BA5A-85E54F7B1C1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1" name="PlaceHolder 3"/>
          <p:cNvSpPr>
            <a:spLocks noGrp="1"/>
          </p:cNvSpPr>
          <p:nvPr>
            <p:ph type="dt" idx="4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A49D-6896-4F11-AEB1-ED28C797261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PlaceHolder 4"/>
          <p:cNvSpPr>
            <a:spLocks noGrp="1"/>
          </p:cNvSpPr>
          <p:nvPr>
            <p:ph type="ftr" idx="41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PlaceHolder 5"/>
          <p:cNvSpPr>
            <a:spLocks noGrp="1"/>
          </p:cNvSpPr>
          <p:nvPr>
            <p:ph type="sldNum" idx="4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05D5-52C8-4449-90EE-FF3EE9C2A9C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56" r:id="rId2"/>
    <p:sldLayoutId id="2147485457" r:id="rId3"/>
    <p:sldLayoutId id="2147485458" r:id="rId4"/>
    <p:sldLayoutId id="2147485459" r:id="rId5"/>
    <p:sldLayoutId id="2147485460" r:id="rId6"/>
    <p:sldLayoutId id="2147485461" r:id="rId7"/>
    <p:sldLayoutId id="2147485462" r:id="rId8"/>
    <p:sldLayoutId id="2147485463" r:id="rId9"/>
    <p:sldLayoutId id="2147485464" r:id="rId10"/>
    <p:sldLayoutId id="2147485465" r:id="rId11"/>
    <p:sldLayoutId id="2147485466" r:id="rId12"/>
    <p:sldLayoutId id="2147485467" r:id="rId13"/>
  </p:sldLayoutIdLst>
</p:sldMaster>
</file>

<file path=ppt/slideMasters/slideMaster1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2" name="PlaceHolder 3"/>
          <p:cNvSpPr>
            <a:spLocks noGrp="1"/>
          </p:cNvSpPr>
          <p:nvPr>
            <p:ph type="dt" idx="42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2FF9-F7AF-484C-99D2-3F47B08A120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PlaceHolder 4"/>
          <p:cNvSpPr>
            <a:spLocks noGrp="1"/>
          </p:cNvSpPr>
          <p:nvPr>
            <p:ph type="ftr" idx="42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PlaceHolder 5"/>
          <p:cNvSpPr>
            <a:spLocks noGrp="1"/>
          </p:cNvSpPr>
          <p:nvPr>
            <p:ph type="sldNum" idx="42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1604-1C5D-4A8E-9856-1F7F5473B7E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69" r:id="rId2"/>
    <p:sldLayoutId id="2147485470" r:id="rId3"/>
    <p:sldLayoutId id="2147485471" r:id="rId4"/>
    <p:sldLayoutId id="2147485472" r:id="rId5"/>
    <p:sldLayoutId id="2147485473" r:id="rId6"/>
    <p:sldLayoutId id="2147485474" r:id="rId7"/>
    <p:sldLayoutId id="2147485475" r:id="rId8"/>
    <p:sldLayoutId id="2147485476" r:id="rId9"/>
    <p:sldLayoutId id="2147485477" r:id="rId10"/>
    <p:sldLayoutId id="2147485478" r:id="rId11"/>
    <p:sldLayoutId id="2147485479" r:id="rId12"/>
    <p:sldLayoutId id="2147485480" r:id="rId13"/>
  </p:sldLayoutIdLst>
</p:sldMaster>
</file>

<file path=ppt/slideMasters/slideMaster1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3" name="PlaceHolder 3"/>
          <p:cNvSpPr>
            <a:spLocks noGrp="1"/>
          </p:cNvSpPr>
          <p:nvPr>
            <p:ph type="dt" idx="42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B875-93F7-4E04-AC2E-49CCB6BA694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PlaceHolder 4"/>
          <p:cNvSpPr>
            <a:spLocks noGrp="1"/>
          </p:cNvSpPr>
          <p:nvPr>
            <p:ph type="ftr" idx="42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5" name="PlaceHolder 5"/>
          <p:cNvSpPr>
            <a:spLocks noGrp="1"/>
          </p:cNvSpPr>
          <p:nvPr>
            <p:ph type="sldNum" idx="42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269B-7AC2-49D4-A541-C69AB6A2CA1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82" r:id="rId2"/>
    <p:sldLayoutId id="2147485483" r:id="rId3"/>
    <p:sldLayoutId id="2147485484" r:id="rId4"/>
    <p:sldLayoutId id="2147485485" r:id="rId5"/>
    <p:sldLayoutId id="2147485486" r:id="rId6"/>
    <p:sldLayoutId id="2147485487" r:id="rId7"/>
    <p:sldLayoutId id="2147485488" r:id="rId8"/>
    <p:sldLayoutId id="2147485489" r:id="rId9"/>
    <p:sldLayoutId id="2147485490" r:id="rId10"/>
    <p:sldLayoutId id="2147485491" r:id="rId11"/>
    <p:sldLayoutId id="2147485492" r:id="rId12"/>
    <p:sldLayoutId id="2147485493" r:id="rId13"/>
  </p:sldLayoutIdLst>
</p:sldMaster>
</file>

<file path=ppt/slideMasters/slideMaster1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4" name="PlaceHolder 3"/>
          <p:cNvSpPr>
            <a:spLocks noGrp="1"/>
          </p:cNvSpPr>
          <p:nvPr>
            <p:ph type="dt" idx="42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D641-1151-4317-BCB4-B60F32106CB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PlaceHolder 4"/>
          <p:cNvSpPr>
            <a:spLocks noGrp="1"/>
          </p:cNvSpPr>
          <p:nvPr>
            <p:ph type="ftr" idx="42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6" name="PlaceHolder 5"/>
          <p:cNvSpPr>
            <a:spLocks noGrp="1"/>
          </p:cNvSpPr>
          <p:nvPr>
            <p:ph type="sldNum" idx="42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13D3-F160-4BBD-90EF-0349234165E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95" r:id="rId2"/>
    <p:sldLayoutId id="2147485496" r:id="rId3"/>
    <p:sldLayoutId id="2147485497" r:id="rId4"/>
    <p:sldLayoutId id="2147485498" r:id="rId5"/>
    <p:sldLayoutId id="2147485499" r:id="rId6"/>
    <p:sldLayoutId id="2147485500" r:id="rId7"/>
    <p:sldLayoutId id="2147485501" r:id="rId8"/>
    <p:sldLayoutId id="2147485502" r:id="rId9"/>
    <p:sldLayoutId id="2147485503" r:id="rId10"/>
    <p:sldLayoutId id="2147485504" r:id="rId11"/>
    <p:sldLayoutId id="2147485505" r:id="rId12"/>
    <p:sldLayoutId id="2147485506" r:id="rId13"/>
  </p:sldLayoutIdLst>
</p:sldMaster>
</file>

<file path=ppt/slideMasters/slideMaster1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5" name="PlaceHolder 3"/>
          <p:cNvSpPr>
            <a:spLocks noGrp="1"/>
          </p:cNvSpPr>
          <p:nvPr>
            <p:ph type="dt" idx="43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EC28-7275-409C-99BF-39F3A47DE5C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PlaceHolder 4"/>
          <p:cNvSpPr>
            <a:spLocks noGrp="1"/>
          </p:cNvSpPr>
          <p:nvPr>
            <p:ph type="ftr" idx="43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7" name="PlaceHolder 5"/>
          <p:cNvSpPr>
            <a:spLocks noGrp="1"/>
          </p:cNvSpPr>
          <p:nvPr>
            <p:ph type="sldNum" idx="43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3BE1-903C-4BA3-BA86-2C3EE6632E7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08" r:id="rId2"/>
    <p:sldLayoutId id="2147485509" r:id="rId3"/>
    <p:sldLayoutId id="2147485510" r:id="rId4"/>
    <p:sldLayoutId id="2147485511" r:id="rId5"/>
    <p:sldLayoutId id="2147485512" r:id="rId6"/>
    <p:sldLayoutId id="2147485513" r:id="rId7"/>
    <p:sldLayoutId id="2147485514" r:id="rId8"/>
    <p:sldLayoutId id="2147485515" r:id="rId9"/>
    <p:sldLayoutId id="2147485516" r:id="rId10"/>
    <p:sldLayoutId id="2147485517" r:id="rId11"/>
    <p:sldLayoutId id="2147485518" r:id="rId12"/>
    <p:sldLayoutId id="2147485519" r:id="rId13"/>
  </p:sldLayoutIdLst>
</p:sldMaster>
</file>

<file path=ppt/slideMasters/slideMaster1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6" name="PlaceHolder 3"/>
          <p:cNvSpPr>
            <a:spLocks noGrp="1"/>
          </p:cNvSpPr>
          <p:nvPr>
            <p:ph type="dt" idx="43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450E-D111-418E-80E0-36AF77F3BD8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PlaceHolder 4"/>
          <p:cNvSpPr>
            <a:spLocks noGrp="1"/>
          </p:cNvSpPr>
          <p:nvPr>
            <p:ph type="ftr" idx="43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8" name="PlaceHolder 5"/>
          <p:cNvSpPr>
            <a:spLocks noGrp="1"/>
          </p:cNvSpPr>
          <p:nvPr>
            <p:ph type="sldNum" idx="43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3ADE-8B01-4245-8A8D-D89094363A9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21" r:id="rId2"/>
    <p:sldLayoutId id="2147485522" r:id="rId3"/>
    <p:sldLayoutId id="2147485523" r:id="rId4"/>
    <p:sldLayoutId id="2147485524" r:id="rId5"/>
    <p:sldLayoutId id="2147485525" r:id="rId6"/>
    <p:sldLayoutId id="2147485526" r:id="rId7"/>
    <p:sldLayoutId id="2147485527" r:id="rId8"/>
    <p:sldLayoutId id="2147485528" r:id="rId9"/>
    <p:sldLayoutId id="2147485529" r:id="rId10"/>
    <p:sldLayoutId id="2147485530" r:id="rId11"/>
    <p:sldLayoutId id="2147485531" r:id="rId12"/>
    <p:sldLayoutId id="2147485532" r:id="rId13"/>
  </p:sldLayoutIdLst>
</p:sldMaster>
</file>

<file path=ppt/slideMasters/slideMaster1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7" name="PlaceHolder 3"/>
          <p:cNvSpPr>
            <a:spLocks noGrp="1"/>
          </p:cNvSpPr>
          <p:nvPr>
            <p:ph type="dt" idx="43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2A90-F0EA-4D87-91F8-9F0454774D8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8" name="PlaceHolder 4"/>
          <p:cNvSpPr>
            <a:spLocks noGrp="1"/>
          </p:cNvSpPr>
          <p:nvPr>
            <p:ph type="ftr" idx="43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9" name="PlaceHolder 5"/>
          <p:cNvSpPr>
            <a:spLocks noGrp="1"/>
          </p:cNvSpPr>
          <p:nvPr>
            <p:ph type="sldNum" idx="43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628C-6961-4EBA-9C75-3FF745753F6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34" r:id="rId2"/>
    <p:sldLayoutId id="2147485535" r:id="rId3"/>
    <p:sldLayoutId id="2147485536" r:id="rId4"/>
    <p:sldLayoutId id="2147485537" r:id="rId5"/>
    <p:sldLayoutId id="2147485538" r:id="rId6"/>
    <p:sldLayoutId id="2147485539" r:id="rId7"/>
    <p:sldLayoutId id="2147485540" r:id="rId8"/>
    <p:sldLayoutId id="2147485541" r:id="rId9"/>
    <p:sldLayoutId id="2147485542" r:id="rId10"/>
    <p:sldLayoutId id="2147485543" r:id="rId11"/>
    <p:sldLayoutId id="2147485544" r:id="rId12"/>
    <p:sldLayoutId id="2147485545" r:id="rId13"/>
  </p:sldLayoutIdLst>
</p:sldMaster>
</file>

<file path=ppt/slideMasters/slideMaster1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8" name="PlaceHolder 3"/>
          <p:cNvSpPr>
            <a:spLocks noGrp="1"/>
          </p:cNvSpPr>
          <p:nvPr>
            <p:ph type="dt" idx="43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F240-F34E-4736-A0B1-AB5CCFAC707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PlaceHolder 4"/>
          <p:cNvSpPr>
            <a:spLocks noGrp="1"/>
          </p:cNvSpPr>
          <p:nvPr>
            <p:ph type="ftr" idx="44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0" name="PlaceHolder 5"/>
          <p:cNvSpPr>
            <a:spLocks noGrp="1"/>
          </p:cNvSpPr>
          <p:nvPr>
            <p:ph type="sldNum" idx="44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E3D0-4C4A-4963-B4E3-A221F67AD4E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47" r:id="rId2"/>
    <p:sldLayoutId id="2147485548" r:id="rId3"/>
    <p:sldLayoutId id="2147485549" r:id="rId4"/>
    <p:sldLayoutId id="2147485550" r:id="rId5"/>
    <p:sldLayoutId id="2147485551" r:id="rId6"/>
    <p:sldLayoutId id="2147485552" r:id="rId7"/>
    <p:sldLayoutId id="2147485553" r:id="rId8"/>
    <p:sldLayoutId id="2147485554" r:id="rId9"/>
    <p:sldLayoutId id="2147485555" r:id="rId10"/>
    <p:sldLayoutId id="2147485556" r:id="rId11"/>
    <p:sldLayoutId id="2147485557" r:id="rId12"/>
    <p:sldLayoutId id="2147485558" r:id="rId13"/>
  </p:sldLayoutIdLst>
</p:sldMaster>
</file>

<file path=ppt/slideMasters/slideMaster1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9" name="PlaceHolder 3"/>
          <p:cNvSpPr>
            <a:spLocks noGrp="1"/>
          </p:cNvSpPr>
          <p:nvPr>
            <p:ph type="dt" idx="44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4381-D39C-4420-8C7B-544ED7467B0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0" name="PlaceHolder 4"/>
          <p:cNvSpPr>
            <a:spLocks noGrp="1"/>
          </p:cNvSpPr>
          <p:nvPr>
            <p:ph type="ftr" idx="44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1" name="PlaceHolder 5"/>
          <p:cNvSpPr>
            <a:spLocks noGrp="1"/>
          </p:cNvSpPr>
          <p:nvPr>
            <p:ph type="sldNum" idx="44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4BCF-A821-4CD8-98AB-F5153D281FF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60" r:id="rId2"/>
    <p:sldLayoutId id="2147485561" r:id="rId3"/>
    <p:sldLayoutId id="2147485562" r:id="rId4"/>
    <p:sldLayoutId id="2147485563" r:id="rId5"/>
    <p:sldLayoutId id="2147485564" r:id="rId6"/>
    <p:sldLayoutId id="2147485565" r:id="rId7"/>
    <p:sldLayoutId id="2147485566" r:id="rId8"/>
    <p:sldLayoutId id="2147485567" r:id="rId9"/>
    <p:sldLayoutId id="2147485568" r:id="rId10"/>
    <p:sldLayoutId id="2147485569" r:id="rId11"/>
    <p:sldLayoutId id="2147485570" r:id="rId12"/>
    <p:sldLayoutId id="2147485571" r:id="rId13"/>
  </p:sldLayoutIdLst>
</p:sldMaster>
</file>

<file path=ppt/slideMasters/slideMaster1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0" name="PlaceHolder 3"/>
          <p:cNvSpPr>
            <a:spLocks noGrp="1"/>
          </p:cNvSpPr>
          <p:nvPr>
            <p:ph type="dt" idx="44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62D8-6ADC-4D0F-8F8E-AC91E584054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1" name="PlaceHolder 4"/>
          <p:cNvSpPr>
            <a:spLocks noGrp="1"/>
          </p:cNvSpPr>
          <p:nvPr>
            <p:ph type="ftr" idx="44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2" name="PlaceHolder 5"/>
          <p:cNvSpPr>
            <a:spLocks noGrp="1"/>
          </p:cNvSpPr>
          <p:nvPr>
            <p:ph type="sldNum" idx="44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61C3-40F4-4554-9190-BECAB770CA6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73" r:id="rId2"/>
    <p:sldLayoutId id="2147485574" r:id="rId3"/>
    <p:sldLayoutId id="2147485575" r:id="rId4"/>
    <p:sldLayoutId id="2147485576" r:id="rId5"/>
    <p:sldLayoutId id="2147485577" r:id="rId6"/>
    <p:sldLayoutId id="2147485578" r:id="rId7"/>
    <p:sldLayoutId id="2147485579" r:id="rId8"/>
    <p:sldLayoutId id="2147485580" r:id="rId9"/>
    <p:sldLayoutId id="2147485581" r:id="rId10"/>
    <p:sldLayoutId id="2147485582" r:id="rId11"/>
    <p:sldLayoutId id="2147485583" r:id="rId12"/>
    <p:sldLayoutId id="2147485584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8B8F-F9C3-4A55-8310-1F19EBF7DB4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64B0-57C5-4593-B11B-C07B9736DFA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1" name="PlaceHolder 3"/>
          <p:cNvSpPr>
            <a:spLocks noGrp="1"/>
          </p:cNvSpPr>
          <p:nvPr>
            <p:ph type="dt" idx="44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E03F-8485-404B-B9C4-D2471472518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2" name="PlaceHolder 4"/>
          <p:cNvSpPr>
            <a:spLocks noGrp="1"/>
          </p:cNvSpPr>
          <p:nvPr>
            <p:ph type="ftr" idx="44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3" name="PlaceHolder 5"/>
          <p:cNvSpPr>
            <a:spLocks noGrp="1"/>
          </p:cNvSpPr>
          <p:nvPr>
            <p:ph type="sldNum" idx="45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9EDC-5CCC-4719-9F38-3DC04C765E3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86" r:id="rId2"/>
    <p:sldLayoutId id="2147485587" r:id="rId3"/>
    <p:sldLayoutId id="2147485588" r:id="rId4"/>
    <p:sldLayoutId id="2147485589" r:id="rId5"/>
    <p:sldLayoutId id="2147485590" r:id="rId6"/>
    <p:sldLayoutId id="2147485591" r:id="rId7"/>
    <p:sldLayoutId id="2147485592" r:id="rId8"/>
    <p:sldLayoutId id="2147485593" r:id="rId9"/>
    <p:sldLayoutId id="2147485594" r:id="rId10"/>
    <p:sldLayoutId id="2147485595" r:id="rId11"/>
    <p:sldLayoutId id="2147485596" r:id="rId12"/>
    <p:sldLayoutId id="2147485597" r:id="rId13"/>
  </p:sldLayoutIdLst>
</p:sldMaster>
</file>

<file path=ppt/slideMasters/slideMaster1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2" name="PlaceHolder 3"/>
          <p:cNvSpPr>
            <a:spLocks noGrp="1"/>
          </p:cNvSpPr>
          <p:nvPr>
            <p:ph type="dt" idx="45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22A9-6C98-4A3A-A3CE-7715FA01BC8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PlaceHolder 4"/>
          <p:cNvSpPr>
            <a:spLocks noGrp="1"/>
          </p:cNvSpPr>
          <p:nvPr>
            <p:ph type="ftr" idx="45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4" name="PlaceHolder 5"/>
          <p:cNvSpPr>
            <a:spLocks noGrp="1"/>
          </p:cNvSpPr>
          <p:nvPr>
            <p:ph type="sldNum" idx="45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4784-41CF-4B8A-A3C8-2CA5399DB78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99" r:id="rId2"/>
    <p:sldLayoutId id="2147485600" r:id="rId3"/>
    <p:sldLayoutId id="2147485601" r:id="rId4"/>
    <p:sldLayoutId id="2147485602" r:id="rId5"/>
    <p:sldLayoutId id="2147485603" r:id="rId6"/>
    <p:sldLayoutId id="2147485604" r:id="rId7"/>
    <p:sldLayoutId id="2147485605" r:id="rId8"/>
    <p:sldLayoutId id="2147485606" r:id="rId9"/>
    <p:sldLayoutId id="2147485607" r:id="rId10"/>
    <p:sldLayoutId id="2147485608" r:id="rId11"/>
    <p:sldLayoutId id="2147485609" r:id="rId12"/>
    <p:sldLayoutId id="2147485610" r:id="rId13"/>
  </p:sldLayoutIdLst>
</p:sldMaster>
</file>

<file path=ppt/slideMasters/slideMaster1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3" name="PlaceHolder 3"/>
          <p:cNvSpPr>
            <a:spLocks noGrp="1"/>
          </p:cNvSpPr>
          <p:nvPr>
            <p:ph type="dt" idx="45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8F6A-B32B-4DCE-BDCF-0FBBEBA2EFD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PlaceHolder 4"/>
          <p:cNvSpPr>
            <a:spLocks noGrp="1"/>
          </p:cNvSpPr>
          <p:nvPr>
            <p:ph type="ftr" idx="45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5" name="PlaceHolder 5"/>
          <p:cNvSpPr>
            <a:spLocks noGrp="1"/>
          </p:cNvSpPr>
          <p:nvPr>
            <p:ph type="sldNum" idx="45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9F06-9BA6-4666-8005-61FBDD49683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12" r:id="rId2"/>
    <p:sldLayoutId id="2147485613" r:id="rId3"/>
    <p:sldLayoutId id="2147485614" r:id="rId4"/>
    <p:sldLayoutId id="2147485615" r:id="rId5"/>
    <p:sldLayoutId id="2147485616" r:id="rId6"/>
    <p:sldLayoutId id="2147485617" r:id="rId7"/>
    <p:sldLayoutId id="2147485618" r:id="rId8"/>
    <p:sldLayoutId id="2147485619" r:id="rId9"/>
    <p:sldLayoutId id="2147485620" r:id="rId10"/>
    <p:sldLayoutId id="2147485621" r:id="rId11"/>
    <p:sldLayoutId id="2147485622" r:id="rId12"/>
    <p:sldLayoutId id="2147485623" r:id="rId13"/>
  </p:sldLayoutIdLst>
</p:sldMaster>
</file>

<file path=ppt/slideMasters/slideMaster1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4" name="PlaceHolder 3"/>
          <p:cNvSpPr>
            <a:spLocks noGrp="1"/>
          </p:cNvSpPr>
          <p:nvPr>
            <p:ph type="dt" idx="45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0C1C-A261-41E8-8FFB-DD5B25ACEB2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5" name="PlaceHolder 4"/>
          <p:cNvSpPr>
            <a:spLocks noGrp="1"/>
          </p:cNvSpPr>
          <p:nvPr>
            <p:ph type="ftr" idx="45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6" name="PlaceHolder 5"/>
          <p:cNvSpPr>
            <a:spLocks noGrp="1"/>
          </p:cNvSpPr>
          <p:nvPr>
            <p:ph type="sldNum" idx="45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3D82-A111-4CF3-BF9C-F50D3E71C1C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25" r:id="rId2"/>
    <p:sldLayoutId id="2147485626" r:id="rId3"/>
    <p:sldLayoutId id="2147485627" r:id="rId4"/>
    <p:sldLayoutId id="2147485628" r:id="rId5"/>
    <p:sldLayoutId id="2147485629" r:id="rId6"/>
    <p:sldLayoutId id="2147485630" r:id="rId7"/>
    <p:sldLayoutId id="2147485631" r:id="rId8"/>
    <p:sldLayoutId id="2147485632" r:id="rId9"/>
    <p:sldLayoutId id="2147485633" r:id="rId10"/>
    <p:sldLayoutId id="2147485634" r:id="rId11"/>
    <p:sldLayoutId id="2147485635" r:id="rId12"/>
    <p:sldLayoutId id="2147485636" r:id="rId13"/>
  </p:sldLayoutIdLst>
</p:sldMaster>
</file>

<file path=ppt/slideMasters/slideMaster1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5" name="PlaceHolder 3"/>
          <p:cNvSpPr>
            <a:spLocks noGrp="1"/>
          </p:cNvSpPr>
          <p:nvPr>
            <p:ph type="dt" idx="46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C11E-7587-4F86-AB6B-668BB00DCA8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6" name="PlaceHolder 4"/>
          <p:cNvSpPr>
            <a:spLocks noGrp="1"/>
          </p:cNvSpPr>
          <p:nvPr>
            <p:ph type="ftr" idx="46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7" name="PlaceHolder 5"/>
          <p:cNvSpPr>
            <a:spLocks noGrp="1"/>
          </p:cNvSpPr>
          <p:nvPr>
            <p:ph type="sldNum" idx="46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9AFE-451A-4458-A457-62142EF50C0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38" r:id="rId2"/>
    <p:sldLayoutId id="2147485639" r:id="rId3"/>
    <p:sldLayoutId id="2147485640" r:id="rId4"/>
    <p:sldLayoutId id="2147485641" r:id="rId5"/>
    <p:sldLayoutId id="2147485642" r:id="rId6"/>
    <p:sldLayoutId id="2147485643" r:id="rId7"/>
    <p:sldLayoutId id="2147485644" r:id="rId8"/>
    <p:sldLayoutId id="2147485645" r:id="rId9"/>
    <p:sldLayoutId id="2147485646" r:id="rId10"/>
    <p:sldLayoutId id="2147485647" r:id="rId11"/>
    <p:sldLayoutId id="2147485648" r:id="rId12"/>
    <p:sldLayoutId id="2147485649" r:id="rId13"/>
  </p:sldLayoutIdLst>
</p:sldMaster>
</file>

<file path=ppt/slideMasters/slideMaster1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6" name="PlaceHolder 3"/>
          <p:cNvSpPr>
            <a:spLocks noGrp="1"/>
          </p:cNvSpPr>
          <p:nvPr>
            <p:ph type="dt" idx="46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921B-0C4D-4F0F-95F5-06D11C67501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7" name="PlaceHolder 4"/>
          <p:cNvSpPr>
            <a:spLocks noGrp="1"/>
          </p:cNvSpPr>
          <p:nvPr>
            <p:ph type="ftr" idx="46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8" name="PlaceHolder 5"/>
          <p:cNvSpPr>
            <a:spLocks noGrp="1"/>
          </p:cNvSpPr>
          <p:nvPr>
            <p:ph type="sldNum" idx="46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3627-091A-4CD6-B0F0-10CA32EFE38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51" r:id="rId2"/>
    <p:sldLayoutId id="2147485652" r:id="rId3"/>
    <p:sldLayoutId id="2147485653" r:id="rId4"/>
    <p:sldLayoutId id="2147485654" r:id="rId5"/>
    <p:sldLayoutId id="2147485655" r:id="rId6"/>
    <p:sldLayoutId id="2147485656" r:id="rId7"/>
    <p:sldLayoutId id="2147485657" r:id="rId8"/>
    <p:sldLayoutId id="2147485658" r:id="rId9"/>
    <p:sldLayoutId id="2147485659" r:id="rId10"/>
    <p:sldLayoutId id="2147485660" r:id="rId11"/>
    <p:sldLayoutId id="2147485661" r:id="rId12"/>
    <p:sldLayoutId id="2147485662" r:id="rId13"/>
  </p:sldLayoutIdLst>
</p:sldMaster>
</file>

<file path=ppt/slideMasters/slideMaster1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7" name="PlaceHolder 3"/>
          <p:cNvSpPr>
            <a:spLocks noGrp="1"/>
          </p:cNvSpPr>
          <p:nvPr>
            <p:ph type="dt" idx="46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BF65-EDB2-4634-A786-B9967314E5A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PlaceHolder 4"/>
          <p:cNvSpPr>
            <a:spLocks noGrp="1"/>
          </p:cNvSpPr>
          <p:nvPr>
            <p:ph type="ftr" idx="46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9" name="PlaceHolder 5"/>
          <p:cNvSpPr>
            <a:spLocks noGrp="1"/>
          </p:cNvSpPr>
          <p:nvPr>
            <p:ph type="sldNum" idx="46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602D-8DDE-434A-8C6F-1606C0F9A17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64" r:id="rId2"/>
    <p:sldLayoutId id="2147485665" r:id="rId3"/>
    <p:sldLayoutId id="2147485666" r:id="rId4"/>
    <p:sldLayoutId id="2147485667" r:id="rId5"/>
    <p:sldLayoutId id="2147485668" r:id="rId6"/>
    <p:sldLayoutId id="2147485669" r:id="rId7"/>
    <p:sldLayoutId id="2147485670" r:id="rId8"/>
    <p:sldLayoutId id="2147485671" r:id="rId9"/>
    <p:sldLayoutId id="2147485672" r:id="rId10"/>
    <p:sldLayoutId id="2147485673" r:id="rId11"/>
    <p:sldLayoutId id="2147485674" r:id="rId12"/>
    <p:sldLayoutId id="2147485675" r:id="rId13"/>
  </p:sldLayoutIdLst>
</p:sldMaster>
</file>

<file path=ppt/slideMasters/slideMaster1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8" name="PlaceHolder 3"/>
          <p:cNvSpPr>
            <a:spLocks noGrp="1"/>
          </p:cNvSpPr>
          <p:nvPr>
            <p:ph type="dt" idx="46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A1CD-BDCA-4462-B72C-9B82C860E51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9" name="PlaceHolder 4"/>
          <p:cNvSpPr>
            <a:spLocks noGrp="1"/>
          </p:cNvSpPr>
          <p:nvPr>
            <p:ph type="ftr" idx="47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0" name="PlaceHolder 5"/>
          <p:cNvSpPr>
            <a:spLocks noGrp="1"/>
          </p:cNvSpPr>
          <p:nvPr>
            <p:ph type="sldNum" idx="47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DB2D-1F5D-44F9-852B-2F360ACCC5A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77" r:id="rId2"/>
    <p:sldLayoutId id="2147485678" r:id="rId3"/>
    <p:sldLayoutId id="2147485679" r:id="rId4"/>
    <p:sldLayoutId id="2147485680" r:id="rId5"/>
    <p:sldLayoutId id="2147485681" r:id="rId6"/>
    <p:sldLayoutId id="2147485682" r:id="rId7"/>
    <p:sldLayoutId id="2147485683" r:id="rId8"/>
    <p:sldLayoutId id="2147485684" r:id="rId9"/>
    <p:sldLayoutId id="2147485685" r:id="rId10"/>
    <p:sldLayoutId id="2147485686" r:id="rId11"/>
    <p:sldLayoutId id="2147485687" r:id="rId12"/>
    <p:sldLayoutId id="2147485688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8AD3-EE30-4313-A65C-29317FD398D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06D7-9DA6-4271-BFA6-CD8396E1E00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08AF-DCA6-41FC-9A60-899AE1785AB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DC2D-4E0E-4E6F-B140-BEE5DD2F1BE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AED9-60A2-48C4-AD96-D4EE656AD59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24C5-AE78-4A06-AF16-48A9CF3D574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B3D2-46E7-42D5-B80C-075B99C9E43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EFEF-F0D6-4B5D-A1E2-45961EF32E5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5650-6DFF-40E7-B9C5-1CE2249DB64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5AFB-AE1B-48F6-9331-4FB255FDF1A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0F11-C29B-4A02-8838-F6E14B4FEAB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5D4A-8942-417D-93CF-C9BAFFCC70A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98D3-BAB3-45A9-9174-87FC0CDC5D9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8F67-82E8-448A-A8AB-19F0AF2ED17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3DDE-73CF-4050-B435-1AF6627E24F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401F-900E-4BAE-8DDD-5D203B51C2D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AA2B-8A76-46C9-A7DC-DA9BB7DBB72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9EAB-7A0F-4275-8DDA-4B459D5CAF2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4221-0FA4-4657-87AA-5579A81AB31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4320-7E2F-4BC7-A79E-3DFEE244C64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F572-1443-429A-B63D-65A065E84B4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BC33-22E6-41D7-9348-76EAD3591AA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19E9-D969-4F78-A525-904147F4520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3C89-6539-4C7B-8101-4EC82B1B358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D839-6A51-4BAB-9D11-23217168E6C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EA26-8F6A-4233-8F22-B07B5E5337E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64CF-B6FD-43F9-B633-FB18C1AD581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A9B1-D50B-45F8-8A6D-0E5D2F288BC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47E4-6225-4C25-A9B9-D95754B2CFD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5257-9D7D-4FC0-8CBD-83DEF30C72B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D561-F19A-4FA4-B6CE-7ACCA3ABE35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E6D0-A596-48A3-9450-096A7B37641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E1EB-277F-4D70-AF6C-620F0B96CF5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3A98-7968-4DA6-9BF2-D5A577C39C6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43C7-F624-41B0-9087-07F7F80B401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7EF0-CE32-4872-B966-4E341D0B94A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09E7-B477-4747-B476-586FDE745B1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D8E2-32B2-494A-9504-9A3AD92FB01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FB13-891E-45E4-8625-B263BA78B7C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9C8C-DAF6-4630-BBD8-890237AAF8E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CEDF-5FBE-4A43-88D0-1C14974DFB4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00AE-AF43-4720-905D-FD5F7FE0F4A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2949-A6F3-496D-96FC-FB410F3D3C4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73FC-9455-47B8-A5C9-E675D5B4ED3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464C-0A2D-4E32-A543-E0C6138C4E3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01DC-3833-406F-ABAC-4DAA68BDC7D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9149-9A6B-4753-89A6-B75B535D7DB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6F45-281F-46B1-B2C6-F1B1E856768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4C3D-8B28-4112-AC6B-464704967B9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6B7D-B90B-46A3-B0F7-109F83A378F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DC35-73C9-4150-AA65-DB54D25CCCE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7ECD-3403-4668-91CE-73563448334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3203-78DC-4243-A7DD-EE0EBA92D84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A616-8D72-4FC3-8426-5901AC74B8E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7811-BE55-4DFB-AE32-DC9D5B0E866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E009-589C-42A0-919B-9C107EC7040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E949-FFCF-48B7-A5F0-F8D151294D9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9D8F-44BF-4EA5-B89B-D76AD8996CF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CB66-6EEB-4C67-B714-4D4853666A0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B3E6-315B-4125-8EF7-FE922D99A2A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13EE-2D16-463B-95DB-13B6BF00684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CE13-1EBF-4E45-9DD0-0A6E0303B78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C5ED-8C86-4963-85BF-E68C08ECD7C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F7B2-BDD7-4FBE-B697-B170BB1DE5A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77A4-7C58-4CE1-AA96-6FD9AF23E4A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4685-D133-4356-9465-AE18DD56370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7141-7047-400D-A6DC-A7692874D77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1B4F-9C60-4E0B-9517-BCA680158F9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AAF8-8308-412D-A01D-7ABA0E4C504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481F-27F7-4D30-9B33-1261EDD6991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BC50-7A90-4675-84D6-C78E25393EC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C5A7-C9F8-4F2B-967C-0536C1EDACB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DA69-BAB2-46A0-AE48-54547CA23C0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9029-C877-486D-9AE6-3BD35C2E115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5EF1-0A95-405C-B7DC-FB73729AD81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B458-967C-465F-AF18-EB9E6010D11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BB0E-EAC4-4329-B96E-56A9BD37A2B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BF28-14BB-4F3C-AB29-30FAF876B61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F6AE-A951-4C38-95BF-0523BBCA732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00E2-084A-418A-B1DE-3682C39AD4C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C42F-F53A-4C65-AC81-88B83818393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E46E-ACE1-43DE-A5D2-4E710FBBF2C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F570-FA3B-41D6-A814-C2EB8425DCD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2A6A-C812-4BF1-8A58-51EDE700816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672F-DABB-43F9-87C9-A674CFDE8A2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7F83-D16C-4C97-98C9-EFF0D210DCA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39A3-7ACE-439B-8F7F-CFE1E215AA6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5F69-F7D8-4018-88D2-229E3C2D679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85F4-09A7-4B68-BD25-EA343D6F804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74F1-F17F-497E-9F20-E2262635E95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2598-37E0-4FB3-A99F-5B7861B1A88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F5A6-FDA2-400E-963F-55EE14945BE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64FE-8E51-4360-9DC1-D7EDC619A87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DA0D-80A3-4979-8689-17B315BF684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5CFA-4A2B-472B-89AD-11659AAE220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935B-EF2B-43F0-85B6-AE1DD5EE913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ABF6-4331-4716-B045-13F73081BF9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A7F6-6EBB-4A0F-BCF2-3D28F5A4D7B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7EA7-DBD6-49AE-9845-B8C84209F24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4FA9-3678-4BCB-AAE7-03A85059523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3DE6-9F4C-4C28-9BE4-4CD2F4DA7B6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8CFE-DF22-4084-9904-3C59CF84241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C5EB-5F03-47F3-A10F-B238BF0FBA1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E309-8976-4081-A64D-7C9331AC15C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EB91-7CE9-4060-AD6D-916438E846F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C64D-3526-4B9B-92DC-E13714935D2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 type="dt" idx="19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EC4F-9FC4-48F6-A067-DD5ACA9EFF3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 type="ftr" idx="19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 type="sldNum" idx="19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C397-B7B3-479F-A986-78AEA0E11EC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 type="dt" idx="19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BBDA-D555-4942-BD2F-FB542BB29DC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 type="ftr" idx="19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 type="sldNum" idx="19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415A-2A87-47AC-9BA9-F8E238EB746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 type="dt" idx="19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B3D0-B286-4701-974E-AF25E15154A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 type="ftr" idx="19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5"/>
          <p:cNvSpPr>
            <a:spLocks noGrp="1"/>
          </p:cNvSpPr>
          <p:nvPr>
            <p:ph type="sldNum" idx="19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ADDA-021C-4DDD-ABE4-ADDD53B0341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9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62EC-D29B-4289-9563-27AC60B86F4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20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20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8C6C-5CD4-4AFD-B8A7-C9995428C81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 type="dt" idx="20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24ED-C5F5-4DAF-A397-B3979CF1828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 type="ftr" idx="20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 type="sldNum" idx="20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CA3E-594B-433B-A103-BF187DACE8C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 type="dt" idx="20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4509-5DE1-4D7D-9064-51DF97AA814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 type="ftr" idx="20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5"/>
          <p:cNvSpPr>
            <a:spLocks noGrp="1"/>
          </p:cNvSpPr>
          <p:nvPr>
            <p:ph type="sldNum" idx="20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C0D2-AB2D-4910-9178-E601688BB1E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CA14-804D-4833-BB0D-901FAE2702C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668C-AD1D-4022-ADF1-FEB854C50CC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 type="dt" idx="20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C7E3-CCAB-4F0B-A798-84387A71383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 type="ftr" idx="20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 type="sldNum" idx="21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2BB4-9C92-4D70-82A8-D703C689558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 type="dt" idx="21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596B-8F43-4650-AC65-F7D7FFD932A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 type="ftr" idx="21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 type="sldNum" idx="21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B139-C503-4D92-9E3B-AC9112A35BD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 type="dt" idx="21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DBCB-F7F0-4DCB-992C-BE09950974C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 type="ftr" idx="21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5"/>
          <p:cNvSpPr>
            <a:spLocks noGrp="1"/>
          </p:cNvSpPr>
          <p:nvPr>
            <p:ph type="sldNum" idx="21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38B9-934B-4908-9034-573AEC50A3A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 type="dt" idx="21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5BC9-CA76-4D76-ABC5-56F5118F42B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 type="ftr" idx="21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5"/>
          <p:cNvSpPr>
            <a:spLocks noGrp="1"/>
          </p:cNvSpPr>
          <p:nvPr>
            <p:ph type="sldNum" idx="21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C208-0815-49B7-B5F3-002F480518E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5" name="PlaceHolder 3"/>
          <p:cNvSpPr>
            <a:spLocks noGrp="1"/>
          </p:cNvSpPr>
          <p:nvPr>
            <p:ph type="dt" idx="22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49A2-24C2-4ADA-87A6-CC11C4124A2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PlaceHolder 4"/>
          <p:cNvSpPr>
            <a:spLocks noGrp="1"/>
          </p:cNvSpPr>
          <p:nvPr>
            <p:ph type="ftr" idx="22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5"/>
          <p:cNvSpPr>
            <a:spLocks noGrp="1"/>
          </p:cNvSpPr>
          <p:nvPr>
            <p:ph type="sldNum" idx="22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F5BC-D1A1-4E72-87A7-3058DCF54B8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 type="dt" idx="22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622D-F4AA-4748-9EE3-EB07B7E3507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PlaceHolder 4"/>
          <p:cNvSpPr>
            <a:spLocks noGrp="1"/>
          </p:cNvSpPr>
          <p:nvPr>
            <p:ph type="ftr" idx="22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PlaceHolder 5"/>
          <p:cNvSpPr>
            <a:spLocks noGrp="1"/>
          </p:cNvSpPr>
          <p:nvPr>
            <p:ph type="sldNum" idx="22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22F1-07B2-4022-909D-459B235AFC1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PlaceHolder 3"/>
          <p:cNvSpPr>
            <a:spLocks noGrp="1"/>
          </p:cNvSpPr>
          <p:nvPr>
            <p:ph type="dt" idx="22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DC97-6FAC-4C00-8BEC-BE214AA0A8D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PlaceHolder 4"/>
          <p:cNvSpPr>
            <a:spLocks noGrp="1"/>
          </p:cNvSpPr>
          <p:nvPr>
            <p:ph type="ftr" idx="22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5"/>
          <p:cNvSpPr>
            <a:spLocks noGrp="1"/>
          </p:cNvSpPr>
          <p:nvPr>
            <p:ph type="sldNum" idx="22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09E4-9E60-4D8E-AE9E-F2C9412F9FA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 type="dt" idx="22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50DF-420B-4090-AF73-5AD091152ED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PlaceHolder 4"/>
          <p:cNvSpPr>
            <a:spLocks noGrp="1"/>
          </p:cNvSpPr>
          <p:nvPr>
            <p:ph type="ftr" idx="23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PlaceHolder 5"/>
          <p:cNvSpPr>
            <a:spLocks noGrp="1"/>
          </p:cNvSpPr>
          <p:nvPr>
            <p:ph type="sldNum" idx="23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8464-074A-46FA-9CF5-7185FDD83DE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9" name="PlaceHolder 3"/>
          <p:cNvSpPr>
            <a:spLocks noGrp="1"/>
          </p:cNvSpPr>
          <p:nvPr>
            <p:ph type="dt" idx="23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CE6B-3D7A-44E2-8646-C78DC2056C8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PlaceHolder 4"/>
          <p:cNvSpPr>
            <a:spLocks noGrp="1"/>
          </p:cNvSpPr>
          <p:nvPr>
            <p:ph type="ftr" idx="23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PlaceHolder 5"/>
          <p:cNvSpPr>
            <a:spLocks noGrp="1"/>
          </p:cNvSpPr>
          <p:nvPr>
            <p:ph type="sldNum" idx="23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12C1-A8DD-4631-B573-6FE39B8DEAB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 type="dt" idx="23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19B6-F204-4AC3-8310-48A7BDB2D32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 type="ftr" idx="23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PlaceHolder 5"/>
          <p:cNvSpPr>
            <a:spLocks noGrp="1"/>
          </p:cNvSpPr>
          <p:nvPr>
            <p:ph type="sldNum" idx="23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27EB-B3E6-4994-975C-8969A17C588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C814-C18B-4621-8A41-722B6F970B5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1AF3-1AF4-43EF-B90E-527EAB1D45F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1" name="PlaceHolder 3"/>
          <p:cNvSpPr>
            <a:spLocks noGrp="1"/>
          </p:cNvSpPr>
          <p:nvPr>
            <p:ph type="dt" idx="23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11A4-5942-4E93-9C50-ECF4A94BFC4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PlaceHolder 4"/>
          <p:cNvSpPr>
            <a:spLocks noGrp="1"/>
          </p:cNvSpPr>
          <p:nvPr>
            <p:ph type="ftr" idx="23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5"/>
          <p:cNvSpPr>
            <a:spLocks noGrp="1"/>
          </p:cNvSpPr>
          <p:nvPr>
            <p:ph type="sldNum" idx="24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D508-2B9D-42FB-BBB9-653349903EA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 type="dt" idx="24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622B-2F65-4BCC-9140-1A17E63A79D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 type="ftr" idx="24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PlaceHolder 5"/>
          <p:cNvSpPr>
            <a:spLocks noGrp="1"/>
          </p:cNvSpPr>
          <p:nvPr>
            <p:ph type="sldNum" idx="24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5891-6115-4E96-9D98-F1D2EF6FBC1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 type="dt" idx="24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775F-1D61-461C-9C54-A152975CF40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PlaceHolder 4"/>
          <p:cNvSpPr>
            <a:spLocks noGrp="1"/>
          </p:cNvSpPr>
          <p:nvPr>
            <p:ph type="ftr" idx="24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PlaceHolder 5"/>
          <p:cNvSpPr>
            <a:spLocks noGrp="1"/>
          </p:cNvSpPr>
          <p:nvPr>
            <p:ph type="sldNum" idx="24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EC5F-A622-401D-B959-DFD414FE397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 type="dt" idx="24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8086-1B21-4830-A0B5-F67588BA216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 type="ftr" idx="24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PlaceHolder 5"/>
          <p:cNvSpPr>
            <a:spLocks noGrp="1"/>
          </p:cNvSpPr>
          <p:nvPr>
            <p:ph type="sldNum" idx="24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7E70-8A91-47B1-B4C1-199ED016452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 type="dt" idx="25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4A13-A649-412C-ACB7-2B129FE96D7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PlaceHolder 4"/>
          <p:cNvSpPr>
            <a:spLocks noGrp="1"/>
          </p:cNvSpPr>
          <p:nvPr>
            <p:ph type="ftr" idx="25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PlaceHolder 5"/>
          <p:cNvSpPr>
            <a:spLocks noGrp="1"/>
          </p:cNvSpPr>
          <p:nvPr>
            <p:ph type="sldNum" idx="25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4BB2-852C-4AFD-B63A-FADA32ED374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 type="dt" idx="25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5C38-1987-44BD-BE9C-873B48A663F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 type="ftr" idx="25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 type="sldNum" idx="25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268F-BCA5-470F-8E0E-8E3FAF8A61A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 type="dt" idx="25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44A9-25AE-4045-B18E-56133761E76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PlaceHolder 4"/>
          <p:cNvSpPr>
            <a:spLocks noGrp="1"/>
          </p:cNvSpPr>
          <p:nvPr>
            <p:ph type="ftr" idx="25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PlaceHolder 5"/>
          <p:cNvSpPr>
            <a:spLocks noGrp="1"/>
          </p:cNvSpPr>
          <p:nvPr>
            <p:ph type="sldNum" idx="25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9C96-4B5A-4CB9-BF8D-A01D957D84D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 type="dt" idx="25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AE26-AF38-4F7D-ABD8-CD6E6B1617F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PlaceHolder 4"/>
          <p:cNvSpPr>
            <a:spLocks noGrp="1"/>
          </p:cNvSpPr>
          <p:nvPr>
            <p:ph type="ftr" idx="26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PlaceHolder 5"/>
          <p:cNvSpPr>
            <a:spLocks noGrp="1"/>
          </p:cNvSpPr>
          <p:nvPr>
            <p:ph type="sldNum" idx="26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325E-7CA9-4043-8482-67C98D43C9C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9" name="PlaceHolder 3"/>
          <p:cNvSpPr>
            <a:spLocks noGrp="1"/>
          </p:cNvSpPr>
          <p:nvPr>
            <p:ph type="dt" idx="26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6DA4-F99B-4437-9AF6-247DDD81DA5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PlaceHolder 4"/>
          <p:cNvSpPr>
            <a:spLocks noGrp="1"/>
          </p:cNvSpPr>
          <p:nvPr>
            <p:ph type="ftr" idx="26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PlaceHolder 5"/>
          <p:cNvSpPr>
            <a:spLocks noGrp="1"/>
          </p:cNvSpPr>
          <p:nvPr>
            <p:ph type="sldNum" idx="26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D896-5512-484C-9B6F-254128E551E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 type="dt" idx="26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E4BB-1D0C-4DD8-A2D9-8E410AD5399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PlaceHolder 4"/>
          <p:cNvSpPr>
            <a:spLocks noGrp="1"/>
          </p:cNvSpPr>
          <p:nvPr>
            <p:ph type="ftr" idx="26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PlaceHolder 5"/>
          <p:cNvSpPr>
            <a:spLocks noGrp="1"/>
          </p:cNvSpPr>
          <p:nvPr>
            <p:ph type="sldNum" idx="26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C0FD-A041-4F88-ACE1-7CC527D0FE6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3F31-AB10-4350-8127-A749835F7A1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D802-43FB-4169-AB2C-A59C8304EA4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 type="dt" idx="26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63B2-87D8-452F-91F3-BF075E0B2A6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 type="ftr" idx="26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PlaceHolder 5"/>
          <p:cNvSpPr>
            <a:spLocks noGrp="1"/>
          </p:cNvSpPr>
          <p:nvPr>
            <p:ph type="sldNum" idx="27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0FE6-D2D3-45B9-964C-1B2FD06F5F2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2" name="PlaceHolder 3"/>
          <p:cNvSpPr>
            <a:spLocks noGrp="1"/>
          </p:cNvSpPr>
          <p:nvPr>
            <p:ph type="dt" idx="27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9787-7B7E-4955-9864-7A227F45CBB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PlaceHolder 4"/>
          <p:cNvSpPr>
            <a:spLocks noGrp="1"/>
          </p:cNvSpPr>
          <p:nvPr>
            <p:ph type="ftr" idx="27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PlaceHolder 5"/>
          <p:cNvSpPr>
            <a:spLocks noGrp="1"/>
          </p:cNvSpPr>
          <p:nvPr>
            <p:ph type="sldNum" idx="27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0379-6909-4A44-B9C3-A5C5FE4EB4B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 type="dt" idx="27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F961-F404-4D75-B358-E4630B8BC8B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 type="ftr" idx="27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PlaceHolder 5"/>
          <p:cNvSpPr>
            <a:spLocks noGrp="1"/>
          </p:cNvSpPr>
          <p:nvPr>
            <p:ph type="sldNum" idx="27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13D1-CD9C-4985-96DA-0CBDFF446DE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 type="dt" idx="27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DE74-80E1-4476-BD6A-5DB391D2996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 type="ftr" idx="27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PlaceHolder 5"/>
          <p:cNvSpPr>
            <a:spLocks noGrp="1"/>
          </p:cNvSpPr>
          <p:nvPr>
            <p:ph type="sldNum" idx="27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11FA-C90F-4FED-A4F7-5F823A4DA5C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 type="dt" idx="28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3B2E-471B-42CD-8978-37AF513A56D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PlaceHolder 4"/>
          <p:cNvSpPr>
            <a:spLocks noGrp="1"/>
          </p:cNvSpPr>
          <p:nvPr>
            <p:ph type="ftr" idx="28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PlaceHolder 5"/>
          <p:cNvSpPr>
            <a:spLocks noGrp="1"/>
          </p:cNvSpPr>
          <p:nvPr>
            <p:ph type="sldNum" idx="28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A4DE-0F65-4925-AC9A-FB61A8A7D80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 type="dt" idx="28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F049-8BC2-46E3-817E-78A80E455EC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PlaceHolder 4"/>
          <p:cNvSpPr>
            <a:spLocks noGrp="1"/>
          </p:cNvSpPr>
          <p:nvPr>
            <p:ph type="ftr" idx="28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PlaceHolder 5"/>
          <p:cNvSpPr>
            <a:spLocks noGrp="1"/>
          </p:cNvSpPr>
          <p:nvPr>
            <p:ph type="sldNum" idx="28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52CE-83B5-456D-A94A-656D3444360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 type="dt" idx="28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135D-EC70-4382-A592-1037CFDAE3B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PlaceHolder 4"/>
          <p:cNvSpPr>
            <a:spLocks noGrp="1"/>
          </p:cNvSpPr>
          <p:nvPr>
            <p:ph type="ftr" idx="28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PlaceHolder 5"/>
          <p:cNvSpPr>
            <a:spLocks noGrp="1"/>
          </p:cNvSpPr>
          <p:nvPr>
            <p:ph type="sldNum" idx="28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DC68-4AE2-430B-A40C-352B3992892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 type="dt" idx="28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CA64-5A09-4E1A-BE59-163FBD574B0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PlaceHolder 4"/>
          <p:cNvSpPr>
            <a:spLocks noGrp="1"/>
          </p:cNvSpPr>
          <p:nvPr>
            <p:ph type="ftr" idx="29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PlaceHolder 5"/>
          <p:cNvSpPr>
            <a:spLocks noGrp="1"/>
          </p:cNvSpPr>
          <p:nvPr>
            <p:ph type="sldNum" idx="29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5949-AA87-44DD-9E12-017E4E81D91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9" name="PlaceHolder 3"/>
          <p:cNvSpPr>
            <a:spLocks noGrp="1"/>
          </p:cNvSpPr>
          <p:nvPr>
            <p:ph type="dt" idx="29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F70D-9D37-43BF-9DF0-72772438AFF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PlaceHolder 4"/>
          <p:cNvSpPr>
            <a:spLocks noGrp="1"/>
          </p:cNvSpPr>
          <p:nvPr>
            <p:ph type="ftr" idx="29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PlaceHolder 5"/>
          <p:cNvSpPr>
            <a:spLocks noGrp="1"/>
          </p:cNvSpPr>
          <p:nvPr>
            <p:ph type="sldNum" idx="29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7573-DF5A-487E-8373-33AC152814E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0" name="PlaceHolder 3"/>
          <p:cNvSpPr>
            <a:spLocks noGrp="1"/>
          </p:cNvSpPr>
          <p:nvPr>
            <p:ph type="dt" idx="29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D1C0-396C-4665-8F66-21C2182FD19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PlaceHolder 4"/>
          <p:cNvSpPr>
            <a:spLocks noGrp="1"/>
          </p:cNvSpPr>
          <p:nvPr>
            <p:ph type="ftr" idx="29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PlaceHolder 5"/>
          <p:cNvSpPr>
            <a:spLocks noGrp="1"/>
          </p:cNvSpPr>
          <p:nvPr>
            <p:ph type="sldNum" idx="29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C943-E001-446E-8E85-C8C0AD28CAA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8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8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7" name="TextBox 1"/>
          <p:cNvSpPr/>
          <p:nvPr/>
        </p:nvSpPr>
        <p:spPr>
          <a:xfrm>
            <a:off x="2088360" y="206280"/>
            <a:ext cx="49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OWER BAN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8" name="图片 1" descr=""/>
          <p:cNvPicPr/>
          <p:nvPr/>
        </p:nvPicPr>
        <p:blipFill>
          <a:blip r:embed="rId1"/>
          <a:stretch/>
        </p:blipFill>
        <p:spPr>
          <a:xfrm>
            <a:off x="2590920" y="2030400"/>
            <a:ext cx="3962160" cy="3173400"/>
          </a:xfrm>
          <a:prstGeom prst="rect">
            <a:avLst/>
          </a:prstGeom>
          <a:ln w="0">
            <a:noFill/>
          </a:ln>
        </p:spPr>
      </p:pic>
      <p:sp>
        <p:nvSpPr>
          <p:cNvPr id="6439" name="TextBox 1"/>
          <p:cNvSpPr/>
          <p:nvPr/>
        </p:nvSpPr>
        <p:spPr>
          <a:xfrm>
            <a:off x="3146040" y="1050840"/>
            <a:ext cx="239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Manual Mod.T113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gnetic wireless Solar Power b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0" name="TextBox 1"/>
          <p:cNvSpPr/>
          <p:nvPr/>
        </p:nvSpPr>
        <p:spPr>
          <a:xfrm>
            <a:off x="2602440" y="5467320"/>
            <a:ext cx="4737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ar charging is only an emergency charging method, and the efficiency of sol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nels is constrained by natural conditions such as day and night, seasons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ographic latitude, altitude, as well as random factors like clear or cloud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ather, rain, etc. Please do not rely on solar energy as the primary means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ing. For everyday use, kindly use the charging cable provided by us a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e the product through the adapt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1" name="图片 1" descr=""/>
          <p:cNvPicPr/>
          <p:nvPr/>
        </p:nvPicPr>
        <p:blipFill>
          <a:blip r:embed="rId1"/>
          <a:stretch/>
        </p:blipFill>
        <p:spPr>
          <a:xfrm>
            <a:off x="2873520" y="1641600"/>
            <a:ext cx="4763880" cy="3749400"/>
          </a:xfrm>
          <a:prstGeom prst="rect">
            <a:avLst/>
          </a:prstGeom>
          <a:ln w="0">
            <a:noFill/>
          </a:ln>
        </p:spPr>
      </p:pic>
      <p:sp>
        <p:nvSpPr>
          <p:cNvPr id="6442" name="文本框 3"/>
          <p:cNvSpPr/>
          <p:nvPr/>
        </p:nvSpPr>
        <p:spPr>
          <a:xfrm>
            <a:off x="222120" y="2830680"/>
            <a:ext cx="8156880" cy="38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7d31"/>
                </a:solidFill>
                <a:latin typeface="Calibri"/>
              </a:rPr>
              <a:t>■ </a:t>
            </a:r>
            <a:r>
              <a:rPr b="0" lang="en-US" sz="1200" spc="-1" strike="noStrike">
                <a:solidFill>
                  <a:srgbClr val="ed7d31"/>
                </a:solidFill>
                <a:latin typeface="Calibri"/>
              </a:rPr>
              <a:t>Product Specif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el No.: T113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attery Type: Rechargeable Lithium-ion Polymer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olar Charging Input:5.5V/100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put(Type-C): 5V⎓2A; 9V⎓2A; 2V⎓1.5A; (PD18W Ma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utput(USB-A): 5V⎓3A; 9V⎓2A; 12V⎓1.5A; 5V⎓4.5A; (SCP22.5W Ma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utput(Type-C): 5V⎓3A; 9V⎓2.22A; 12V⎓1.66A; (PD20W Ma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utput (Wireless charging): 5W; 10W; 15W; (15W Ma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arging Time: About 3-4 hours to fill up (using PD18W char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orking Temperature: 0°C-50°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oduct Size: (L)108×(W)69×(H)22(m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oduct Weight: ≈207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3" name="TextBox 1"/>
          <p:cNvSpPr/>
          <p:nvPr/>
        </p:nvSpPr>
        <p:spPr>
          <a:xfrm>
            <a:off x="368280" y="320760"/>
            <a:ext cx="56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7d31"/>
                </a:solidFill>
                <a:latin typeface="Arial"/>
              </a:rPr>
              <a:t>■ </a:t>
            </a:r>
            <a:r>
              <a:rPr b="0" lang="en-US" sz="1200" spc="-1" strike="noStrike">
                <a:solidFill>
                  <a:srgbClr val="ed7d31"/>
                </a:solidFill>
                <a:latin typeface="Arial"/>
              </a:rPr>
              <a:t>Schemat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(USB-A)                ② Input/Outpu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-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）     ③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D battery capacity indicator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st Charge Indicator      ⑤ Switch button                       ⑥ Wireless discharge area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⑦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ar Pan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4" name="文本框 3"/>
          <p:cNvSpPr/>
          <p:nvPr/>
        </p:nvSpPr>
        <p:spPr>
          <a:xfrm>
            <a:off x="160200" y="2532240"/>
            <a:ext cx="8158320" cy="38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. Store electricity in this mobile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1) Charge the power bank through power adap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oose a regular charging cable, connect the corresponding connector to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rresponding input port of this product, and connect the USB connector to the pow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dapter of your mobile phone. The LED indicator light flashes during charging. After 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arging, the 4 LED power indicator lights are always on. Please stop. Power digital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2) Charge the power bank through sunl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ut the power bank's solar panel under the sunlight's vertical irradiation or sunn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nvironment (Avoid high temperature, battery may damaged under high temperatu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dition), the power bank will charge itself by absorbing the sunlight, the solar charg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dicator become green at this moment, that means the power banks is being charged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unl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5" name="TextBox 1"/>
          <p:cNvSpPr/>
          <p:nvPr/>
        </p:nvSpPr>
        <p:spPr>
          <a:xfrm>
            <a:off x="205560" y="320760"/>
            <a:ext cx="505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7d31"/>
                </a:solidFill>
                <a:latin typeface="Arial"/>
              </a:rPr>
              <a:t>■  </a:t>
            </a:r>
            <a:r>
              <a:rPr b="0" lang="en-US" sz="1200" spc="-1" strike="noStrike">
                <a:solidFill>
                  <a:srgbClr val="ed7d31"/>
                </a:solidFill>
                <a:latin typeface="Arial"/>
              </a:rPr>
              <a:t>Instructions for us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 A single short press of the switch displays the remaining power of the mobi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wer supp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4 LED power indicators respectively indicate the battery capacity status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6" name="TextBox 1"/>
          <p:cNvSpPr/>
          <p:nvPr/>
        </p:nvSpPr>
        <p:spPr>
          <a:xfrm>
            <a:off x="5182920" y="4322880"/>
            <a:ext cx="39481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⚠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cau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you find any undesirable phenomena such as bulging 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akage of the product during use, please stop using it immediate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7" name="图片 1" descr=""/>
          <p:cNvPicPr/>
          <p:nvPr/>
        </p:nvPicPr>
        <p:blipFill>
          <a:blip r:embed="rId1"/>
          <a:stretch/>
        </p:blipFill>
        <p:spPr>
          <a:xfrm>
            <a:off x="195120" y="1171440"/>
            <a:ext cx="4270680" cy="1486080"/>
          </a:xfrm>
          <a:prstGeom prst="rect">
            <a:avLst/>
          </a:prstGeom>
          <a:ln w="0">
            <a:noFill/>
          </a:ln>
        </p:spPr>
      </p:pic>
      <p:pic>
        <p:nvPicPr>
          <p:cNvPr id="6448" name="图片 2" descr=""/>
          <p:cNvPicPr/>
          <p:nvPr/>
        </p:nvPicPr>
        <p:blipFill>
          <a:blip r:embed="rId2"/>
          <a:stretch/>
        </p:blipFill>
        <p:spPr>
          <a:xfrm>
            <a:off x="5273640" y="5045040"/>
            <a:ext cx="360684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9" name="TextBox 1"/>
          <p:cNvSpPr/>
          <p:nvPr/>
        </p:nvSpPr>
        <p:spPr>
          <a:xfrm>
            <a:off x="212400" y="320760"/>
            <a:ext cx="531972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 This mobile power supply charges digital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 whether the charging voltage of digital products matches the output voltage of th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power supp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Power supply for mobile phones, tablets and other digital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e built-in cable or output port of this mobile power supply to charge digital product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ED indicator light will light up. When the digital products are fully charged, please sto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ying power to the digital devi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0" name="图片 1" descr=""/>
          <p:cNvPicPr/>
          <p:nvPr/>
        </p:nvPicPr>
        <p:blipFill>
          <a:blip r:embed="rId1"/>
          <a:stretch/>
        </p:blipFill>
        <p:spPr>
          <a:xfrm>
            <a:off x="501480" y="2209680"/>
            <a:ext cx="523908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1" name="TextBox 1"/>
          <p:cNvSpPr/>
          <p:nvPr/>
        </p:nvSpPr>
        <p:spPr>
          <a:xfrm>
            <a:off x="195120" y="320760"/>
            <a:ext cx="7240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) Power supply for wirelessly charged digital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ly place the digital product that supports wireless charging in the magnetic wirel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ing area, and fit it closely with the digital product to automatically enter the charg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. When the digital product is fully charged, please stop powering the digital devi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2" name="TextBox 1"/>
          <p:cNvSpPr/>
          <p:nvPr/>
        </p:nvSpPr>
        <p:spPr>
          <a:xfrm>
            <a:off x="279360" y="3240000"/>
            <a:ext cx="598968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d7d31"/>
                </a:solidFill>
                <a:latin typeface="Arial"/>
              </a:rPr>
              <a:t>⚠ </a:t>
            </a:r>
            <a:r>
              <a:rPr b="1" lang="en-US" sz="1000" spc="-1" strike="noStrike">
                <a:solidFill>
                  <a:srgbClr val="ed7d31"/>
                </a:solidFill>
                <a:latin typeface="Arial"/>
              </a:rPr>
              <a:t>No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wireless charger is not compatible with non-Magsafe phone cases, such as Otterb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ender phone ca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not use adapters with outputs below 5V/1A (5W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ing wireless chargers to charge is more convenient than using wired chargers, but 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mited by current wireless technology. Therefore, charging speed is slower than wi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temperature will reduce the charging speed and limit the power. This is a proble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 occurs with all wireless chargers. It is recommended to charge the device in 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vironment with a temperature below 25℃/77℉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position of the mobile phone protective case and the device on the wireless char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l affect the charging speed. The further away from the center of the wireless charger,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ower the charging spe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3" name="图片 1" descr=""/>
          <p:cNvPicPr/>
          <p:nvPr/>
        </p:nvPicPr>
        <p:blipFill>
          <a:blip r:embed="rId1"/>
          <a:stretch/>
        </p:blipFill>
        <p:spPr>
          <a:xfrm>
            <a:off x="449280" y="1027080"/>
            <a:ext cx="4017960" cy="2127240"/>
          </a:xfrm>
          <a:prstGeom prst="rect">
            <a:avLst/>
          </a:prstGeom>
          <a:ln w="0">
            <a:noFill/>
          </a:ln>
        </p:spPr>
      </p:pic>
      <p:sp>
        <p:nvSpPr>
          <p:cNvPr id="6454" name="TextBox 1"/>
          <p:cNvSpPr/>
          <p:nvPr/>
        </p:nvSpPr>
        <p:spPr>
          <a:xfrm>
            <a:off x="279360" y="5457960"/>
            <a:ext cx="59896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d7d31"/>
                </a:solidFill>
                <a:latin typeface="Arial"/>
              </a:rPr>
              <a:t>⚠ </a:t>
            </a:r>
            <a:r>
              <a:rPr b="1" lang="en-US" sz="1000" spc="-1" strike="noStrike">
                <a:solidFill>
                  <a:srgbClr val="ed7d31"/>
                </a:solidFill>
                <a:latin typeface="Arial"/>
              </a:rPr>
              <a:t>Notic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the power of this mobile power supply is too low, the battery indicator light flash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the power output is disabl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5" name="TextBox 1"/>
          <p:cNvSpPr/>
          <p:nvPr/>
        </p:nvSpPr>
        <p:spPr>
          <a:xfrm>
            <a:off x="195120" y="320760"/>
            <a:ext cx="6696360" cy="41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7d31"/>
                </a:solidFill>
                <a:latin typeface="Arial"/>
              </a:rPr>
              <a:t>■ </a:t>
            </a:r>
            <a:r>
              <a:rPr b="0" lang="en-US" sz="1200" spc="-1" strike="noStrike">
                <a:solidFill>
                  <a:srgbClr val="ed7d31"/>
                </a:solidFill>
                <a:latin typeface="Arial"/>
              </a:rPr>
              <a:t>Important safety instructions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using this product, it is important to take basic precautions, includ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this product in a cool and dry pla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not store this product in a high temperature or humid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ing a power supply or charger not recommended or sold by the manufacturer of th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may result in a risk of fire or personal inju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ng temperature should be between 32 to 104°F (0 to 40°C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not disassemble the product. If this product requires service or repair, please s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fied repair personnel. Improper reassembly may result in risk of fire or pers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ju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his product is not used for a long time, it should be charged and discharged eve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e month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product may generate heat while charging. This is normal and nothing to wor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er normal operating conditions, battery performance will gradually decline ov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ral yea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not expose the product to fire or high tempera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not use harmful chemicals or detergents to clean this produ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roper use, dropping or excessive force may cause damage to this produ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disposing of used batteries, please separate batteries with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ochemical system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note that a discharged battery may cause fire or smok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ution: There is a risk of explosion if the battery is replaced with the wrong typ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rning: Batteries (battery pack or installed) must not be exposed to excessive hea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h as sunlight or fi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attery may explode or leak flammable liquid or gas under extremely low press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6" name="TextBox 1"/>
          <p:cNvSpPr/>
          <p:nvPr/>
        </p:nvSpPr>
        <p:spPr>
          <a:xfrm>
            <a:off x="279360" y="4665600"/>
            <a:ext cx="59896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d7d31"/>
                </a:solidFill>
                <a:latin typeface="Arial"/>
              </a:rPr>
              <a:t>⚠ </a:t>
            </a:r>
            <a:r>
              <a:rPr b="1" lang="en-US" sz="1000" spc="-1" strike="noStrike">
                <a:solidFill>
                  <a:srgbClr val="ed7d31"/>
                </a:solidFill>
                <a:latin typeface="Arial"/>
              </a:rPr>
              <a:t>Warn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is product in accordance with the enclosed instructions. Ignoring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ructions may cause the product to catch fire or other damage. Keep th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out of the reach of childr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7" name="矩形 1"/>
          <p:cNvSpPr/>
          <p:nvPr/>
        </p:nvSpPr>
        <p:spPr>
          <a:xfrm>
            <a:off x="378000" y="5398920"/>
            <a:ext cx="4603680" cy="1374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8" name="图片 3" descr=""/>
          <p:cNvPicPr/>
          <p:nvPr/>
        </p:nvPicPr>
        <p:blipFill>
          <a:blip r:embed="rId1"/>
          <a:stretch/>
        </p:blipFill>
        <p:spPr>
          <a:xfrm>
            <a:off x="495360" y="5511960"/>
            <a:ext cx="660240" cy="811080"/>
          </a:xfrm>
          <a:prstGeom prst="rect">
            <a:avLst/>
          </a:prstGeom>
          <a:ln w="0">
            <a:noFill/>
          </a:ln>
        </p:spPr>
      </p:pic>
      <p:sp>
        <p:nvSpPr>
          <p:cNvPr id="6459" name="文本框 4"/>
          <p:cNvSpPr/>
          <p:nvPr/>
        </p:nvSpPr>
        <p:spPr>
          <a:xfrm>
            <a:off x="1378080" y="5572080"/>
            <a:ext cx="35082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ymbol means that the product must not be dispo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as domestic waste, and should be handed over to 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ropriate collection center for recycl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er disposal and recycling help protect natu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ources, human health and the environment. Cont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0" name="文本框 5"/>
          <p:cNvSpPr/>
          <p:nvPr/>
        </p:nvSpPr>
        <p:spPr>
          <a:xfrm>
            <a:off x="378000" y="6375240"/>
            <a:ext cx="4508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municipality for more information on how to dispose of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ycle this produ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5T08:02:00Z</dcterms:created>
  <dc:creator/>
  <dc:description/>
  <dc:language>en-US</dc:language>
  <cp:lastModifiedBy>LENOVO</cp:lastModifiedBy>
  <dcterms:modified xsi:type="dcterms:W3CDTF">2024-07-09T10:54:53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0B22E99353D4A72A54DA234F32AC15E_12</vt:lpwstr>
  </property>
  <property fmtid="{D5CDD505-2E9C-101B-9397-08002B2CF9AE}" pid="3" name="KSOProductBuildVer">
    <vt:lpwstr>2052-12.1.0.17147</vt:lpwstr>
  </property>
</Properties>
</file>